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gif" ContentType="image/gif"/>
  <Override PartName="/ppt/media/image3.jpeg" ContentType="image/jpeg"/>
  <Override PartName="/ppt/media/image4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27995-7B7D-4E48-B4C9-0D811D3CA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742840" y="533160"/>
            <a:ext cx="5715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fcfd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22093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fcfd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066680" y="408024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fcfd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4CFB2-5A81-483E-A880-FDA6E7536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742840" y="533160"/>
            <a:ext cx="5715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fcfd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680" y="22093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fcfd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9360" y="22093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fcfd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6680" y="40802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fcfd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49360" y="40802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fcfd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09B85-9A7A-40B0-9667-F0A71B77E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742840" y="533160"/>
            <a:ext cx="5715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fcfd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2093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fcfd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94680" y="22093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fcfd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22320" y="22093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fcfd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066680" y="40802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fcfd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94680" y="40802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fcfd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22320" y="40802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fcfd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87B04-CA14-41A1-9667-8D7BC6B15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AFB5F-2053-4112-9F9A-5DF2B02FB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742840" y="533160"/>
            <a:ext cx="5715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fcfd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66680" y="22093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fcfd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033BE-DA97-4056-A153-C9C9BA7F6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742840" y="533160"/>
            <a:ext cx="5715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fcfd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66680" y="22093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fcfd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67F6E-8A44-485E-A3A0-10534E921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742840" y="533160"/>
            <a:ext cx="5715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fcfd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66680" y="22093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fcfd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49360" y="22093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fcfd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1AC14-3E0A-4095-A773-8EB8F44DE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42840" y="533160"/>
            <a:ext cx="5715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fcfd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53EC7-F24F-46A0-A97F-522D4BF7C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742840" y="533160"/>
            <a:ext cx="5715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fcfd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B9745-9AE5-432E-B387-CF5ED7546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742840" y="533160"/>
            <a:ext cx="5715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fcfd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2093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fcfd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49360" y="22093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fcfd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66680" y="40802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fcfd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114AB-BC8A-469E-A96E-2E742FAFF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742840" y="533160"/>
            <a:ext cx="5715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fcfd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066680" y="22093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fcfd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BF88C-A16B-40D6-82AF-609F96364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742840" y="533160"/>
            <a:ext cx="5715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fcfd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66680" y="22093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fcfd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49360" y="22093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fcfd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049360" y="40802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fcfd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6F795-5D31-4363-B9C3-AAC7DDE13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742840" y="533160"/>
            <a:ext cx="5715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fcfd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2093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fcfd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2093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fcfd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08024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fcfd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50B85-82AB-4603-8922-9AE536906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742840" y="533160"/>
            <a:ext cx="5715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fcfd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2093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fcfd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66680" y="408024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fcfd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90655-945D-4D32-9D7D-B93A56214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42840" y="533160"/>
            <a:ext cx="5715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fcfd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2093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fcfd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2093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fcfd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0802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fcfd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049360" y="40802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fcfd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D3674-2CDE-482A-8B20-8E41DB65F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742840" y="533160"/>
            <a:ext cx="5715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fcfd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2093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fcfd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694680" y="22093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fcfd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322320" y="22093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fcfd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66680" y="40802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fcfdf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694680" y="40802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fcfdf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322320" y="40802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fcfd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4A2F6-4E37-4C50-A1F0-AF186A58D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42840" y="533160"/>
            <a:ext cx="5715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fcfd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066680" y="22093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fcfd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42509-5201-46B3-BDF0-073D02094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742840" y="533160"/>
            <a:ext cx="5715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fcfd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680" y="22093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fcfd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49360" y="22093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fcfd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55247-2204-443D-9334-B9C4B5950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742840" y="533160"/>
            <a:ext cx="5715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fcfd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060A8-9ED5-4880-B410-8C3615AD1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742840" y="533160"/>
            <a:ext cx="5715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fcfd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30B3A-F055-44CC-B98B-4CA3F035E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533160"/>
            <a:ext cx="5715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fcfd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2093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fcfd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2093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fcfd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066680" y="40802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fcfd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EE857-C81C-49F2-B2C9-EB64CE0D6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533160"/>
            <a:ext cx="5715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fcfd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66680" y="22093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fcfd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49360" y="22093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fcfd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49360" y="40802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fcfd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9DCE5-36D5-419B-8526-31AB6EEDD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742840" y="533160"/>
            <a:ext cx="5715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fcfd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22093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fcfd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22093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fcfd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408024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fcfd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FCB0B-0165-4A00-9FD7-DDF445DB1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42840" y="533160"/>
            <a:ext cx="5715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fcfd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fcfd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680" y="22093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efcfd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fcfd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fcfdf"/>
              </a:solidFill>
              <a:latin typeface="Arial"/>
            </a:endParaRPr>
          </a:p>
          <a:p>
            <a:pPr lvl="1" marL="639000" indent="-245520">
              <a:spcBef>
                <a:spcPts val="799"/>
              </a:spcBef>
              <a:buClr>
                <a:srgbClr val="efcfd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fcfd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fcfdf"/>
              </a:solidFill>
              <a:latin typeface="Arial"/>
            </a:endParaRPr>
          </a:p>
          <a:p>
            <a:pPr lvl="2" marL="982800" indent="-196560">
              <a:spcBef>
                <a:spcPts val="799"/>
              </a:spcBef>
              <a:buClr>
                <a:srgbClr val="efcfd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fcfd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fcfdf"/>
              </a:solidFill>
              <a:latin typeface="Arial"/>
            </a:endParaRPr>
          </a:p>
          <a:p>
            <a:pPr lvl="3" marL="1375920" indent="-196560">
              <a:spcBef>
                <a:spcPts val="799"/>
              </a:spcBef>
              <a:buClr>
                <a:srgbClr val="efcfd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fcfd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fcfdf"/>
              </a:solidFill>
              <a:latin typeface="Arial"/>
            </a:endParaRPr>
          </a:p>
          <a:p>
            <a:pPr lvl="4" marL="1769040" indent="-196560">
              <a:spcBef>
                <a:spcPts val="799"/>
              </a:spcBef>
              <a:buClr>
                <a:srgbClr val="efcfd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fcfd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fcfdf"/>
              </a:solidFill>
              <a:latin typeface="Arial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fcfd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fcfdf"/>
              </a:solidFill>
              <a:latin typeface="Arial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fcfd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fcfd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fcfd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30A05-B2F8-4173-BE49-4D46B85F09B3}" type="slidenum">
              <a:rPr b="0" lang="en-US" sz="1400" spc="-1" strike="noStrike">
                <a:solidFill>
                  <a:srgbClr val="efcfd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ormatShape" hidden="1"/>
          <p:cNvSpPr/>
          <p:nvPr/>
        </p:nvSpPr>
        <p:spPr>
          <a:xfrm>
            <a:off x="-1333440" y="1701720"/>
            <a:ext cx="1181160" cy="825480"/>
          </a:xfrm>
          <a:prstGeom prst="rect">
            <a:avLst/>
          </a:prstGeom>
          <a:noFill/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742840" y="533160"/>
            <a:ext cx="5715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fcfd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fcfd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66680" y="22093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efcfd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fcfd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fcfdf"/>
              </a:solidFill>
              <a:latin typeface="Arial"/>
            </a:endParaRPr>
          </a:p>
          <a:p>
            <a:pPr lvl="1" marL="639000" indent="-245520">
              <a:spcBef>
                <a:spcPts val="799"/>
              </a:spcBef>
              <a:buClr>
                <a:srgbClr val="efcfd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fcfd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fcfdf"/>
              </a:solidFill>
              <a:latin typeface="Arial"/>
            </a:endParaRPr>
          </a:p>
          <a:p>
            <a:pPr lvl="2" marL="982800" indent="-196560">
              <a:spcBef>
                <a:spcPts val="799"/>
              </a:spcBef>
              <a:buClr>
                <a:srgbClr val="efcfd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fcfd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fcfdf"/>
              </a:solidFill>
              <a:latin typeface="Arial"/>
            </a:endParaRPr>
          </a:p>
          <a:p>
            <a:pPr lvl="3" marL="1375920" indent="-196560">
              <a:spcBef>
                <a:spcPts val="799"/>
              </a:spcBef>
              <a:buClr>
                <a:srgbClr val="efcfd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fcfd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fcfdf"/>
              </a:solidFill>
              <a:latin typeface="Arial"/>
            </a:endParaRPr>
          </a:p>
          <a:p>
            <a:pPr lvl="4" marL="1769040" indent="-196560">
              <a:spcBef>
                <a:spcPts val="799"/>
              </a:spcBef>
              <a:buClr>
                <a:srgbClr val="efcfd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fcfd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fcfdf"/>
              </a:solidFill>
              <a:latin typeface="Arial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fcfd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fcfdf"/>
              </a:solidFill>
              <a:latin typeface="Arial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fcfd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fcfd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7C956-0AFE-4269-9A8B-C89B18A388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663200" y="4332240"/>
            <a:ext cx="5861160" cy="68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6000" spc="-1" strike="noStrike">
                <a:solidFill>
                  <a:srgbClr val="ff00ff"/>
                </a:solidFill>
                <a:latin typeface="ALFABET98"/>
              </a:rPr>
              <a:t>HİKMET SIRMA</a:t>
            </a:r>
            <a:endParaRPr b="0" lang="en-US" sz="6000" spc="-1" strike="noStrike">
              <a:solidFill>
                <a:srgbClr val="efcfdf"/>
              </a:solidFill>
              <a:latin typeface="Arial"/>
            </a:endParaRPr>
          </a:p>
        </p:txBody>
      </p:sp>
      <p:pic>
        <p:nvPicPr>
          <p:cNvPr id="84" name="Picture 6" descr="aback62"/>
          <p:cNvPicPr/>
          <p:nvPr/>
        </p:nvPicPr>
        <p:blipFill>
          <a:blip r:embed="rId1"/>
          <a:stretch/>
        </p:blipFill>
        <p:spPr>
          <a:xfrm>
            <a:off x="1692360" y="5157720"/>
            <a:ext cx="5832360" cy="8636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7" descr="aback62"/>
          <p:cNvPicPr/>
          <p:nvPr/>
        </p:nvPicPr>
        <p:blipFill>
          <a:blip r:embed="rId2"/>
          <a:stretch/>
        </p:blipFill>
        <p:spPr>
          <a:xfrm>
            <a:off x="1692360" y="3502080"/>
            <a:ext cx="5832360" cy="86364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8"/>
          <p:cNvSpPr/>
          <p:nvPr/>
        </p:nvSpPr>
        <p:spPr>
          <a:xfrm>
            <a:off x="3357720" y="642960"/>
            <a:ext cx="2643120" cy="2786040"/>
          </a:xfrm>
          <a:prstGeom prst="rect">
            <a:avLst/>
          </a:prstGeom>
          <a:blipFill rotWithShape="0">
            <a:blip r:embed="rId3"/>
            <a:srcRect/>
            <a:stretch/>
          </a:blipFill>
          <a:ln w="7632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ubTitle"/>
          </p:nvPr>
        </p:nvSpPr>
        <p:spPr>
          <a:xfrm>
            <a:off x="755640" y="4797000"/>
            <a:ext cx="50328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00"/>
                </a:solidFill>
                <a:latin typeface="Arial"/>
              </a:rPr>
              <a:t>0</a:t>
            </a:r>
            <a:endParaRPr b="0" lang="en-US" sz="4400" spc="-1" strike="noStrike">
              <a:solidFill>
                <a:srgbClr val="efcfdf"/>
              </a:solidFill>
              <a:latin typeface="Arial"/>
            </a:endParaRPr>
          </a:p>
        </p:txBody>
      </p:sp>
      <p:sp>
        <p:nvSpPr>
          <p:cNvPr id="397" name="Line 3"/>
          <p:cNvSpPr/>
          <p:nvPr/>
        </p:nvSpPr>
        <p:spPr>
          <a:xfrm>
            <a:off x="395280" y="4508640"/>
            <a:ext cx="8424720" cy="0"/>
          </a:xfrm>
          <a:prstGeom prst="line">
            <a:avLst/>
          </a:prstGeom>
          <a:ln w="193680">
            <a:solidFill>
              <a:srgbClr val="ffff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Oval 4"/>
          <p:cNvSpPr/>
          <p:nvPr/>
        </p:nvSpPr>
        <p:spPr>
          <a:xfrm>
            <a:off x="900000" y="4437000"/>
            <a:ext cx="217440" cy="193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Oval 5"/>
          <p:cNvSpPr/>
          <p:nvPr/>
        </p:nvSpPr>
        <p:spPr>
          <a:xfrm>
            <a:off x="1617840" y="4437000"/>
            <a:ext cx="217440" cy="193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Oval 6"/>
          <p:cNvSpPr/>
          <p:nvPr/>
        </p:nvSpPr>
        <p:spPr>
          <a:xfrm>
            <a:off x="2409840" y="4437000"/>
            <a:ext cx="217440" cy="193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Oval 7"/>
          <p:cNvSpPr/>
          <p:nvPr/>
        </p:nvSpPr>
        <p:spPr>
          <a:xfrm>
            <a:off x="3201840" y="4437000"/>
            <a:ext cx="217800" cy="193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Oval 8"/>
          <p:cNvSpPr/>
          <p:nvPr/>
        </p:nvSpPr>
        <p:spPr>
          <a:xfrm>
            <a:off x="3922560" y="4437000"/>
            <a:ext cx="217800" cy="193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Oval 9"/>
          <p:cNvSpPr/>
          <p:nvPr/>
        </p:nvSpPr>
        <p:spPr>
          <a:xfrm>
            <a:off x="4714920" y="4437000"/>
            <a:ext cx="217440" cy="193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Oval 10"/>
          <p:cNvSpPr/>
          <p:nvPr/>
        </p:nvSpPr>
        <p:spPr>
          <a:xfrm>
            <a:off x="5506920" y="4437000"/>
            <a:ext cx="217440" cy="193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Oval 11"/>
          <p:cNvSpPr/>
          <p:nvPr/>
        </p:nvSpPr>
        <p:spPr>
          <a:xfrm>
            <a:off x="6370560" y="4437000"/>
            <a:ext cx="217440" cy="193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Oval 12"/>
          <p:cNvSpPr/>
          <p:nvPr/>
        </p:nvSpPr>
        <p:spPr>
          <a:xfrm>
            <a:off x="7162920" y="4437000"/>
            <a:ext cx="217440" cy="193680"/>
          </a:xfrm>
          <a:prstGeom prst="ellipse">
            <a:avLst/>
          </a:prstGeom>
          <a:solidFill>
            <a:srgbClr val="000000">
              <a:alpha val="9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Oval 13"/>
          <p:cNvSpPr/>
          <p:nvPr/>
        </p:nvSpPr>
        <p:spPr>
          <a:xfrm>
            <a:off x="8026560" y="4437000"/>
            <a:ext cx="217440" cy="193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14"/>
          <p:cNvSpPr/>
          <p:nvPr/>
        </p:nvSpPr>
        <p:spPr>
          <a:xfrm>
            <a:off x="1476360" y="4797360"/>
            <a:ext cx="503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00"/>
                </a:solidFill>
                <a:latin typeface="Arial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tangle 15"/>
          <p:cNvSpPr/>
          <p:nvPr/>
        </p:nvSpPr>
        <p:spPr>
          <a:xfrm>
            <a:off x="2268360" y="4797360"/>
            <a:ext cx="503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00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Rectangle 16"/>
          <p:cNvSpPr/>
          <p:nvPr/>
        </p:nvSpPr>
        <p:spPr>
          <a:xfrm>
            <a:off x="3060720" y="4797360"/>
            <a:ext cx="503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00"/>
                </a:solidFill>
                <a:latin typeface="Arial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Rectangle 17"/>
          <p:cNvSpPr/>
          <p:nvPr/>
        </p:nvSpPr>
        <p:spPr>
          <a:xfrm>
            <a:off x="3780000" y="4797360"/>
            <a:ext cx="5029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00"/>
                </a:solidFill>
                <a:latin typeface="Arial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18"/>
          <p:cNvSpPr/>
          <p:nvPr/>
        </p:nvSpPr>
        <p:spPr>
          <a:xfrm>
            <a:off x="4573440" y="4797360"/>
            <a:ext cx="503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00"/>
                </a:solidFill>
                <a:latin typeface="Arial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19"/>
          <p:cNvSpPr/>
          <p:nvPr/>
        </p:nvSpPr>
        <p:spPr>
          <a:xfrm>
            <a:off x="5364000" y="4724280"/>
            <a:ext cx="503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00"/>
                </a:solidFill>
                <a:latin typeface="Arial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Rectangle 20"/>
          <p:cNvSpPr/>
          <p:nvPr/>
        </p:nvSpPr>
        <p:spPr>
          <a:xfrm>
            <a:off x="6227640" y="4724280"/>
            <a:ext cx="503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00"/>
                </a:solidFill>
                <a:latin typeface="Arial"/>
              </a:rPr>
              <a:t>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Rectangle 21"/>
          <p:cNvSpPr/>
          <p:nvPr/>
        </p:nvSpPr>
        <p:spPr>
          <a:xfrm>
            <a:off x="7093080" y="4724280"/>
            <a:ext cx="503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00"/>
                </a:solidFill>
                <a:latin typeface="Arial"/>
              </a:rPr>
              <a:t>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Rectangle 22"/>
          <p:cNvSpPr/>
          <p:nvPr/>
        </p:nvSpPr>
        <p:spPr>
          <a:xfrm>
            <a:off x="7956720" y="4724280"/>
            <a:ext cx="5029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00"/>
                </a:solidFill>
                <a:latin typeface="Arial"/>
              </a:rPr>
              <a:t>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23"/>
          <p:cNvSpPr/>
          <p:nvPr/>
        </p:nvSpPr>
        <p:spPr>
          <a:xfrm>
            <a:off x="3852720" y="907920"/>
            <a:ext cx="1295640" cy="12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9600" spc="-1" strike="noStrike">
                <a:solidFill>
                  <a:srgbClr val="0000ff"/>
                </a:solidFill>
                <a:latin typeface="ALFABET98"/>
              </a:rPr>
              <a:t>5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Rectangle 24"/>
          <p:cNvSpPr/>
          <p:nvPr/>
        </p:nvSpPr>
        <p:spPr>
          <a:xfrm>
            <a:off x="4716360" y="763560"/>
            <a:ext cx="935280" cy="12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9600" spc="-1" strike="noStrike">
                <a:solidFill>
                  <a:srgbClr val="ffff00"/>
                </a:solidFill>
                <a:latin typeface="ALFABET98"/>
              </a:rPr>
              <a:t>-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Rectangle 25"/>
          <p:cNvSpPr/>
          <p:nvPr/>
        </p:nvSpPr>
        <p:spPr>
          <a:xfrm>
            <a:off x="5364000" y="907920"/>
            <a:ext cx="1295640" cy="12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9600" spc="-1" strike="noStrike">
                <a:solidFill>
                  <a:srgbClr val="0000ff"/>
                </a:solidFill>
                <a:latin typeface="ALFABET98"/>
              </a:rPr>
              <a:t>5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Rectangle 26"/>
          <p:cNvSpPr/>
          <p:nvPr/>
        </p:nvSpPr>
        <p:spPr>
          <a:xfrm>
            <a:off x="6156360" y="763560"/>
            <a:ext cx="1295280" cy="12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9600" spc="-1" strike="noStrike">
                <a:solidFill>
                  <a:srgbClr val="ffff00"/>
                </a:solidFill>
                <a:latin typeface="ALFABET98"/>
              </a:rPr>
              <a:t>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27"/>
          <p:cNvSpPr/>
          <p:nvPr/>
        </p:nvSpPr>
        <p:spPr>
          <a:xfrm>
            <a:off x="6948360" y="836640"/>
            <a:ext cx="1295640" cy="12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9600" spc="-1" strike="noStrike">
                <a:solidFill>
                  <a:srgbClr val="00ffcc"/>
                </a:solidFill>
                <a:latin typeface="ALFABET98"/>
              </a:rPr>
              <a:t>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AutoShape 28"/>
          <p:cNvSpPr/>
          <p:nvPr/>
        </p:nvSpPr>
        <p:spPr>
          <a:xfrm>
            <a:off x="971640" y="3645000"/>
            <a:ext cx="4608360" cy="720720"/>
          </a:xfrm>
          <a:custGeom>
            <a:avLst/>
            <a:gdLst>
              <a:gd name="textAreaLeft" fmla="*/ 953280 w 4608360"/>
              <a:gd name="textAreaRight" fmla="*/ 2983680 w 4608360"/>
              <a:gd name="textAreaTop" fmla="*/ 96480 h 720720"/>
              <a:gd name="textAreaBottom" fmla="*/ 624240 h 720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937" hR="21600" stAng="10800000" swAng="5400000"/>
                <a:lnTo>
                  <a:pt x="9517" y="0"/>
                </a:lnTo>
                <a:arcTo wR="8937" hR="21600" stAng="-5400000" swAng="2304906"/>
                <a:lnTo>
                  <a:pt x="20587" y="11609"/>
                </a:lnTo>
                <a:lnTo>
                  <a:pt x="18163" y="21600"/>
                </a:lnTo>
                <a:lnTo>
                  <a:pt x="13713" y="11609"/>
                </a:lnTo>
                <a:lnTo>
                  <a:pt x="16860" y="11609"/>
                </a:lnTo>
                <a:arcTo wR="8937" hR="21600" stAng="-3095094" swAng="-2258730"/>
                <a:lnTo>
                  <a:pt x="9227" y="11"/>
                </a:lnTo>
                <a:arcTo wR="8937" hR="21600" stAng="-5446176" swAng="-5353824"/>
                <a:close/>
              </a:path>
              <a:path fill="darkenLess" w="21600" h="21600">
                <a:moveTo>
                  <a:pt x="0" y="21600"/>
                </a:moveTo>
                <a:arcTo wR="8937" hR="21600" stAng="10800000" swAng="5400000"/>
                <a:lnTo>
                  <a:pt x="8937" y="0"/>
                </a:lnTo>
                <a:arcTo wR="8937" hR="21600" stAng="-5400000" swAng="46176"/>
                <a:lnTo>
                  <a:pt x="9227" y="11"/>
                </a:lnTo>
                <a:arcTo wR="8937" hR="21600" stAng="-5446176" swAng="-5353824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Rectangle 29"/>
          <p:cNvSpPr/>
          <p:nvPr/>
        </p:nvSpPr>
        <p:spPr>
          <a:xfrm>
            <a:off x="1116000" y="4365720"/>
            <a:ext cx="503280" cy="287280"/>
          </a:xfrm>
          <a:prstGeom prst="rect">
            <a:avLst/>
          </a:prstGeom>
          <a:gradFill rotWithShape="0">
            <a:gsLst>
              <a:gs pos="0">
                <a:srgbClr val="185e18"/>
              </a:gs>
              <a:gs pos="50000">
                <a:srgbClr val="33cc33"/>
              </a:gs>
              <a:gs pos="100000">
                <a:srgbClr val="185e1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Rectangle 30"/>
          <p:cNvSpPr/>
          <p:nvPr/>
        </p:nvSpPr>
        <p:spPr>
          <a:xfrm>
            <a:off x="1835280" y="4365720"/>
            <a:ext cx="576000" cy="287280"/>
          </a:xfrm>
          <a:prstGeom prst="rect">
            <a:avLst/>
          </a:prstGeom>
          <a:gradFill rotWithShape="0">
            <a:gsLst>
              <a:gs pos="0">
                <a:srgbClr val="185e18"/>
              </a:gs>
              <a:gs pos="50000">
                <a:srgbClr val="33cc33"/>
              </a:gs>
              <a:gs pos="100000">
                <a:srgbClr val="185e1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Rectangle 31"/>
          <p:cNvSpPr/>
          <p:nvPr/>
        </p:nvSpPr>
        <p:spPr>
          <a:xfrm>
            <a:off x="2627280" y="4365720"/>
            <a:ext cx="576360" cy="287280"/>
          </a:xfrm>
          <a:prstGeom prst="rect">
            <a:avLst/>
          </a:prstGeom>
          <a:gradFill rotWithShape="0">
            <a:gsLst>
              <a:gs pos="0">
                <a:srgbClr val="185e18"/>
              </a:gs>
              <a:gs pos="50000">
                <a:srgbClr val="33cc33"/>
              </a:gs>
              <a:gs pos="100000">
                <a:srgbClr val="185e1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Rectangle 32"/>
          <p:cNvSpPr/>
          <p:nvPr/>
        </p:nvSpPr>
        <p:spPr>
          <a:xfrm>
            <a:off x="3421080" y="2205000"/>
            <a:ext cx="2087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ffff00"/>
                </a:solidFill>
                <a:latin typeface="ALFABET98"/>
              </a:rPr>
              <a:t>eksil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Rectangle 33"/>
          <p:cNvSpPr/>
          <p:nvPr/>
        </p:nvSpPr>
        <p:spPr>
          <a:xfrm>
            <a:off x="5003640" y="2205000"/>
            <a:ext cx="2089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ffff00"/>
                </a:solidFill>
                <a:latin typeface="ALFABET98"/>
              </a:rPr>
              <a:t>çık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Rectangle 34"/>
          <p:cNvSpPr/>
          <p:nvPr/>
        </p:nvSpPr>
        <p:spPr>
          <a:xfrm>
            <a:off x="6764400" y="2205000"/>
            <a:ext cx="16239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ffff00"/>
                </a:solidFill>
                <a:latin typeface="ALFABET98"/>
              </a:rPr>
              <a:t>kal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Rectangle 35"/>
          <p:cNvSpPr/>
          <p:nvPr/>
        </p:nvSpPr>
        <p:spPr>
          <a:xfrm>
            <a:off x="2484360" y="3645000"/>
            <a:ext cx="5763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00ffcc"/>
                </a:solidFill>
                <a:latin typeface="Arial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AutoShape 36"/>
          <p:cNvSpPr/>
          <p:nvPr/>
        </p:nvSpPr>
        <p:spPr>
          <a:xfrm flipH="1">
            <a:off x="324000" y="5373720"/>
            <a:ext cx="4535280" cy="719280"/>
          </a:xfrm>
          <a:custGeom>
            <a:avLst/>
            <a:gdLst>
              <a:gd name="textAreaLeft" fmla="*/ 954000 w 4535280"/>
              <a:gd name="textAreaRight" fmla="*/ 3170160 w 4535280"/>
              <a:gd name="textAreaTop" fmla="*/ 96120 h 719280"/>
              <a:gd name="textAreaBottom" fmla="*/ 62316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088" hR="21600" stAng="10800000" swAng="-5400000"/>
                <a:lnTo>
                  <a:pt x="10555" y="21600"/>
                </a:lnTo>
                <a:arcTo wR="9088" hR="21600" stAng="5400000" swAng="-3184383"/>
                <a:lnTo>
                  <a:pt x="21177" y="6512"/>
                </a:lnTo>
                <a:lnTo>
                  <a:pt x="18909" y="0"/>
                </a:lnTo>
                <a:lnTo>
                  <a:pt x="15794" y="6512"/>
                </a:lnTo>
                <a:lnTo>
                  <a:pt x="17752" y="6512"/>
                </a:lnTo>
                <a:arcTo wR="9088" hR="21600" stAng="2215617" swAng="3067306"/>
                <a:lnTo>
                  <a:pt x="9821" y="21530"/>
                </a:lnTo>
                <a:arcTo wR="9088" hR="21600" stAng="5517077" swAng="5282923"/>
                <a:close/>
              </a:path>
              <a:path fill="darkenLess" w="21600" h="21600">
                <a:moveTo>
                  <a:pt x="0" y="0"/>
                </a:moveTo>
                <a:arcTo wR="9088" hR="21600" stAng="10800000" swAng="-5400000"/>
                <a:lnTo>
                  <a:pt x="10555" y="21600"/>
                </a:lnTo>
                <a:arcTo wR="9088" hR="21600" stAng="5400000" swAng="117077"/>
                <a:lnTo>
                  <a:pt x="9821" y="21530"/>
                </a:lnTo>
                <a:arcTo wR="9088" hR="21600" stAng="5517077" swAng="5282923"/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Rectangle 37"/>
          <p:cNvSpPr/>
          <p:nvPr/>
        </p:nvSpPr>
        <p:spPr>
          <a:xfrm>
            <a:off x="2700360" y="5445000"/>
            <a:ext cx="503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00ffcc"/>
                </a:solidFill>
                <a:latin typeface="Arial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Rectangle 38"/>
          <p:cNvSpPr/>
          <p:nvPr/>
        </p:nvSpPr>
        <p:spPr>
          <a:xfrm>
            <a:off x="7164360" y="836640"/>
            <a:ext cx="122400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9600" spc="-1" strike="noStrike">
                <a:solidFill>
                  <a:srgbClr val="ff0000"/>
                </a:solidFill>
                <a:latin typeface="ALFABET98"/>
              </a:rPr>
              <a:t>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ectangle 39"/>
          <p:cNvSpPr/>
          <p:nvPr/>
        </p:nvSpPr>
        <p:spPr>
          <a:xfrm>
            <a:off x="179280" y="115920"/>
            <a:ext cx="1800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HİKMET SIR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Rectangle 40"/>
          <p:cNvSpPr/>
          <p:nvPr/>
        </p:nvSpPr>
        <p:spPr>
          <a:xfrm>
            <a:off x="1763640" y="3141720"/>
            <a:ext cx="2087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ffff00"/>
                </a:solidFill>
                <a:latin typeface="ALFABET98"/>
              </a:rPr>
              <a:t>eksil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ectangle 41"/>
          <p:cNvSpPr/>
          <p:nvPr/>
        </p:nvSpPr>
        <p:spPr>
          <a:xfrm>
            <a:off x="2627280" y="6021360"/>
            <a:ext cx="208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ffff00"/>
                </a:solidFill>
                <a:latin typeface="ALFABET98"/>
              </a:rPr>
              <a:t>çık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Rectangle 42"/>
          <p:cNvSpPr/>
          <p:nvPr/>
        </p:nvSpPr>
        <p:spPr>
          <a:xfrm>
            <a:off x="971640" y="6165720"/>
            <a:ext cx="16239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ffff00"/>
                </a:solidFill>
                <a:latin typeface="ALFABET98"/>
              </a:rPr>
              <a:t>kal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AutoShape 43"/>
          <p:cNvSpPr/>
          <p:nvPr/>
        </p:nvSpPr>
        <p:spPr>
          <a:xfrm>
            <a:off x="755640" y="5445000"/>
            <a:ext cx="431640" cy="719280"/>
          </a:xfrm>
          <a:custGeom>
            <a:avLst/>
            <a:gdLst>
              <a:gd name="textAreaLeft" fmla="*/ 90720 w 431640"/>
              <a:gd name="textAreaRight" fmla="*/ 301680 w 431640"/>
              <a:gd name="textAreaTop" fmla="*/ 96120 h 719280"/>
              <a:gd name="textAreaBottom" fmla="*/ 62316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088" hR="21600" stAng="10800000" swAng="-5400000"/>
                <a:lnTo>
                  <a:pt x="10555" y="21600"/>
                </a:lnTo>
                <a:arcTo wR="9088" hR="21600" stAng="5400000" swAng="-3184383"/>
                <a:lnTo>
                  <a:pt x="21177" y="6512"/>
                </a:lnTo>
                <a:lnTo>
                  <a:pt x="18909" y="0"/>
                </a:lnTo>
                <a:lnTo>
                  <a:pt x="15794" y="6512"/>
                </a:lnTo>
                <a:lnTo>
                  <a:pt x="17752" y="6512"/>
                </a:lnTo>
                <a:arcTo wR="9088" hR="21600" stAng="2215617" swAng="3067306"/>
                <a:lnTo>
                  <a:pt x="9821" y="21530"/>
                </a:lnTo>
                <a:arcTo wR="9088" hR="21600" stAng="5517077" swAng="5282923"/>
                <a:close/>
              </a:path>
              <a:path fill="darkenLess" w="21600" h="21600">
                <a:moveTo>
                  <a:pt x="0" y="0"/>
                </a:moveTo>
                <a:arcTo wR="9088" hR="21600" stAng="10800000" swAng="-5400000"/>
                <a:lnTo>
                  <a:pt x="10555" y="21600"/>
                </a:lnTo>
                <a:arcTo wR="9088" hR="21600" stAng="5400000" swAng="117077"/>
                <a:lnTo>
                  <a:pt x="9821" y="21530"/>
                </a:lnTo>
                <a:arcTo wR="9088" hR="21600" stAng="5517077" swAng="5282923"/>
                <a:close/>
              </a:path>
            </a:pathLst>
          </a:custGeom>
          <a:gradFill rotWithShape="0">
            <a:gsLst>
              <a:gs pos="0">
                <a:srgbClr val="00765e"/>
              </a:gs>
              <a:gs pos="50000">
                <a:srgbClr val="00ffcc"/>
              </a:gs>
              <a:gs pos="100000">
                <a:srgbClr val="00765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ectangle 44"/>
          <p:cNvSpPr/>
          <p:nvPr/>
        </p:nvSpPr>
        <p:spPr>
          <a:xfrm>
            <a:off x="3419640" y="4365720"/>
            <a:ext cx="504720" cy="287280"/>
          </a:xfrm>
          <a:prstGeom prst="rect">
            <a:avLst/>
          </a:prstGeom>
          <a:gradFill rotWithShape="0">
            <a:gsLst>
              <a:gs pos="0">
                <a:srgbClr val="185e18"/>
              </a:gs>
              <a:gs pos="50000">
                <a:srgbClr val="33cc33"/>
              </a:gs>
              <a:gs pos="100000">
                <a:srgbClr val="185e1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Rectangle 45"/>
          <p:cNvSpPr/>
          <p:nvPr/>
        </p:nvSpPr>
        <p:spPr>
          <a:xfrm>
            <a:off x="4140360" y="4365720"/>
            <a:ext cx="576000" cy="287280"/>
          </a:xfrm>
          <a:prstGeom prst="rect">
            <a:avLst/>
          </a:prstGeom>
          <a:gradFill rotWithShape="0">
            <a:gsLst>
              <a:gs pos="0">
                <a:srgbClr val="185e18"/>
              </a:gs>
              <a:gs pos="50000">
                <a:srgbClr val="33cc33"/>
              </a:gs>
              <a:gs pos="100000">
                <a:srgbClr val="185e1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Rectangle 46"/>
          <p:cNvSpPr/>
          <p:nvPr/>
        </p:nvSpPr>
        <p:spPr>
          <a:xfrm>
            <a:off x="684360" y="6093000"/>
            <a:ext cx="5029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00ffcc"/>
                </a:solidFill>
                <a:latin typeface="Arial"/>
              </a:rPr>
              <a:t>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7" dur="indefinite" restart="never" nodeType="tmRoot">
          <p:childTnLst>
            <p:seq>
              <p:cTn id="2158" dur="indefinite" nodeType="mainSeq">
                <p:childTnLst>
                  <p:par>
                    <p:cTn id="2159" fill="hold">
                      <p:stCondLst>
                        <p:cond delay="indefinite"/>
                      </p:stCondLst>
                      <p:childTnLst>
                        <p:par>
                          <p:cTn id="2160" fill="hold">
                            <p:stCondLst>
                              <p:cond delay="0"/>
                            </p:stCondLst>
                            <p:childTnLst>
                              <p:par>
                                <p:cTn id="216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4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5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6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7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8" fill="hold">
                      <p:stCondLst>
                        <p:cond delay="indefinite"/>
                      </p:stCondLst>
                      <p:childTnLst>
                        <p:par>
                          <p:cTn id="2169" fill="hold">
                            <p:stCondLst>
                              <p:cond delay="0"/>
                            </p:stCondLst>
                            <p:childTnLst>
                              <p:par>
                                <p:cTn id="217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2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3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4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5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6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7" fill="hold">
                      <p:stCondLst>
                        <p:cond delay="indefinite"/>
                      </p:stCondLst>
                      <p:childTnLst>
                        <p:par>
                          <p:cTn id="2178" fill="hold">
                            <p:stCondLst>
                              <p:cond delay="0"/>
                            </p:stCondLst>
                            <p:childTnLst>
                              <p:par>
                                <p:cTn id="217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1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2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3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4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5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6" fill="hold">
                      <p:stCondLst>
                        <p:cond delay="indefinite"/>
                      </p:stCondLst>
                      <p:childTnLst>
                        <p:par>
                          <p:cTn id="2187" fill="hold">
                            <p:stCondLst>
                              <p:cond delay="0"/>
                            </p:stCondLst>
                            <p:childTnLst>
                              <p:par>
                                <p:cTn id="218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0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1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2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3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4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5" fill="hold">
                      <p:stCondLst>
                        <p:cond delay="indefinite"/>
                      </p:stCondLst>
                      <p:childTnLst>
                        <p:par>
                          <p:cTn id="2196" fill="hold">
                            <p:stCondLst>
                              <p:cond delay="0"/>
                            </p:stCondLst>
                            <p:childTnLst>
                              <p:par>
                                <p:cTn id="219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9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0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1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2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3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4" fill="hold">
                      <p:stCondLst>
                        <p:cond delay="indefinite"/>
                      </p:stCondLst>
                      <p:childTnLst>
                        <p:par>
                          <p:cTn id="2205" fill="hold">
                            <p:stCondLst>
                              <p:cond delay="0"/>
                            </p:stCondLst>
                            <p:childTnLst>
                              <p:par>
                                <p:cTn id="220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8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9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0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1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2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3" fill="hold">
                      <p:stCondLst>
                        <p:cond delay="indefinite"/>
                      </p:stCondLst>
                      <p:childTnLst>
                        <p:par>
                          <p:cTn id="2214" fill="hold">
                            <p:stCondLst>
                              <p:cond delay="0"/>
                            </p:stCondLst>
                            <p:childTnLst>
                              <p:par>
                                <p:cTn id="221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7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8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9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0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1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2" fill="hold">
                      <p:stCondLst>
                        <p:cond delay="indefinite"/>
                      </p:stCondLst>
                      <p:childTnLst>
                        <p:par>
                          <p:cTn id="2223" fill="hold">
                            <p:stCondLst>
                              <p:cond delay="0"/>
                            </p:stCondLst>
                            <p:childTnLst>
                              <p:par>
                                <p:cTn id="222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6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7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8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9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0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1" fill="hold">
                      <p:stCondLst>
                        <p:cond delay="indefinite"/>
                      </p:stCondLst>
                      <p:childTnLst>
                        <p:par>
                          <p:cTn id="2232" fill="hold">
                            <p:stCondLst>
                              <p:cond delay="0"/>
                            </p:stCondLst>
                            <p:childTnLst>
                              <p:par>
                                <p:cTn id="223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35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6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7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8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9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0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41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42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43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44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45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46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47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48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9" fill="hold">
                      <p:stCondLst>
                        <p:cond delay="indefinite"/>
                      </p:stCondLst>
                      <p:childTnLst>
                        <p:par>
                          <p:cTn id="2250" fill="hold">
                            <p:stCondLst>
                              <p:cond delay="0"/>
                            </p:stCondLst>
                            <p:childTnLst>
                              <p:par>
                                <p:cTn id="225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53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4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5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6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7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8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59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60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61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62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63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64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65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66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7" fill="hold">
                      <p:stCondLst>
                        <p:cond delay="indefinite"/>
                      </p:stCondLst>
                      <p:childTnLst>
                        <p:par>
                          <p:cTn id="2268" fill="hold">
                            <p:stCondLst>
                              <p:cond delay="0"/>
                            </p:stCondLst>
                            <p:childTnLst>
                              <p:par>
                                <p:cTn id="226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71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2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3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4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5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6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77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78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79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80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81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82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83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84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5" fill="hold">
                      <p:stCondLst>
                        <p:cond delay="indefinite"/>
                      </p:stCondLst>
                      <p:childTnLst>
                        <p:par>
                          <p:cTn id="2286" fill="hold">
                            <p:stCondLst>
                              <p:cond delay="0"/>
                            </p:stCondLst>
                            <p:childTnLst>
                              <p:par>
                                <p:cTn id="228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89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0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1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2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3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4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95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96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97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98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99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00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01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02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3" fill="hold">
                      <p:stCondLst>
                        <p:cond delay="indefinite"/>
                      </p:stCondLst>
                      <p:childTnLst>
                        <p:par>
                          <p:cTn id="2304" fill="hold">
                            <p:stCondLst>
                              <p:cond delay="0"/>
                            </p:stCondLst>
                            <p:childTnLst>
                              <p:par>
                                <p:cTn id="230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07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8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9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0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1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2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13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14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15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16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17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18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19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20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1" fill="hold">
                      <p:stCondLst>
                        <p:cond delay="indefinite"/>
                      </p:stCondLst>
                      <p:childTnLst>
                        <p:par>
                          <p:cTn id="2322" fill="hold">
                            <p:stCondLst>
                              <p:cond delay="0"/>
                            </p:stCondLst>
                            <p:childTnLst>
                              <p:par>
                                <p:cTn id="23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5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6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7" fill="hold">
                      <p:stCondLst>
                        <p:cond delay="indefinite"/>
                      </p:stCondLst>
                      <p:childTnLst>
                        <p:par>
                          <p:cTn id="2328" fill="hold">
                            <p:stCondLst>
                              <p:cond delay="0"/>
                            </p:stCondLst>
                            <p:childTnLst>
                              <p:par>
                                <p:cTn id="232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31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2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3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4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5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6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37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38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39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40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41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42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43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44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5" fill="hold">
                      <p:stCondLst>
                        <p:cond delay="indefinite"/>
                      </p:stCondLst>
                      <p:childTnLst>
                        <p:par>
                          <p:cTn id="2346" fill="hold">
                            <p:stCondLst>
                              <p:cond delay="0"/>
                            </p:stCondLst>
                            <p:childTnLst>
                              <p:par>
                                <p:cTn id="234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9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0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1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2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3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4" fill="hold">
                      <p:stCondLst>
                        <p:cond delay="indefinite"/>
                      </p:stCondLst>
                      <p:childTnLst>
                        <p:par>
                          <p:cTn id="2355" fill="hold">
                            <p:stCondLst>
                              <p:cond delay="0"/>
                            </p:stCondLst>
                            <p:childTnLst>
                              <p:par>
                                <p:cTn id="235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357" dur="500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8" dur="500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0" fill="hold">
                      <p:stCondLst>
                        <p:cond delay="indefinite"/>
                      </p:stCondLst>
                      <p:childTnLst>
                        <p:par>
                          <p:cTn id="2361" fill="hold">
                            <p:stCondLst>
                              <p:cond delay="0"/>
                            </p:stCondLst>
                            <p:childTnLst>
                              <p:par>
                                <p:cTn id="236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363" dur="500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4" dur="500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6" fill="hold">
                      <p:stCondLst>
                        <p:cond delay="indefinite"/>
                      </p:stCondLst>
                      <p:childTnLst>
                        <p:par>
                          <p:cTn id="2367" fill="hold">
                            <p:stCondLst>
                              <p:cond delay="0"/>
                            </p:stCondLst>
                            <p:childTnLst>
                              <p:par>
                                <p:cTn id="236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369" dur="500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0" dur="500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2" fill="hold">
                      <p:stCondLst>
                        <p:cond delay="indefinite"/>
                      </p:stCondLst>
                      <p:childTnLst>
                        <p:par>
                          <p:cTn id="2373" fill="hold">
                            <p:stCondLst>
                              <p:cond delay="0"/>
                            </p:stCondLst>
                            <p:childTnLst>
                              <p:par>
                                <p:cTn id="237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375" dur="500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6" dur="500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8" fill="hold">
                      <p:stCondLst>
                        <p:cond delay="indefinite"/>
                      </p:stCondLst>
                      <p:childTnLst>
                        <p:par>
                          <p:cTn id="2379" fill="hold">
                            <p:stCondLst>
                              <p:cond delay="0"/>
                            </p:stCondLst>
                            <p:childTnLst>
                              <p:par>
                                <p:cTn id="238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381" dur="500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2" dur="500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4" fill="hold">
                      <p:stCondLst>
                        <p:cond delay="indefinite"/>
                      </p:stCondLst>
                      <p:childTnLst>
                        <p:par>
                          <p:cTn id="2385" fill="hold">
                            <p:stCondLst>
                              <p:cond delay="0"/>
                            </p:stCondLst>
                            <p:childTnLst>
                              <p:par>
                                <p:cTn id="238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8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9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0" fill="hold">
                      <p:stCondLst>
                        <p:cond delay="indefinite"/>
                      </p:stCondLst>
                      <p:childTnLst>
                        <p:par>
                          <p:cTn id="2391" fill="hold">
                            <p:stCondLst>
                              <p:cond delay="0"/>
                            </p:stCondLst>
                            <p:childTnLst>
                              <p:par>
                                <p:cTn id="239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94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5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6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7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8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9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00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01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02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03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04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05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06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07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8" fill="hold">
                      <p:stCondLst>
                        <p:cond delay="indefinite"/>
                      </p:stCondLst>
                      <p:childTnLst>
                        <p:par>
                          <p:cTn id="2409" fill="hold">
                            <p:stCondLst>
                              <p:cond delay="0"/>
                            </p:stCondLst>
                            <p:childTnLst>
                              <p:par>
                                <p:cTn id="241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2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3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4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5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6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7" fill="hold">
                      <p:stCondLst>
                        <p:cond delay="indefinite"/>
                      </p:stCondLst>
                      <p:childTnLst>
                        <p:par>
                          <p:cTn id="2418" fill="hold">
                            <p:stCondLst>
                              <p:cond delay="0"/>
                            </p:stCondLst>
                            <p:childTnLst>
                              <p:par>
                                <p:cTn id="24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1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2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3" fill="hold">
                      <p:stCondLst>
                        <p:cond delay="indefinite"/>
                      </p:stCondLst>
                      <p:childTnLst>
                        <p:par>
                          <p:cTn id="2424" fill="hold">
                            <p:stCondLst>
                              <p:cond delay="0"/>
                            </p:stCondLst>
                            <p:childTnLst>
                              <p:par>
                                <p:cTn id="242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27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8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9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0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1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2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33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34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35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36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37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38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39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40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1" fill="hold">
                      <p:stCondLst>
                        <p:cond delay="indefinite"/>
                      </p:stCondLst>
                      <p:childTnLst>
                        <p:par>
                          <p:cTn id="2442" fill="hold">
                            <p:stCondLst>
                              <p:cond delay="0"/>
                            </p:stCondLst>
                            <p:childTnLst>
                              <p:par>
                                <p:cTn id="244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5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6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7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8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9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0" fill="hold">
                      <p:stCondLst>
                        <p:cond delay="indefinite"/>
                      </p:stCondLst>
                      <p:childTnLst>
                        <p:par>
                          <p:cTn id="2451" fill="hold">
                            <p:stCondLst>
                              <p:cond delay="0"/>
                            </p:stCondLst>
                            <p:childTnLst>
                              <p:par>
                                <p:cTn id="2452" nodeType="clickEffect" fill="hold" presetClass="exit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453" dur="500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4" dur="500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5" dur="500"/>
                                        <p:tgtEl>
                                          <p:spTgt spid="4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456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8" fill="hold">
                      <p:stCondLst>
                        <p:cond delay="indefinite"/>
                      </p:stCondLst>
                      <p:childTnLst>
                        <p:par>
                          <p:cTn id="2459" fill="hold">
                            <p:stCondLst>
                              <p:cond delay="0"/>
                            </p:stCondLst>
                            <p:childTnLst>
                              <p:par>
                                <p:cTn id="246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2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3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4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5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6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7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68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69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70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71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72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73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74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75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6" fill="hold">
                      <p:stCondLst>
                        <p:cond delay="indefinite"/>
                      </p:stCondLst>
                      <p:childTnLst>
                        <p:par>
                          <p:cTn id="2477" fill="hold">
                            <p:stCondLst>
                              <p:cond delay="0"/>
                            </p:stCondLst>
                            <p:childTnLst>
                              <p:par>
                                <p:cTn id="247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79" dur="2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480" dur="2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1" fill="hold">
                      <p:stCondLst>
                        <p:cond delay="indefinite"/>
                      </p:stCondLst>
                      <p:childTnLst>
                        <p:par>
                          <p:cTn id="2482" fill="hold">
                            <p:stCondLst>
                              <p:cond delay="0"/>
                            </p:stCondLst>
                            <p:childTnLst>
                              <p:par>
                                <p:cTn id="248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84" dur="2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ff33"/>
                                      </p:to>
                                    </p:animClr>
                                    <p:set>
                                      <p:cBhvr>
                                        <p:cTn id="2485" dur="2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539640" y="2276640"/>
            <a:ext cx="8066160" cy="25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400" spc="-1" strike="noStrike">
                <a:solidFill>
                  <a:srgbClr val="00ffff"/>
                </a:solidFill>
                <a:latin typeface="Arial"/>
              </a:rPr>
              <a:t>SAYI DOĞRUSUNDA YAPILAN ÇIKARMA İŞLEMLERİNİ BULALIM</a:t>
            </a:r>
            <a:endParaRPr b="0" lang="en-US" sz="5400" spc="-1" strike="noStrike">
              <a:solidFill>
                <a:srgbClr val="efcfd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ubTitle"/>
          </p:nvPr>
        </p:nvSpPr>
        <p:spPr>
          <a:xfrm>
            <a:off x="755640" y="4797000"/>
            <a:ext cx="50328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00"/>
                </a:solidFill>
                <a:latin typeface="Arial"/>
              </a:rPr>
              <a:t>0</a:t>
            </a:r>
            <a:endParaRPr b="0" lang="en-US" sz="4400" spc="-1" strike="noStrike">
              <a:solidFill>
                <a:srgbClr val="efcfdf"/>
              </a:solidFill>
              <a:latin typeface="Arial"/>
            </a:endParaRPr>
          </a:p>
        </p:txBody>
      </p:sp>
      <p:sp>
        <p:nvSpPr>
          <p:cNvPr id="443" name="Line 3"/>
          <p:cNvSpPr/>
          <p:nvPr/>
        </p:nvSpPr>
        <p:spPr>
          <a:xfrm>
            <a:off x="395280" y="4508640"/>
            <a:ext cx="8424720" cy="0"/>
          </a:xfrm>
          <a:prstGeom prst="line">
            <a:avLst/>
          </a:prstGeom>
          <a:ln w="193680">
            <a:solidFill>
              <a:srgbClr val="ffff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Oval 4"/>
          <p:cNvSpPr/>
          <p:nvPr/>
        </p:nvSpPr>
        <p:spPr>
          <a:xfrm>
            <a:off x="900000" y="4437000"/>
            <a:ext cx="217440" cy="193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Oval 5"/>
          <p:cNvSpPr/>
          <p:nvPr/>
        </p:nvSpPr>
        <p:spPr>
          <a:xfrm>
            <a:off x="1617840" y="4437000"/>
            <a:ext cx="217440" cy="193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Oval 6"/>
          <p:cNvSpPr/>
          <p:nvPr/>
        </p:nvSpPr>
        <p:spPr>
          <a:xfrm>
            <a:off x="2409840" y="4437000"/>
            <a:ext cx="217440" cy="193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Oval 7"/>
          <p:cNvSpPr/>
          <p:nvPr/>
        </p:nvSpPr>
        <p:spPr>
          <a:xfrm>
            <a:off x="3201840" y="4437000"/>
            <a:ext cx="217800" cy="193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Oval 8"/>
          <p:cNvSpPr/>
          <p:nvPr/>
        </p:nvSpPr>
        <p:spPr>
          <a:xfrm>
            <a:off x="3922560" y="4437000"/>
            <a:ext cx="217800" cy="193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Oval 9"/>
          <p:cNvSpPr/>
          <p:nvPr/>
        </p:nvSpPr>
        <p:spPr>
          <a:xfrm>
            <a:off x="4714920" y="4437000"/>
            <a:ext cx="217440" cy="193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Oval 10"/>
          <p:cNvSpPr/>
          <p:nvPr/>
        </p:nvSpPr>
        <p:spPr>
          <a:xfrm>
            <a:off x="5506920" y="4437000"/>
            <a:ext cx="217440" cy="193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Oval 11"/>
          <p:cNvSpPr/>
          <p:nvPr/>
        </p:nvSpPr>
        <p:spPr>
          <a:xfrm>
            <a:off x="6370560" y="4437000"/>
            <a:ext cx="217440" cy="193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Oval 12"/>
          <p:cNvSpPr/>
          <p:nvPr/>
        </p:nvSpPr>
        <p:spPr>
          <a:xfrm>
            <a:off x="7162920" y="4437000"/>
            <a:ext cx="217440" cy="193680"/>
          </a:xfrm>
          <a:prstGeom prst="ellipse">
            <a:avLst/>
          </a:prstGeom>
          <a:solidFill>
            <a:srgbClr val="000000">
              <a:alpha val="9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Oval 13"/>
          <p:cNvSpPr/>
          <p:nvPr/>
        </p:nvSpPr>
        <p:spPr>
          <a:xfrm>
            <a:off x="8026560" y="4437000"/>
            <a:ext cx="217440" cy="193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Rectangle 14"/>
          <p:cNvSpPr/>
          <p:nvPr/>
        </p:nvSpPr>
        <p:spPr>
          <a:xfrm>
            <a:off x="1476360" y="4797360"/>
            <a:ext cx="503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00"/>
                </a:solidFill>
                <a:latin typeface="Arial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15"/>
          <p:cNvSpPr/>
          <p:nvPr/>
        </p:nvSpPr>
        <p:spPr>
          <a:xfrm>
            <a:off x="2268360" y="4797360"/>
            <a:ext cx="503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00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16"/>
          <p:cNvSpPr/>
          <p:nvPr/>
        </p:nvSpPr>
        <p:spPr>
          <a:xfrm>
            <a:off x="3060720" y="4797360"/>
            <a:ext cx="503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00"/>
                </a:solidFill>
                <a:latin typeface="Arial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17"/>
          <p:cNvSpPr/>
          <p:nvPr/>
        </p:nvSpPr>
        <p:spPr>
          <a:xfrm>
            <a:off x="3780000" y="4797360"/>
            <a:ext cx="5029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00"/>
                </a:solidFill>
                <a:latin typeface="Arial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18"/>
          <p:cNvSpPr/>
          <p:nvPr/>
        </p:nvSpPr>
        <p:spPr>
          <a:xfrm>
            <a:off x="4573440" y="4797360"/>
            <a:ext cx="503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00"/>
                </a:solidFill>
                <a:latin typeface="Arial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19"/>
          <p:cNvSpPr/>
          <p:nvPr/>
        </p:nvSpPr>
        <p:spPr>
          <a:xfrm>
            <a:off x="5364000" y="4724280"/>
            <a:ext cx="503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00"/>
                </a:solidFill>
                <a:latin typeface="Arial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20"/>
          <p:cNvSpPr/>
          <p:nvPr/>
        </p:nvSpPr>
        <p:spPr>
          <a:xfrm>
            <a:off x="6227640" y="4724280"/>
            <a:ext cx="503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00"/>
                </a:solidFill>
                <a:latin typeface="Arial"/>
              </a:rPr>
              <a:t>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21"/>
          <p:cNvSpPr/>
          <p:nvPr/>
        </p:nvSpPr>
        <p:spPr>
          <a:xfrm>
            <a:off x="7093080" y="4724280"/>
            <a:ext cx="503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00"/>
                </a:solidFill>
                <a:latin typeface="Arial"/>
              </a:rPr>
              <a:t>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Rectangle 22"/>
          <p:cNvSpPr/>
          <p:nvPr/>
        </p:nvSpPr>
        <p:spPr>
          <a:xfrm>
            <a:off x="7956720" y="4724280"/>
            <a:ext cx="5029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00"/>
                </a:solidFill>
                <a:latin typeface="Arial"/>
              </a:rPr>
              <a:t>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Rectangle 23"/>
          <p:cNvSpPr/>
          <p:nvPr/>
        </p:nvSpPr>
        <p:spPr>
          <a:xfrm>
            <a:off x="3852720" y="907920"/>
            <a:ext cx="1295640" cy="12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9600" spc="-1" strike="noStrike">
                <a:solidFill>
                  <a:srgbClr val="0000ff"/>
                </a:solidFill>
                <a:latin typeface="ALFABET98"/>
              </a:rPr>
              <a:t>7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24"/>
          <p:cNvSpPr/>
          <p:nvPr/>
        </p:nvSpPr>
        <p:spPr>
          <a:xfrm>
            <a:off x="4716360" y="763560"/>
            <a:ext cx="935280" cy="12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9600" spc="-1" strike="noStrike">
                <a:solidFill>
                  <a:srgbClr val="ffff00"/>
                </a:solidFill>
                <a:latin typeface="ALFABET98"/>
              </a:rPr>
              <a:t>-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Rectangle 25"/>
          <p:cNvSpPr/>
          <p:nvPr/>
        </p:nvSpPr>
        <p:spPr>
          <a:xfrm>
            <a:off x="5364000" y="907920"/>
            <a:ext cx="1295640" cy="12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9600" spc="-1" strike="noStrike">
                <a:solidFill>
                  <a:srgbClr val="0000ff"/>
                </a:solidFill>
                <a:latin typeface="ALFABET98"/>
              </a:rPr>
              <a:t>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Rectangle 26"/>
          <p:cNvSpPr/>
          <p:nvPr/>
        </p:nvSpPr>
        <p:spPr>
          <a:xfrm>
            <a:off x="6156360" y="763560"/>
            <a:ext cx="1295280" cy="12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9600" spc="-1" strike="noStrike">
                <a:solidFill>
                  <a:srgbClr val="ffff00"/>
                </a:solidFill>
                <a:latin typeface="ALFABET98"/>
              </a:rPr>
              <a:t>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AutoShape 28"/>
          <p:cNvSpPr/>
          <p:nvPr/>
        </p:nvSpPr>
        <p:spPr>
          <a:xfrm>
            <a:off x="971640" y="3645000"/>
            <a:ext cx="6408720" cy="720720"/>
          </a:xfrm>
          <a:custGeom>
            <a:avLst/>
            <a:gdLst>
              <a:gd name="textAreaLeft" fmla="*/ 1325520 w 6408720"/>
              <a:gd name="textAreaRight" fmla="*/ 4149360 w 6408720"/>
              <a:gd name="textAreaTop" fmla="*/ 96480 h 720720"/>
              <a:gd name="textAreaBottom" fmla="*/ 624240 h 720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937" hR="21600" stAng="10800000" swAng="5400000"/>
                <a:lnTo>
                  <a:pt x="9517" y="0"/>
                </a:lnTo>
                <a:arcTo wR="8937" hR="21600" stAng="-5400000" swAng="2304906"/>
                <a:lnTo>
                  <a:pt x="20587" y="11609"/>
                </a:lnTo>
                <a:lnTo>
                  <a:pt x="18163" y="21600"/>
                </a:lnTo>
                <a:lnTo>
                  <a:pt x="13713" y="11609"/>
                </a:lnTo>
                <a:lnTo>
                  <a:pt x="16860" y="11609"/>
                </a:lnTo>
                <a:arcTo wR="8937" hR="21600" stAng="-3095094" swAng="-2258730"/>
                <a:lnTo>
                  <a:pt x="9227" y="11"/>
                </a:lnTo>
                <a:arcTo wR="8937" hR="21600" stAng="-5446176" swAng="-5353824"/>
                <a:close/>
              </a:path>
              <a:path fill="darkenLess" w="21600" h="21600">
                <a:moveTo>
                  <a:pt x="0" y="21600"/>
                </a:moveTo>
                <a:arcTo wR="8937" hR="21600" stAng="10800000" swAng="5400000"/>
                <a:lnTo>
                  <a:pt x="8937" y="0"/>
                </a:lnTo>
                <a:arcTo wR="8937" hR="21600" stAng="-5400000" swAng="46176"/>
                <a:lnTo>
                  <a:pt x="9227" y="11"/>
                </a:lnTo>
                <a:arcTo wR="8937" hR="21600" stAng="-5446176" swAng="-5353824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Rectangle 32"/>
          <p:cNvSpPr/>
          <p:nvPr/>
        </p:nvSpPr>
        <p:spPr>
          <a:xfrm>
            <a:off x="3421080" y="2205000"/>
            <a:ext cx="2087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ffff00"/>
                </a:solidFill>
                <a:latin typeface="ALFABET98"/>
              </a:rPr>
              <a:t>eksil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Rectangle 33"/>
          <p:cNvSpPr/>
          <p:nvPr/>
        </p:nvSpPr>
        <p:spPr>
          <a:xfrm>
            <a:off x="5003640" y="2205000"/>
            <a:ext cx="2089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ffff00"/>
                </a:solidFill>
                <a:latin typeface="ALFABET98"/>
              </a:rPr>
              <a:t>çık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34"/>
          <p:cNvSpPr/>
          <p:nvPr/>
        </p:nvSpPr>
        <p:spPr>
          <a:xfrm>
            <a:off x="6764400" y="2205000"/>
            <a:ext cx="16239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ffff00"/>
                </a:solidFill>
                <a:latin typeface="ALFABET98"/>
              </a:rPr>
              <a:t>kal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Rectangle 35"/>
          <p:cNvSpPr/>
          <p:nvPr/>
        </p:nvSpPr>
        <p:spPr>
          <a:xfrm>
            <a:off x="3274920" y="2997360"/>
            <a:ext cx="5763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00ffcc"/>
                </a:solidFill>
                <a:latin typeface="Arial"/>
              </a:rPr>
              <a:t>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AutoShape 36"/>
          <p:cNvSpPr/>
          <p:nvPr/>
        </p:nvSpPr>
        <p:spPr>
          <a:xfrm flipH="1">
            <a:off x="2843280" y="5373720"/>
            <a:ext cx="3744720" cy="719280"/>
          </a:xfrm>
          <a:custGeom>
            <a:avLst/>
            <a:gdLst>
              <a:gd name="textAreaLeft" fmla="*/ 788040 w 3744720"/>
              <a:gd name="textAreaRight" fmla="*/ 2617920 w 3744720"/>
              <a:gd name="textAreaTop" fmla="*/ 96120 h 719280"/>
              <a:gd name="textAreaBottom" fmla="*/ 62316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088" hR="21600" stAng="10800000" swAng="-5400000"/>
                <a:lnTo>
                  <a:pt x="10555" y="21600"/>
                </a:lnTo>
                <a:arcTo wR="9088" hR="21600" stAng="5400000" swAng="-3184383"/>
                <a:lnTo>
                  <a:pt x="21177" y="6512"/>
                </a:lnTo>
                <a:lnTo>
                  <a:pt x="18909" y="0"/>
                </a:lnTo>
                <a:lnTo>
                  <a:pt x="15794" y="6512"/>
                </a:lnTo>
                <a:lnTo>
                  <a:pt x="17752" y="6512"/>
                </a:lnTo>
                <a:arcTo wR="9088" hR="21600" stAng="2215617" swAng="3067306"/>
                <a:lnTo>
                  <a:pt x="9821" y="21530"/>
                </a:lnTo>
                <a:arcTo wR="9088" hR="21600" stAng="5517077" swAng="5282923"/>
                <a:close/>
              </a:path>
              <a:path fill="darkenLess" w="21600" h="21600">
                <a:moveTo>
                  <a:pt x="0" y="0"/>
                </a:moveTo>
                <a:arcTo wR="9088" hR="21600" stAng="10800000" swAng="-5400000"/>
                <a:lnTo>
                  <a:pt x="10555" y="21600"/>
                </a:lnTo>
                <a:arcTo wR="9088" hR="21600" stAng="5400000" swAng="117077"/>
                <a:lnTo>
                  <a:pt x="9821" y="21530"/>
                </a:lnTo>
                <a:arcTo wR="9088" hR="21600" stAng="5517077" swAng="5282923"/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Rectangle 37"/>
          <p:cNvSpPr/>
          <p:nvPr/>
        </p:nvSpPr>
        <p:spPr>
          <a:xfrm>
            <a:off x="4789440" y="6021360"/>
            <a:ext cx="503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00ffcc"/>
                </a:solidFill>
                <a:latin typeface="Arial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Rectangle 38"/>
          <p:cNvSpPr/>
          <p:nvPr/>
        </p:nvSpPr>
        <p:spPr>
          <a:xfrm>
            <a:off x="7093080" y="907920"/>
            <a:ext cx="122400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9600" spc="-1" strike="noStrike">
                <a:solidFill>
                  <a:srgbClr val="ff0000"/>
                </a:solidFill>
                <a:latin typeface="ALFABET98"/>
              </a:rPr>
              <a:t>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Rectangle 39"/>
          <p:cNvSpPr/>
          <p:nvPr/>
        </p:nvSpPr>
        <p:spPr>
          <a:xfrm>
            <a:off x="179280" y="115920"/>
            <a:ext cx="1800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HİKMET SIR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AutoShape 43"/>
          <p:cNvSpPr/>
          <p:nvPr/>
        </p:nvSpPr>
        <p:spPr>
          <a:xfrm>
            <a:off x="755640" y="5445000"/>
            <a:ext cx="2952720" cy="719280"/>
          </a:xfrm>
          <a:custGeom>
            <a:avLst/>
            <a:gdLst>
              <a:gd name="textAreaLeft" fmla="*/ 621000 w 2952720"/>
              <a:gd name="textAreaRight" fmla="*/ 2063880 w 2952720"/>
              <a:gd name="textAreaTop" fmla="*/ 96120 h 719280"/>
              <a:gd name="textAreaBottom" fmla="*/ 62316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088" hR="21600" stAng="10800000" swAng="-5400000"/>
                <a:lnTo>
                  <a:pt x="10555" y="21600"/>
                </a:lnTo>
                <a:arcTo wR="9088" hR="21600" stAng="5400000" swAng="-3184383"/>
                <a:lnTo>
                  <a:pt x="21177" y="6512"/>
                </a:lnTo>
                <a:lnTo>
                  <a:pt x="18909" y="0"/>
                </a:lnTo>
                <a:lnTo>
                  <a:pt x="15794" y="6512"/>
                </a:lnTo>
                <a:lnTo>
                  <a:pt x="17752" y="6512"/>
                </a:lnTo>
                <a:arcTo wR="9088" hR="21600" stAng="2215617" swAng="3067306"/>
                <a:lnTo>
                  <a:pt x="9821" y="21530"/>
                </a:lnTo>
                <a:arcTo wR="9088" hR="21600" stAng="5517077" swAng="5282923"/>
                <a:close/>
              </a:path>
              <a:path fill="darkenLess" w="21600" h="21600">
                <a:moveTo>
                  <a:pt x="0" y="0"/>
                </a:moveTo>
                <a:arcTo wR="9088" hR="21600" stAng="10800000" swAng="-5400000"/>
                <a:lnTo>
                  <a:pt x="10555" y="21600"/>
                </a:lnTo>
                <a:arcTo wR="9088" hR="21600" stAng="5400000" swAng="117077"/>
                <a:lnTo>
                  <a:pt x="9821" y="21530"/>
                </a:lnTo>
                <a:arcTo wR="9088" hR="21600" stAng="5517077" swAng="5282923"/>
                <a:close/>
              </a:path>
            </a:pathLst>
          </a:custGeom>
          <a:gradFill rotWithShape="0">
            <a:gsLst>
              <a:gs pos="0">
                <a:srgbClr val="00765e"/>
              </a:gs>
              <a:gs pos="50000">
                <a:srgbClr val="00ffcc"/>
              </a:gs>
              <a:gs pos="100000">
                <a:srgbClr val="00765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Rectangle 46"/>
          <p:cNvSpPr/>
          <p:nvPr/>
        </p:nvSpPr>
        <p:spPr>
          <a:xfrm>
            <a:off x="1835280" y="6093000"/>
            <a:ext cx="5032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00ffcc"/>
                </a:solidFill>
                <a:latin typeface="Arial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6" dur="indefinite" restart="never" nodeType="tmRoot">
          <p:childTnLst>
            <p:seq>
              <p:cTn id="2487" dur="indefinite" nodeType="mainSeq">
                <p:childTnLst>
                  <p:par>
                    <p:cTn id="2488" fill="hold">
                      <p:stCondLst>
                        <p:cond delay="indefinite"/>
                      </p:stCondLst>
                      <p:childTnLst>
                        <p:par>
                          <p:cTn id="2489" fill="hold">
                            <p:stCondLst>
                              <p:cond delay="0"/>
                            </p:stCondLst>
                            <p:childTnLst>
                              <p:par>
                                <p:cTn id="249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92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3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4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5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6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7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98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99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00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01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02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03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04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05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6" fill="hold">
                      <p:stCondLst>
                        <p:cond delay="indefinite"/>
                      </p:stCondLst>
                      <p:childTnLst>
                        <p:par>
                          <p:cTn id="2507" fill="hold">
                            <p:stCondLst>
                              <p:cond delay="0"/>
                            </p:stCondLst>
                            <p:childTnLst>
                              <p:par>
                                <p:cTn id="250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10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1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2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3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4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5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16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7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18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19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0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21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2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23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4" fill="hold">
                      <p:stCondLst>
                        <p:cond delay="indefinite"/>
                      </p:stCondLst>
                      <p:childTnLst>
                        <p:par>
                          <p:cTn id="2525" fill="hold">
                            <p:stCondLst>
                              <p:cond delay="0"/>
                            </p:stCondLst>
                            <p:childTnLst>
                              <p:par>
                                <p:cTn id="25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28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9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0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1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2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3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34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35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36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7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38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39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0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41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2" fill="hold">
                      <p:stCondLst>
                        <p:cond delay="indefinite"/>
                      </p:stCondLst>
                      <p:childTnLst>
                        <p:par>
                          <p:cTn id="2543" fill="hold">
                            <p:stCondLst>
                              <p:cond delay="0"/>
                            </p:stCondLst>
                            <p:childTnLst>
                              <p:par>
                                <p:cTn id="254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6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7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8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9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0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1" fill="hold">
                      <p:stCondLst>
                        <p:cond delay="indefinite"/>
                      </p:stCondLst>
                      <p:childTnLst>
                        <p:par>
                          <p:cTn id="2552" fill="hold">
                            <p:stCondLst>
                              <p:cond delay="0"/>
                            </p:stCondLst>
                            <p:childTnLst>
                              <p:par>
                                <p:cTn id="255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5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6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7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8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9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0" fill="hold">
                      <p:stCondLst>
                        <p:cond delay="indefinite"/>
                      </p:stCondLst>
                      <p:childTnLst>
                        <p:par>
                          <p:cTn id="2561" fill="hold">
                            <p:stCondLst>
                              <p:cond delay="0"/>
                            </p:stCondLst>
                            <p:childTnLst>
                              <p:par>
                                <p:cTn id="256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4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5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6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7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8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9" fill="hold">
                      <p:stCondLst>
                        <p:cond delay="indefinite"/>
                      </p:stCondLst>
                      <p:childTnLst>
                        <p:par>
                          <p:cTn id="2570" fill="hold">
                            <p:stCondLst>
                              <p:cond delay="0"/>
                            </p:stCondLst>
                            <p:childTnLst>
                              <p:par>
                                <p:cTn id="257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3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4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5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6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7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8" fill="hold">
                      <p:stCondLst>
                        <p:cond delay="indefinite"/>
                      </p:stCondLst>
                      <p:childTnLst>
                        <p:par>
                          <p:cTn id="2579" fill="hold">
                            <p:stCondLst>
                              <p:cond delay="0"/>
                            </p:stCondLst>
                            <p:childTnLst>
                              <p:par>
                                <p:cTn id="258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2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3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4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5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6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7" fill="hold">
                      <p:stCondLst>
                        <p:cond delay="indefinite"/>
                      </p:stCondLst>
                      <p:childTnLst>
                        <p:par>
                          <p:cTn id="2588" fill="hold">
                            <p:stCondLst>
                              <p:cond delay="0"/>
                            </p:stCondLst>
                            <p:childTnLst>
                              <p:par>
                                <p:cTn id="258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90" dur="2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set>
                                      <p:cBhvr>
                                        <p:cTn id="2591" dur="2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2" fill="hold">
                      <p:stCondLst>
                        <p:cond delay="indefinite"/>
                      </p:stCondLst>
                      <p:childTnLst>
                        <p:par>
                          <p:cTn id="2593" fill="hold">
                            <p:stCondLst>
                              <p:cond delay="0"/>
                            </p:stCondLst>
                            <p:childTnLst>
                              <p:par>
                                <p:cTn id="259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95" dur="2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596" dur="2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7" fill="hold">
                      <p:stCondLst>
                        <p:cond delay="indefinite"/>
                      </p:stCondLst>
                      <p:childTnLst>
                        <p:par>
                          <p:cTn id="2598" fill="hold">
                            <p:stCondLst>
                              <p:cond delay="0"/>
                            </p:stCondLst>
                            <p:childTnLst>
                              <p:par>
                                <p:cTn id="259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1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2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3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4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5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6" fill="hold">
                      <p:stCondLst>
                        <p:cond delay="indefinite"/>
                      </p:stCondLst>
                      <p:childTnLst>
                        <p:par>
                          <p:cTn id="2607" fill="hold">
                            <p:stCondLst>
                              <p:cond delay="0"/>
                            </p:stCondLst>
                            <p:childTnLst>
                              <p:par>
                                <p:cTn id="260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0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1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2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3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4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5" fill="hold">
                      <p:stCondLst>
                        <p:cond delay="indefinite"/>
                      </p:stCondLst>
                      <p:childTnLst>
                        <p:par>
                          <p:cTn id="2616" fill="hold">
                            <p:stCondLst>
                              <p:cond delay="0"/>
                            </p:stCondLst>
                            <p:childTnLst>
                              <p:par>
                                <p:cTn id="261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9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0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1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2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3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755640" y="4797000"/>
            <a:ext cx="50328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00"/>
                </a:solidFill>
                <a:latin typeface="Arial"/>
              </a:rPr>
              <a:t>0</a:t>
            </a:r>
            <a:endParaRPr b="0" lang="en-US" sz="4400" spc="-1" strike="noStrike">
              <a:solidFill>
                <a:srgbClr val="efcfdf"/>
              </a:solidFill>
              <a:latin typeface="Arial"/>
            </a:endParaRPr>
          </a:p>
        </p:txBody>
      </p:sp>
      <p:sp>
        <p:nvSpPr>
          <p:cNvPr id="479" name="Line 3"/>
          <p:cNvSpPr/>
          <p:nvPr/>
        </p:nvSpPr>
        <p:spPr>
          <a:xfrm>
            <a:off x="395280" y="4508640"/>
            <a:ext cx="8424720" cy="0"/>
          </a:xfrm>
          <a:prstGeom prst="line">
            <a:avLst/>
          </a:prstGeom>
          <a:ln w="193680">
            <a:solidFill>
              <a:srgbClr val="ffff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Oval 4"/>
          <p:cNvSpPr/>
          <p:nvPr/>
        </p:nvSpPr>
        <p:spPr>
          <a:xfrm>
            <a:off x="900000" y="4437000"/>
            <a:ext cx="217440" cy="193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Oval 5"/>
          <p:cNvSpPr/>
          <p:nvPr/>
        </p:nvSpPr>
        <p:spPr>
          <a:xfrm>
            <a:off x="1617840" y="4437000"/>
            <a:ext cx="217440" cy="193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Oval 6"/>
          <p:cNvSpPr/>
          <p:nvPr/>
        </p:nvSpPr>
        <p:spPr>
          <a:xfrm>
            <a:off x="2409840" y="4437000"/>
            <a:ext cx="217440" cy="193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Oval 7"/>
          <p:cNvSpPr/>
          <p:nvPr/>
        </p:nvSpPr>
        <p:spPr>
          <a:xfrm>
            <a:off x="3201840" y="4437000"/>
            <a:ext cx="217800" cy="193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Oval 8"/>
          <p:cNvSpPr/>
          <p:nvPr/>
        </p:nvSpPr>
        <p:spPr>
          <a:xfrm>
            <a:off x="3922560" y="4437000"/>
            <a:ext cx="217800" cy="193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Oval 9"/>
          <p:cNvSpPr/>
          <p:nvPr/>
        </p:nvSpPr>
        <p:spPr>
          <a:xfrm>
            <a:off x="4714920" y="4437000"/>
            <a:ext cx="217440" cy="193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Oval 10"/>
          <p:cNvSpPr/>
          <p:nvPr/>
        </p:nvSpPr>
        <p:spPr>
          <a:xfrm>
            <a:off x="5506920" y="4437000"/>
            <a:ext cx="217440" cy="193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Oval 11"/>
          <p:cNvSpPr/>
          <p:nvPr/>
        </p:nvSpPr>
        <p:spPr>
          <a:xfrm>
            <a:off x="6370560" y="4437000"/>
            <a:ext cx="217440" cy="193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Oval 12"/>
          <p:cNvSpPr/>
          <p:nvPr/>
        </p:nvSpPr>
        <p:spPr>
          <a:xfrm>
            <a:off x="7162920" y="4437000"/>
            <a:ext cx="217440" cy="193680"/>
          </a:xfrm>
          <a:prstGeom prst="ellipse">
            <a:avLst/>
          </a:prstGeom>
          <a:solidFill>
            <a:srgbClr val="000000">
              <a:alpha val="9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Oval 13"/>
          <p:cNvSpPr/>
          <p:nvPr/>
        </p:nvSpPr>
        <p:spPr>
          <a:xfrm>
            <a:off x="8026560" y="4437000"/>
            <a:ext cx="217440" cy="193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Rectangle 14"/>
          <p:cNvSpPr/>
          <p:nvPr/>
        </p:nvSpPr>
        <p:spPr>
          <a:xfrm>
            <a:off x="1476360" y="4797360"/>
            <a:ext cx="503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00"/>
                </a:solidFill>
                <a:latin typeface="Arial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Rectangle 15"/>
          <p:cNvSpPr/>
          <p:nvPr/>
        </p:nvSpPr>
        <p:spPr>
          <a:xfrm>
            <a:off x="2268360" y="4797360"/>
            <a:ext cx="503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00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Rectangle 16"/>
          <p:cNvSpPr/>
          <p:nvPr/>
        </p:nvSpPr>
        <p:spPr>
          <a:xfrm>
            <a:off x="3060720" y="4797360"/>
            <a:ext cx="503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00"/>
                </a:solidFill>
                <a:latin typeface="Arial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Rectangle 17"/>
          <p:cNvSpPr/>
          <p:nvPr/>
        </p:nvSpPr>
        <p:spPr>
          <a:xfrm>
            <a:off x="3780000" y="4797360"/>
            <a:ext cx="5029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00"/>
                </a:solidFill>
                <a:latin typeface="Arial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Rectangle 18"/>
          <p:cNvSpPr/>
          <p:nvPr/>
        </p:nvSpPr>
        <p:spPr>
          <a:xfrm>
            <a:off x="4573440" y="4797360"/>
            <a:ext cx="503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00"/>
                </a:solidFill>
                <a:latin typeface="Arial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Rectangle 19"/>
          <p:cNvSpPr/>
          <p:nvPr/>
        </p:nvSpPr>
        <p:spPr>
          <a:xfrm>
            <a:off x="5364000" y="4724280"/>
            <a:ext cx="503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00"/>
                </a:solidFill>
                <a:latin typeface="Arial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ectangle 20"/>
          <p:cNvSpPr/>
          <p:nvPr/>
        </p:nvSpPr>
        <p:spPr>
          <a:xfrm>
            <a:off x="6227640" y="4724280"/>
            <a:ext cx="503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00"/>
                </a:solidFill>
                <a:latin typeface="Arial"/>
              </a:rPr>
              <a:t>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Rectangle 21"/>
          <p:cNvSpPr/>
          <p:nvPr/>
        </p:nvSpPr>
        <p:spPr>
          <a:xfrm>
            <a:off x="7093080" y="4724280"/>
            <a:ext cx="503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00"/>
                </a:solidFill>
                <a:latin typeface="Arial"/>
              </a:rPr>
              <a:t>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Rectangle 22"/>
          <p:cNvSpPr/>
          <p:nvPr/>
        </p:nvSpPr>
        <p:spPr>
          <a:xfrm>
            <a:off x="7956720" y="4724280"/>
            <a:ext cx="5029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00"/>
                </a:solidFill>
                <a:latin typeface="Arial"/>
              </a:rPr>
              <a:t>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Rectangle 23"/>
          <p:cNvSpPr/>
          <p:nvPr/>
        </p:nvSpPr>
        <p:spPr>
          <a:xfrm>
            <a:off x="3852720" y="907920"/>
            <a:ext cx="1295640" cy="12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9600" spc="-1" strike="noStrike">
                <a:solidFill>
                  <a:srgbClr val="0000ff"/>
                </a:solidFill>
                <a:latin typeface="ALFABET98"/>
              </a:rPr>
              <a:t>8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Rectangle 24"/>
          <p:cNvSpPr/>
          <p:nvPr/>
        </p:nvSpPr>
        <p:spPr>
          <a:xfrm>
            <a:off x="4716360" y="763560"/>
            <a:ext cx="935280" cy="12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9600" spc="-1" strike="noStrike">
                <a:solidFill>
                  <a:srgbClr val="ffff00"/>
                </a:solidFill>
                <a:latin typeface="ALFABET98"/>
              </a:rPr>
              <a:t>-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Rectangle 25"/>
          <p:cNvSpPr/>
          <p:nvPr/>
        </p:nvSpPr>
        <p:spPr>
          <a:xfrm>
            <a:off x="5580000" y="907920"/>
            <a:ext cx="936720" cy="12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9600" spc="-1" strike="noStrike">
                <a:solidFill>
                  <a:srgbClr val="0000ff"/>
                </a:solidFill>
                <a:latin typeface="ALFABET98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Rectangle 26"/>
          <p:cNvSpPr/>
          <p:nvPr/>
        </p:nvSpPr>
        <p:spPr>
          <a:xfrm>
            <a:off x="6156360" y="763560"/>
            <a:ext cx="863640" cy="12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9600" spc="-1" strike="noStrike">
                <a:solidFill>
                  <a:srgbClr val="ffff00"/>
                </a:solidFill>
                <a:latin typeface="ALFABET98"/>
              </a:rPr>
              <a:t>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AutoShape 27"/>
          <p:cNvSpPr/>
          <p:nvPr/>
        </p:nvSpPr>
        <p:spPr>
          <a:xfrm>
            <a:off x="971640" y="3645000"/>
            <a:ext cx="7345440" cy="720720"/>
          </a:xfrm>
          <a:custGeom>
            <a:avLst/>
            <a:gdLst>
              <a:gd name="textAreaLeft" fmla="*/ 1519560 w 7345440"/>
              <a:gd name="textAreaRight" fmla="*/ 4755960 w 7345440"/>
              <a:gd name="textAreaTop" fmla="*/ 96480 h 720720"/>
              <a:gd name="textAreaBottom" fmla="*/ 624240 h 720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937" hR="21600" stAng="10800000" swAng="5400000"/>
                <a:lnTo>
                  <a:pt x="9517" y="0"/>
                </a:lnTo>
                <a:arcTo wR="8937" hR="21600" stAng="-5400000" swAng="2304906"/>
                <a:lnTo>
                  <a:pt x="20587" y="11609"/>
                </a:lnTo>
                <a:lnTo>
                  <a:pt x="18163" y="21600"/>
                </a:lnTo>
                <a:lnTo>
                  <a:pt x="13713" y="11609"/>
                </a:lnTo>
                <a:lnTo>
                  <a:pt x="16860" y="11609"/>
                </a:lnTo>
                <a:arcTo wR="8937" hR="21600" stAng="-3095094" swAng="-2258730"/>
                <a:lnTo>
                  <a:pt x="9227" y="11"/>
                </a:lnTo>
                <a:arcTo wR="8937" hR="21600" stAng="-5446176" swAng="-5353824"/>
                <a:close/>
              </a:path>
              <a:path fill="darkenLess" w="21600" h="21600">
                <a:moveTo>
                  <a:pt x="0" y="21600"/>
                </a:moveTo>
                <a:arcTo wR="8937" hR="21600" stAng="10800000" swAng="5400000"/>
                <a:lnTo>
                  <a:pt x="8937" y="0"/>
                </a:lnTo>
                <a:arcTo wR="8937" hR="21600" stAng="-5400000" swAng="46176"/>
                <a:lnTo>
                  <a:pt x="9227" y="11"/>
                </a:lnTo>
                <a:arcTo wR="8937" hR="21600" stAng="-5446176" swAng="-5353824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28"/>
          <p:cNvSpPr/>
          <p:nvPr/>
        </p:nvSpPr>
        <p:spPr>
          <a:xfrm>
            <a:off x="3421080" y="2205000"/>
            <a:ext cx="2087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ffff00"/>
                </a:solidFill>
                <a:latin typeface="ALFABET98"/>
              </a:rPr>
              <a:t>eksil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29"/>
          <p:cNvSpPr/>
          <p:nvPr/>
        </p:nvSpPr>
        <p:spPr>
          <a:xfrm>
            <a:off x="5003640" y="2205000"/>
            <a:ext cx="2089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ffff00"/>
                </a:solidFill>
                <a:latin typeface="ALFABET98"/>
              </a:rPr>
              <a:t>çık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30"/>
          <p:cNvSpPr/>
          <p:nvPr/>
        </p:nvSpPr>
        <p:spPr>
          <a:xfrm>
            <a:off x="6764400" y="2205000"/>
            <a:ext cx="16239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ffff00"/>
                </a:solidFill>
                <a:latin typeface="ALFABET98"/>
              </a:rPr>
              <a:t>kal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31"/>
          <p:cNvSpPr/>
          <p:nvPr/>
        </p:nvSpPr>
        <p:spPr>
          <a:xfrm>
            <a:off x="3851280" y="2997360"/>
            <a:ext cx="5763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00ffcc"/>
                </a:solidFill>
                <a:latin typeface="Arial"/>
              </a:rPr>
              <a:t>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AutoShape 32"/>
          <p:cNvSpPr/>
          <p:nvPr/>
        </p:nvSpPr>
        <p:spPr>
          <a:xfrm flipH="1">
            <a:off x="6300000" y="5373720"/>
            <a:ext cx="1150920" cy="719280"/>
          </a:xfrm>
          <a:custGeom>
            <a:avLst/>
            <a:gdLst>
              <a:gd name="textAreaLeft" fmla="*/ 241920 w 1150920"/>
              <a:gd name="textAreaRight" fmla="*/ 804600 w 1150920"/>
              <a:gd name="textAreaTop" fmla="*/ 96120 h 719280"/>
              <a:gd name="textAreaBottom" fmla="*/ 62316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088" hR="21600" stAng="10800000" swAng="-5400000"/>
                <a:lnTo>
                  <a:pt x="10555" y="21600"/>
                </a:lnTo>
                <a:arcTo wR="9088" hR="21600" stAng="5400000" swAng="-3184383"/>
                <a:lnTo>
                  <a:pt x="21177" y="6512"/>
                </a:lnTo>
                <a:lnTo>
                  <a:pt x="18909" y="0"/>
                </a:lnTo>
                <a:lnTo>
                  <a:pt x="15794" y="6512"/>
                </a:lnTo>
                <a:lnTo>
                  <a:pt x="17752" y="6512"/>
                </a:lnTo>
                <a:arcTo wR="9088" hR="21600" stAng="2215617" swAng="3067306"/>
                <a:lnTo>
                  <a:pt x="9821" y="21530"/>
                </a:lnTo>
                <a:arcTo wR="9088" hR="21600" stAng="5517077" swAng="5282923"/>
                <a:close/>
              </a:path>
              <a:path fill="darkenLess" w="21600" h="21600">
                <a:moveTo>
                  <a:pt x="0" y="0"/>
                </a:moveTo>
                <a:arcTo wR="9088" hR="21600" stAng="10800000" swAng="-5400000"/>
                <a:lnTo>
                  <a:pt x="10555" y="21600"/>
                </a:lnTo>
                <a:arcTo wR="9088" hR="21600" stAng="5400000" swAng="117077"/>
                <a:lnTo>
                  <a:pt x="9821" y="21530"/>
                </a:lnTo>
                <a:arcTo wR="9088" hR="21600" stAng="5517077" swAng="5282923"/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33"/>
          <p:cNvSpPr/>
          <p:nvPr/>
        </p:nvSpPr>
        <p:spPr>
          <a:xfrm>
            <a:off x="6732720" y="6021360"/>
            <a:ext cx="503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00ffcc"/>
                </a:solidFill>
                <a:latin typeface="Arial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34"/>
          <p:cNvSpPr/>
          <p:nvPr/>
        </p:nvSpPr>
        <p:spPr>
          <a:xfrm>
            <a:off x="6948360" y="981000"/>
            <a:ext cx="122400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9600" spc="-1" strike="noStrike">
                <a:solidFill>
                  <a:srgbClr val="ff0000"/>
                </a:solidFill>
                <a:latin typeface="ALFABET98"/>
              </a:rPr>
              <a:t>7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35"/>
          <p:cNvSpPr/>
          <p:nvPr/>
        </p:nvSpPr>
        <p:spPr>
          <a:xfrm>
            <a:off x="179280" y="115920"/>
            <a:ext cx="1800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HİKMET SIR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AutoShape 36"/>
          <p:cNvSpPr/>
          <p:nvPr/>
        </p:nvSpPr>
        <p:spPr>
          <a:xfrm>
            <a:off x="755640" y="5445000"/>
            <a:ext cx="6408720" cy="719280"/>
          </a:xfrm>
          <a:custGeom>
            <a:avLst/>
            <a:gdLst>
              <a:gd name="textAreaLeft" fmla="*/ 1348200 w 6408720"/>
              <a:gd name="textAreaRight" fmla="*/ 4479840 w 6408720"/>
              <a:gd name="textAreaTop" fmla="*/ 96120 h 719280"/>
              <a:gd name="textAreaBottom" fmla="*/ 62316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088" hR="21600" stAng="10800000" swAng="-5400000"/>
                <a:lnTo>
                  <a:pt x="10555" y="21600"/>
                </a:lnTo>
                <a:arcTo wR="9088" hR="21600" stAng="5400000" swAng="-3184383"/>
                <a:lnTo>
                  <a:pt x="21177" y="6512"/>
                </a:lnTo>
                <a:lnTo>
                  <a:pt x="18909" y="0"/>
                </a:lnTo>
                <a:lnTo>
                  <a:pt x="15794" y="6512"/>
                </a:lnTo>
                <a:lnTo>
                  <a:pt x="17752" y="6512"/>
                </a:lnTo>
                <a:arcTo wR="9088" hR="21600" stAng="2215617" swAng="3067306"/>
                <a:lnTo>
                  <a:pt x="9821" y="21530"/>
                </a:lnTo>
                <a:arcTo wR="9088" hR="21600" stAng="5517077" swAng="5282923"/>
                <a:close/>
              </a:path>
              <a:path fill="darkenLess" w="21600" h="21600">
                <a:moveTo>
                  <a:pt x="0" y="0"/>
                </a:moveTo>
                <a:arcTo wR="9088" hR="21600" stAng="10800000" swAng="-5400000"/>
                <a:lnTo>
                  <a:pt x="10555" y="21600"/>
                </a:lnTo>
                <a:arcTo wR="9088" hR="21600" stAng="5400000" swAng="117077"/>
                <a:lnTo>
                  <a:pt x="9821" y="21530"/>
                </a:lnTo>
                <a:arcTo wR="9088" hR="21600" stAng="5517077" swAng="5282923"/>
                <a:close/>
              </a:path>
            </a:pathLst>
          </a:custGeom>
          <a:gradFill rotWithShape="0">
            <a:gsLst>
              <a:gs pos="0">
                <a:srgbClr val="00765e"/>
              </a:gs>
              <a:gs pos="50000">
                <a:srgbClr val="00ffcc"/>
              </a:gs>
              <a:gs pos="100000">
                <a:srgbClr val="00765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37"/>
          <p:cNvSpPr/>
          <p:nvPr/>
        </p:nvSpPr>
        <p:spPr>
          <a:xfrm>
            <a:off x="3421080" y="6093000"/>
            <a:ext cx="5032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00ffcc"/>
                </a:solidFill>
                <a:latin typeface="Arial"/>
              </a:rPr>
              <a:t>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4" dur="indefinite" restart="never" nodeType="tmRoot">
          <p:childTnLst>
            <p:seq>
              <p:cTn id="2625" dur="indefinite" nodeType="mainSeq">
                <p:childTnLst>
                  <p:par>
                    <p:cTn id="2626" fill="hold">
                      <p:stCondLst>
                        <p:cond delay="indefinite"/>
                      </p:stCondLst>
                      <p:childTnLst>
                        <p:par>
                          <p:cTn id="2627" fill="hold">
                            <p:stCondLst>
                              <p:cond delay="0"/>
                            </p:stCondLst>
                            <p:childTnLst>
                              <p:par>
                                <p:cTn id="262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30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1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2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3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4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5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36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37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38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39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40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41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42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43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4" fill="hold">
                      <p:stCondLst>
                        <p:cond delay="indefinite"/>
                      </p:stCondLst>
                      <p:childTnLst>
                        <p:par>
                          <p:cTn id="2645" fill="hold">
                            <p:stCondLst>
                              <p:cond delay="0"/>
                            </p:stCondLst>
                            <p:childTnLst>
                              <p:par>
                                <p:cTn id="264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48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9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0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1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2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3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54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55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56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57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58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59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60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61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2" fill="hold">
                      <p:stCondLst>
                        <p:cond delay="indefinite"/>
                      </p:stCondLst>
                      <p:childTnLst>
                        <p:par>
                          <p:cTn id="2663" fill="hold">
                            <p:stCondLst>
                              <p:cond delay="0"/>
                            </p:stCondLst>
                            <p:childTnLst>
                              <p:par>
                                <p:cTn id="266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66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7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8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9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0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1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72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73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74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75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76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77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78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79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0" fill="hold">
                      <p:stCondLst>
                        <p:cond delay="indefinite"/>
                      </p:stCondLst>
                      <p:childTnLst>
                        <p:par>
                          <p:cTn id="2681" fill="hold">
                            <p:stCondLst>
                              <p:cond delay="0"/>
                            </p:stCondLst>
                            <p:childTnLst>
                              <p:par>
                                <p:cTn id="268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4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5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6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7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8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9" fill="hold">
                      <p:stCondLst>
                        <p:cond delay="indefinite"/>
                      </p:stCondLst>
                      <p:childTnLst>
                        <p:par>
                          <p:cTn id="2690" fill="hold">
                            <p:stCondLst>
                              <p:cond delay="0"/>
                            </p:stCondLst>
                            <p:childTnLst>
                              <p:par>
                                <p:cTn id="269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3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4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5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6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7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8" fill="hold">
                      <p:stCondLst>
                        <p:cond delay="indefinite"/>
                      </p:stCondLst>
                      <p:childTnLst>
                        <p:par>
                          <p:cTn id="2699" fill="hold">
                            <p:stCondLst>
                              <p:cond delay="0"/>
                            </p:stCondLst>
                            <p:childTnLst>
                              <p:par>
                                <p:cTn id="270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2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3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4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5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6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7" fill="hold">
                      <p:stCondLst>
                        <p:cond delay="indefinite"/>
                      </p:stCondLst>
                      <p:childTnLst>
                        <p:par>
                          <p:cTn id="2708" fill="hold">
                            <p:stCondLst>
                              <p:cond delay="0"/>
                            </p:stCondLst>
                            <p:childTnLst>
                              <p:par>
                                <p:cTn id="270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1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2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3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4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5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6" fill="hold">
                      <p:stCondLst>
                        <p:cond delay="indefinite"/>
                      </p:stCondLst>
                      <p:childTnLst>
                        <p:par>
                          <p:cTn id="2717" fill="hold">
                            <p:stCondLst>
                              <p:cond delay="0"/>
                            </p:stCondLst>
                            <p:childTnLst>
                              <p:par>
                                <p:cTn id="271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20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1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2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3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4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5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26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27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28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29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30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31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32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33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4" fill="hold">
                      <p:stCondLst>
                        <p:cond delay="indefinite"/>
                      </p:stCondLst>
                      <p:childTnLst>
                        <p:par>
                          <p:cTn id="2735" fill="hold">
                            <p:stCondLst>
                              <p:cond delay="0"/>
                            </p:stCondLst>
                            <p:childTnLst>
                              <p:par>
                                <p:cTn id="273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8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9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0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1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2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3" fill="hold">
                      <p:stCondLst>
                        <p:cond delay="indefinite"/>
                      </p:stCondLst>
                      <p:childTnLst>
                        <p:par>
                          <p:cTn id="2744" fill="hold">
                            <p:stCondLst>
                              <p:cond delay="0"/>
                            </p:stCondLst>
                            <p:childTnLst>
                              <p:par>
                                <p:cTn id="274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7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8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9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0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1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2" fill="hold">
                      <p:stCondLst>
                        <p:cond delay="indefinite"/>
                      </p:stCondLst>
                      <p:childTnLst>
                        <p:par>
                          <p:cTn id="2753" fill="hold">
                            <p:stCondLst>
                              <p:cond delay="0"/>
                            </p:stCondLst>
                            <p:childTnLst>
                              <p:par>
                                <p:cTn id="275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6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7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8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9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0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1" fill="hold">
                      <p:stCondLst>
                        <p:cond delay="indefinite"/>
                      </p:stCondLst>
                      <p:childTnLst>
                        <p:par>
                          <p:cTn id="2762" fill="hold">
                            <p:stCondLst>
                              <p:cond delay="0"/>
                            </p:stCondLst>
                            <p:childTnLst>
                              <p:par>
                                <p:cTn id="276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64" dur="20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765" dur="20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6" fill="hold">
                      <p:stCondLst>
                        <p:cond delay="indefinite"/>
                      </p:stCondLst>
                      <p:childTnLst>
                        <p:par>
                          <p:cTn id="2767" fill="hold">
                            <p:stCondLst>
                              <p:cond delay="0"/>
                            </p:stCondLst>
                            <p:childTnLst>
                              <p:par>
                                <p:cTn id="276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69" dur="2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ff33"/>
                                      </p:to>
                                    </p:animClr>
                                    <p:set>
                                      <p:cBhvr>
                                        <p:cTn id="2770" dur="2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755640" y="4797000"/>
            <a:ext cx="50328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00"/>
                </a:solidFill>
                <a:latin typeface="Arial"/>
              </a:rPr>
              <a:t>0</a:t>
            </a:r>
            <a:endParaRPr b="0" lang="en-US" sz="4400" spc="-1" strike="noStrike">
              <a:solidFill>
                <a:srgbClr val="efcfdf"/>
              </a:solidFill>
              <a:latin typeface="Arial"/>
            </a:endParaRPr>
          </a:p>
        </p:txBody>
      </p:sp>
      <p:sp>
        <p:nvSpPr>
          <p:cNvPr id="515" name="Line 3"/>
          <p:cNvSpPr/>
          <p:nvPr/>
        </p:nvSpPr>
        <p:spPr>
          <a:xfrm>
            <a:off x="395280" y="4508640"/>
            <a:ext cx="8424720" cy="0"/>
          </a:xfrm>
          <a:prstGeom prst="line">
            <a:avLst/>
          </a:prstGeom>
          <a:ln w="193680">
            <a:solidFill>
              <a:srgbClr val="ffff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Oval 4"/>
          <p:cNvSpPr/>
          <p:nvPr/>
        </p:nvSpPr>
        <p:spPr>
          <a:xfrm>
            <a:off x="900000" y="4437000"/>
            <a:ext cx="217440" cy="193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Oval 5"/>
          <p:cNvSpPr/>
          <p:nvPr/>
        </p:nvSpPr>
        <p:spPr>
          <a:xfrm>
            <a:off x="1617840" y="4437000"/>
            <a:ext cx="217440" cy="193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Oval 6"/>
          <p:cNvSpPr/>
          <p:nvPr/>
        </p:nvSpPr>
        <p:spPr>
          <a:xfrm>
            <a:off x="2409840" y="4437000"/>
            <a:ext cx="217440" cy="193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Oval 7"/>
          <p:cNvSpPr/>
          <p:nvPr/>
        </p:nvSpPr>
        <p:spPr>
          <a:xfrm>
            <a:off x="3201840" y="4437000"/>
            <a:ext cx="217800" cy="193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Oval 8"/>
          <p:cNvSpPr/>
          <p:nvPr/>
        </p:nvSpPr>
        <p:spPr>
          <a:xfrm>
            <a:off x="3922560" y="4437000"/>
            <a:ext cx="217800" cy="193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Oval 9"/>
          <p:cNvSpPr/>
          <p:nvPr/>
        </p:nvSpPr>
        <p:spPr>
          <a:xfrm>
            <a:off x="4714920" y="4437000"/>
            <a:ext cx="217440" cy="193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Oval 10"/>
          <p:cNvSpPr/>
          <p:nvPr/>
        </p:nvSpPr>
        <p:spPr>
          <a:xfrm>
            <a:off x="5506920" y="4437000"/>
            <a:ext cx="217440" cy="193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Oval 11"/>
          <p:cNvSpPr/>
          <p:nvPr/>
        </p:nvSpPr>
        <p:spPr>
          <a:xfrm>
            <a:off x="6370560" y="4437000"/>
            <a:ext cx="217440" cy="193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Oval 12"/>
          <p:cNvSpPr/>
          <p:nvPr/>
        </p:nvSpPr>
        <p:spPr>
          <a:xfrm>
            <a:off x="7162920" y="4437000"/>
            <a:ext cx="217440" cy="193680"/>
          </a:xfrm>
          <a:prstGeom prst="ellipse">
            <a:avLst/>
          </a:prstGeom>
          <a:solidFill>
            <a:srgbClr val="000000">
              <a:alpha val="9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Oval 13"/>
          <p:cNvSpPr/>
          <p:nvPr/>
        </p:nvSpPr>
        <p:spPr>
          <a:xfrm>
            <a:off x="8026560" y="4437000"/>
            <a:ext cx="217440" cy="193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Rectangle 14"/>
          <p:cNvSpPr/>
          <p:nvPr/>
        </p:nvSpPr>
        <p:spPr>
          <a:xfrm>
            <a:off x="1476360" y="4797360"/>
            <a:ext cx="503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00"/>
                </a:solidFill>
                <a:latin typeface="Arial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Rectangle 15"/>
          <p:cNvSpPr/>
          <p:nvPr/>
        </p:nvSpPr>
        <p:spPr>
          <a:xfrm>
            <a:off x="2268360" y="4797360"/>
            <a:ext cx="503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00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Rectangle 16"/>
          <p:cNvSpPr/>
          <p:nvPr/>
        </p:nvSpPr>
        <p:spPr>
          <a:xfrm>
            <a:off x="3060720" y="4797360"/>
            <a:ext cx="503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00"/>
                </a:solidFill>
                <a:latin typeface="Arial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Rectangle 17"/>
          <p:cNvSpPr/>
          <p:nvPr/>
        </p:nvSpPr>
        <p:spPr>
          <a:xfrm>
            <a:off x="3780000" y="4797360"/>
            <a:ext cx="5029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00"/>
                </a:solidFill>
                <a:latin typeface="Arial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Rectangle 18"/>
          <p:cNvSpPr/>
          <p:nvPr/>
        </p:nvSpPr>
        <p:spPr>
          <a:xfrm>
            <a:off x="4573440" y="4797360"/>
            <a:ext cx="503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00"/>
                </a:solidFill>
                <a:latin typeface="Arial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Rectangle 19"/>
          <p:cNvSpPr/>
          <p:nvPr/>
        </p:nvSpPr>
        <p:spPr>
          <a:xfrm>
            <a:off x="5364000" y="4724280"/>
            <a:ext cx="503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00"/>
                </a:solidFill>
                <a:latin typeface="Arial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Rectangle 20"/>
          <p:cNvSpPr/>
          <p:nvPr/>
        </p:nvSpPr>
        <p:spPr>
          <a:xfrm>
            <a:off x="6227640" y="4724280"/>
            <a:ext cx="503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00"/>
                </a:solidFill>
                <a:latin typeface="Arial"/>
              </a:rPr>
              <a:t>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Rectangle 21"/>
          <p:cNvSpPr/>
          <p:nvPr/>
        </p:nvSpPr>
        <p:spPr>
          <a:xfrm>
            <a:off x="7093080" y="4724280"/>
            <a:ext cx="503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00"/>
                </a:solidFill>
                <a:latin typeface="Arial"/>
              </a:rPr>
              <a:t>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Rectangle 22"/>
          <p:cNvSpPr/>
          <p:nvPr/>
        </p:nvSpPr>
        <p:spPr>
          <a:xfrm>
            <a:off x="7956720" y="4724280"/>
            <a:ext cx="5029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00"/>
                </a:solidFill>
                <a:latin typeface="Arial"/>
              </a:rPr>
              <a:t>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Rectangle 23"/>
          <p:cNvSpPr/>
          <p:nvPr/>
        </p:nvSpPr>
        <p:spPr>
          <a:xfrm>
            <a:off x="3852720" y="907920"/>
            <a:ext cx="1295640" cy="12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9600" spc="-1" strike="noStrike">
                <a:solidFill>
                  <a:srgbClr val="0000ff"/>
                </a:solidFill>
                <a:latin typeface="ALFABET98"/>
              </a:rPr>
              <a:t>9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Rectangle 24"/>
          <p:cNvSpPr/>
          <p:nvPr/>
        </p:nvSpPr>
        <p:spPr>
          <a:xfrm>
            <a:off x="4716360" y="763560"/>
            <a:ext cx="935280" cy="12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9600" spc="-1" strike="noStrike">
                <a:solidFill>
                  <a:srgbClr val="ffff00"/>
                </a:solidFill>
                <a:latin typeface="ALFABET98"/>
              </a:rPr>
              <a:t>-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Rectangle 25"/>
          <p:cNvSpPr/>
          <p:nvPr/>
        </p:nvSpPr>
        <p:spPr>
          <a:xfrm>
            <a:off x="5580000" y="907920"/>
            <a:ext cx="936720" cy="12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9600" spc="-1" strike="noStrike">
                <a:solidFill>
                  <a:srgbClr val="0000ff"/>
                </a:solidFill>
                <a:latin typeface="ALFABET98"/>
              </a:rPr>
              <a:t>7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Rectangle 26"/>
          <p:cNvSpPr/>
          <p:nvPr/>
        </p:nvSpPr>
        <p:spPr>
          <a:xfrm>
            <a:off x="6229440" y="763560"/>
            <a:ext cx="863640" cy="12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9600" spc="-1" strike="noStrike">
                <a:solidFill>
                  <a:srgbClr val="ffff00"/>
                </a:solidFill>
                <a:latin typeface="ALFABET98"/>
              </a:rPr>
              <a:t>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AutoShape 27"/>
          <p:cNvSpPr/>
          <p:nvPr/>
        </p:nvSpPr>
        <p:spPr>
          <a:xfrm>
            <a:off x="971640" y="3645000"/>
            <a:ext cx="8496360" cy="720720"/>
          </a:xfrm>
          <a:custGeom>
            <a:avLst/>
            <a:gdLst>
              <a:gd name="textAreaLeft" fmla="*/ 1757520 w 8496360"/>
              <a:gd name="textAreaRight" fmla="*/ 5500800 w 8496360"/>
              <a:gd name="textAreaTop" fmla="*/ 96480 h 720720"/>
              <a:gd name="textAreaBottom" fmla="*/ 624240 h 720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937" hR="21600" stAng="10800000" swAng="5400000"/>
                <a:lnTo>
                  <a:pt x="9517" y="0"/>
                </a:lnTo>
                <a:arcTo wR="8937" hR="21600" stAng="-5400000" swAng="2304906"/>
                <a:lnTo>
                  <a:pt x="20587" y="11609"/>
                </a:lnTo>
                <a:lnTo>
                  <a:pt x="18163" y="21600"/>
                </a:lnTo>
                <a:lnTo>
                  <a:pt x="13713" y="11609"/>
                </a:lnTo>
                <a:lnTo>
                  <a:pt x="16860" y="11609"/>
                </a:lnTo>
                <a:arcTo wR="8937" hR="21600" stAng="-3095094" swAng="-2258730"/>
                <a:lnTo>
                  <a:pt x="9227" y="11"/>
                </a:lnTo>
                <a:arcTo wR="8937" hR="21600" stAng="-5446176" swAng="-5353824"/>
                <a:close/>
              </a:path>
              <a:path fill="darkenLess" w="21600" h="21600">
                <a:moveTo>
                  <a:pt x="0" y="21600"/>
                </a:moveTo>
                <a:arcTo wR="8937" hR="21600" stAng="10800000" swAng="5400000"/>
                <a:lnTo>
                  <a:pt x="8937" y="0"/>
                </a:lnTo>
                <a:arcTo wR="8937" hR="21600" stAng="-5400000" swAng="46176"/>
                <a:lnTo>
                  <a:pt x="9227" y="11"/>
                </a:lnTo>
                <a:arcTo wR="8937" hR="21600" stAng="-5446176" swAng="-5353824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Rectangle 28"/>
          <p:cNvSpPr/>
          <p:nvPr/>
        </p:nvSpPr>
        <p:spPr>
          <a:xfrm>
            <a:off x="3421080" y="2205000"/>
            <a:ext cx="2087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ffff00"/>
                </a:solidFill>
                <a:latin typeface="ALFABET98"/>
              </a:rPr>
              <a:t>eksil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Rectangle 29"/>
          <p:cNvSpPr/>
          <p:nvPr/>
        </p:nvSpPr>
        <p:spPr>
          <a:xfrm>
            <a:off x="5003640" y="2205000"/>
            <a:ext cx="2089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ffff00"/>
                </a:solidFill>
                <a:latin typeface="ALFABET98"/>
              </a:rPr>
              <a:t>çık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Rectangle 30"/>
          <p:cNvSpPr/>
          <p:nvPr/>
        </p:nvSpPr>
        <p:spPr>
          <a:xfrm>
            <a:off x="6764400" y="2205000"/>
            <a:ext cx="16239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ffff00"/>
                </a:solidFill>
                <a:latin typeface="ALFABET98"/>
              </a:rPr>
              <a:t>kal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Rectangle 31"/>
          <p:cNvSpPr/>
          <p:nvPr/>
        </p:nvSpPr>
        <p:spPr>
          <a:xfrm>
            <a:off x="4067280" y="3068640"/>
            <a:ext cx="576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00ffcc"/>
                </a:solidFill>
                <a:latin typeface="Arial"/>
              </a:rPr>
              <a:t>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AutoShape 32"/>
          <p:cNvSpPr/>
          <p:nvPr/>
        </p:nvSpPr>
        <p:spPr>
          <a:xfrm flipH="1">
            <a:off x="1618560" y="5373720"/>
            <a:ext cx="6697800" cy="719280"/>
          </a:xfrm>
          <a:custGeom>
            <a:avLst/>
            <a:gdLst>
              <a:gd name="textAreaLeft" fmla="*/ 1408320 w 6697800"/>
              <a:gd name="textAreaRight" fmla="*/ 4681440 w 6697800"/>
              <a:gd name="textAreaTop" fmla="*/ 96120 h 719280"/>
              <a:gd name="textAreaBottom" fmla="*/ 62316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088" hR="21600" stAng="10800000" swAng="-5400000"/>
                <a:lnTo>
                  <a:pt x="10555" y="21600"/>
                </a:lnTo>
                <a:arcTo wR="9088" hR="21600" stAng="5400000" swAng="-3184383"/>
                <a:lnTo>
                  <a:pt x="21177" y="6512"/>
                </a:lnTo>
                <a:lnTo>
                  <a:pt x="18909" y="0"/>
                </a:lnTo>
                <a:lnTo>
                  <a:pt x="15794" y="6512"/>
                </a:lnTo>
                <a:lnTo>
                  <a:pt x="17752" y="6512"/>
                </a:lnTo>
                <a:arcTo wR="9088" hR="21600" stAng="2215617" swAng="3067306"/>
                <a:lnTo>
                  <a:pt x="9821" y="21530"/>
                </a:lnTo>
                <a:arcTo wR="9088" hR="21600" stAng="5517077" swAng="5282923"/>
                <a:close/>
              </a:path>
              <a:path fill="darkenLess" w="21600" h="21600">
                <a:moveTo>
                  <a:pt x="0" y="0"/>
                </a:moveTo>
                <a:arcTo wR="9088" hR="21600" stAng="10800000" swAng="-5400000"/>
                <a:lnTo>
                  <a:pt x="10555" y="21600"/>
                </a:lnTo>
                <a:arcTo wR="9088" hR="21600" stAng="5400000" swAng="117077"/>
                <a:lnTo>
                  <a:pt x="9821" y="21530"/>
                </a:lnTo>
                <a:arcTo wR="9088" hR="21600" stAng="5517077" swAng="5282923"/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Rectangle 33"/>
          <p:cNvSpPr/>
          <p:nvPr/>
        </p:nvSpPr>
        <p:spPr>
          <a:xfrm>
            <a:off x="5076720" y="6021360"/>
            <a:ext cx="503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00ffcc"/>
                </a:solidFill>
                <a:latin typeface="Arial"/>
              </a:rPr>
              <a:t>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Rectangle 34"/>
          <p:cNvSpPr/>
          <p:nvPr/>
        </p:nvSpPr>
        <p:spPr>
          <a:xfrm>
            <a:off x="6804000" y="981000"/>
            <a:ext cx="122400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9600" spc="-1" strike="noStrike">
                <a:solidFill>
                  <a:srgbClr val="ff0000"/>
                </a:solidFill>
                <a:latin typeface="ALFABET98"/>
              </a:rPr>
              <a:t>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Rectangle 35"/>
          <p:cNvSpPr/>
          <p:nvPr/>
        </p:nvSpPr>
        <p:spPr>
          <a:xfrm>
            <a:off x="179280" y="115920"/>
            <a:ext cx="1800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HİKMET SIR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AutoShape 36"/>
          <p:cNvSpPr/>
          <p:nvPr/>
        </p:nvSpPr>
        <p:spPr>
          <a:xfrm>
            <a:off x="755640" y="5445000"/>
            <a:ext cx="1944720" cy="719280"/>
          </a:xfrm>
          <a:custGeom>
            <a:avLst/>
            <a:gdLst>
              <a:gd name="textAreaLeft" fmla="*/ 408960 w 1944720"/>
              <a:gd name="textAreaRight" fmla="*/ 1359360 w 1944720"/>
              <a:gd name="textAreaTop" fmla="*/ 96120 h 719280"/>
              <a:gd name="textAreaBottom" fmla="*/ 62316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088" hR="21600" stAng="10800000" swAng="-5400000"/>
                <a:lnTo>
                  <a:pt x="10555" y="21600"/>
                </a:lnTo>
                <a:arcTo wR="9088" hR="21600" stAng="5400000" swAng="-3184383"/>
                <a:lnTo>
                  <a:pt x="21177" y="6512"/>
                </a:lnTo>
                <a:lnTo>
                  <a:pt x="18909" y="0"/>
                </a:lnTo>
                <a:lnTo>
                  <a:pt x="15794" y="6512"/>
                </a:lnTo>
                <a:lnTo>
                  <a:pt x="17752" y="6512"/>
                </a:lnTo>
                <a:arcTo wR="9088" hR="21600" stAng="2215617" swAng="3067306"/>
                <a:lnTo>
                  <a:pt x="9821" y="21530"/>
                </a:lnTo>
                <a:arcTo wR="9088" hR="21600" stAng="5517077" swAng="5282923"/>
                <a:close/>
              </a:path>
              <a:path fill="darkenLess" w="21600" h="21600">
                <a:moveTo>
                  <a:pt x="0" y="0"/>
                </a:moveTo>
                <a:arcTo wR="9088" hR="21600" stAng="10800000" swAng="-5400000"/>
                <a:lnTo>
                  <a:pt x="10555" y="21600"/>
                </a:lnTo>
                <a:arcTo wR="9088" hR="21600" stAng="5400000" swAng="117077"/>
                <a:lnTo>
                  <a:pt x="9821" y="21530"/>
                </a:lnTo>
                <a:arcTo wR="9088" hR="21600" stAng="5517077" swAng="5282923"/>
                <a:close/>
              </a:path>
            </a:pathLst>
          </a:custGeom>
          <a:gradFill rotWithShape="0">
            <a:gsLst>
              <a:gs pos="0">
                <a:srgbClr val="00765e"/>
              </a:gs>
              <a:gs pos="50000">
                <a:srgbClr val="00ffcc"/>
              </a:gs>
              <a:gs pos="100000">
                <a:srgbClr val="00765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Rectangle 37"/>
          <p:cNvSpPr/>
          <p:nvPr/>
        </p:nvSpPr>
        <p:spPr>
          <a:xfrm>
            <a:off x="1332000" y="6021360"/>
            <a:ext cx="503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00ffcc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1" dur="indefinite" restart="never" nodeType="tmRoot">
          <p:childTnLst>
            <p:seq>
              <p:cTn id="2772" dur="indefinite" nodeType="mainSeq">
                <p:childTnLst>
                  <p:par>
                    <p:cTn id="2773" fill="hold">
                      <p:stCondLst>
                        <p:cond delay="indefinite"/>
                      </p:stCondLst>
                      <p:childTnLst>
                        <p:par>
                          <p:cTn id="2774" fill="hold">
                            <p:stCondLst>
                              <p:cond delay="0"/>
                            </p:stCondLst>
                            <p:childTnLst>
                              <p:par>
                                <p:cTn id="277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77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8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9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0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1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2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83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84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85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86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87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88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89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90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1" fill="hold">
                      <p:stCondLst>
                        <p:cond delay="indefinite"/>
                      </p:stCondLst>
                      <p:childTnLst>
                        <p:par>
                          <p:cTn id="2792" fill="hold">
                            <p:stCondLst>
                              <p:cond delay="0"/>
                            </p:stCondLst>
                            <p:childTnLst>
                              <p:par>
                                <p:cTn id="279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95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6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7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8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9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0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01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02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03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04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05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06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07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08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9" fill="hold">
                      <p:stCondLst>
                        <p:cond delay="indefinite"/>
                      </p:stCondLst>
                      <p:childTnLst>
                        <p:par>
                          <p:cTn id="2810" fill="hold">
                            <p:stCondLst>
                              <p:cond delay="0"/>
                            </p:stCondLst>
                            <p:childTnLst>
                              <p:par>
                                <p:cTn id="281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13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4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5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6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7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8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19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20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21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22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23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24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25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26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7" fill="hold">
                      <p:stCondLst>
                        <p:cond delay="indefinite"/>
                      </p:stCondLst>
                      <p:childTnLst>
                        <p:par>
                          <p:cTn id="2828" fill="hold">
                            <p:stCondLst>
                              <p:cond delay="0"/>
                            </p:stCondLst>
                            <p:childTnLst>
                              <p:par>
                                <p:cTn id="282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1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2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3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4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5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6" fill="hold">
                      <p:stCondLst>
                        <p:cond delay="indefinite"/>
                      </p:stCondLst>
                      <p:childTnLst>
                        <p:par>
                          <p:cTn id="2837" fill="hold">
                            <p:stCondLst>
                              <p:cond delay="0"/>
                            </p:stCondLst>
                            <p:childTnLst>
                              <p:par>
                                <p:cTn id="283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0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1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2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3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4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5" fill="hold">
                      <p:stCondLst>
                        <p:cond delay="indefinite"/>
                      </p:stCondLst>
                      <p:childTnLst>
                        <p:par>
                          <p:cTn id="2846" fill="hold">
                            <p:stCondLst>
                              <p:cond delay="0"/>
                            </p:stCondLst>
                            <p:childTnLst>
                              <p:par>
                                <p:cTn id="284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9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0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1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2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3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4" fill="hold">
                      <p:stCondLst>
                        <p:cond delay="indefinite"/>
                      </p:stCondLst>
                      <p:childTnLst>
                        <p:par>
                          <p:cTn id="2855" fill="hold">
                            <p:stCondLst>
                              <p:cond delay="0"/>
                            </p:stCondLst>
                            <p:childTnLst>
                              <p:par>
                                <p:cTn id="285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8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9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0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1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2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3" fill="hold">
                      <p:stCondLst>
                        <p:cond delay="indefinite"/>
                      </p:stCondLst>
                      <p:childTnLst>
                        <p:par>
                          <p:cTn id="2864" fill="hold">
                            <p:stCondLst>
                              <p:cond delay="0"/>
                            </p:stCondLst>
                            <p:childTnLst>
                              <p:par>
                                <p:cTn id="286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7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8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9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0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1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2" fill="hold">
                      <p:stCondLst>
                        <p:cond delay="indefinite"/>
                      </p:stCondLst>
                      <p:childTnLst>
                        <p:par>
                          <p:cTn id="2873" fill="hold">
                            <p:stCondLst>
                              <p:cond delay="0"/>
                            </p:stCondLst>
                            <p:childTnLst>
                              <p:par>
                                <p:cTn id="287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6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7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8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9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0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1" fill="hold">
                      <p:stCondLst>
                        <p:cond delay="indefinite"/>
                      </p:stCondLst>
                      <p:childTnLst>
                        <p:par>
                          <p:cTn id="2882" fill="hold">
                            <p:stCondLst>
                              <p:cond delay="0"/>
                            </p:stCondLst>
                            <p:childTnLst>
                              <p:par>
                                <p:cTn id="288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5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6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7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8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9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0" fill="hold">
                      <p:stCondLst>
                        <p:cond delay="indefinite"/>
                      </p:stCondLst>
                      <p:childTnLst>
                        <p:par>
                          <p:cTn id="2891" fill="hold">
                            <p:stCondLst>
                              <p:cond delay="0"/>
                            </p:stCondLst>
                            <p:childTnLst>
                              <p:par>
                                <p:cTn id="289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4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5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6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7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8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11280" y="1484280"/>
            <a:ext cx="7772400" cy="34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6000" spc="-1" strike="noStrike">
                <a:solidFill>
                  <a:srgbClr val="ffff00"/>
                </a:solidFill>
                <a:latin typeface="ALFABET98"/>
              </a:rPr>
              <a:t>SAYI DOĞRUSU ÜZERİNDE ÇIKARMA İŞLEMİ YAPALIM</a:t>
            </a:r>
            <a:endParaRPr b="0" lang="en-US" sz="6000" spc="-1" strike="noStrike">
              <a:solidFill>
                <a:srgbClr val="efcfdf"/>
              </a:solidFill>
              <a:latin typeface="Arial"/>
            </a:endParaRPr>
          </a:p>
        </p:txBody>
      </p:sp>
      <p:pic>
        <p:nvPicPr>
          <p:cNvPr id="88" name="Picture 3" descr="linie-344"/>
          <p:cNvPicPr/>
          <p:nvPr/>
        </p:nvPicPr>
        <p:blipFill>
          <a:blip r:embed="rId1"/>
          <a:stretch/>
        </p:blipFill>
        <p:spPr>
          <a:xfrm>
            <a:off x="0" y="5229360"/>
            <a:ext cx="9144000" cy="72072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4"/>
          <p:cNvSpPr/>
          <p:nvPr/>
        </p:nvSpPr>
        <p:spPr>
          <a:xfrm>
            <a:off x="539640" y="6093000"/>
            <a:ext cx="180036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cc9900"/>
                </a:solidFill>
                <a:latin typeface="Arial"/>
              </a:rPr>
              <a:t>HİKMET SIR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755640" y="3789000"/>
            <a:ext cx="50328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00"/>
                </a:solidFill>
                <a:latin typeface="Arial"/>
              </a:rPr>
              <a:t>0</a:t>
            </a:r>
            <a:endParaRPr b="0" lang="en-US" sz="4400" spc="-1" strike="noStrike">
              <a:solidFill>
                <a:srgbClr val="efcfdf"/>
              </a:solidFill>
              <a:latin typeface="Arial"/>
            </a:endParaRPr>
          </a:p>
        </p:txBody>
      </p:sp>
      <p:sp>
        <p:nvSpPr>
          <p:cNvPr id="91" name="Line 3"/>
          <p:cNvSpPr/>
          <p:nvPr/>
        </p:nvSpPr>
        <p:spPr>
          <a:xfrm>
            <a:off x="395280" y="3573360"/>
            <a:ext cx="8424720" cy="0"/>
          </a:xfrm>
          <a:prstGeom prst="line">
            <a:avLst/>
          </a:prstGeom>
          <a:ln w="193680">
            <a:solidFill>
              <a:srgbClr val="ffff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Oval 4"/>
          <p:cNvSpPr/>
          <p:nvPr/>
        </p:nvSpPr>
        <p:spPr>
          <a:xfrm>
            <a:off x="900000" y="3500280"/>
            <a:ext cx="217440" cy="19368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Oval 5"/>
          <p:cNvSpPr/>
          <p:nvPr/>
        </p:nvSpPr>
        <p:spPr>
          <a:xfrm>
            <a:off x="1617840" y="3500280"/>
            <a:ext cx="217440" cy="19368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Oval 6"/>
          <p:cNvSpPr/>
          <p:nvPr/>
        </p:nvSpPr>
        <p:spPr>
          <a:xfrm>
            <a:off x="2409840" y="3500280"/>
            <a:ext cx="217440" cy="19368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val 7"/>
          <p:cNvSpPr/>
          <p:nvPr/>
        </p:nvSpPr>
        <p:spPr>
          <a:xfrm>
            <a:off x="3132000" y="3500280"/>
            <a:ext cx="217800" cy="19368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Oval 8"/>
          <p:cNvSpPr/>
          <p:nvPr/>
        </p:nvSpPr>
        <p:spPr>
          <a:xfrm>
            <a:off x="3922560" y="3500280"/>
            <a:ext cx="217800" cy="19368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Oval 9"/>
          <p:cNvSpPr/>
          <p:nvPr/>
        </p:nvSpPr>
        <p:spPr>
          <a:xfrm>
            <a:off x="4714920" y="3500280"/>
            <a:ext cx="217440" cy="19368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Oval 10"/>
          <p:cNvSpPr/>
          <p:nvPr/>
        </p:nvSpPr>
        <p:spPr>
          <a:xfrm>
            <a:off x="5506920" y="3500280"/>
            <a:ext cx="217440" cy="19368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val 11"/>
          <p:cNvSpPr/>
          <p:nvPr/>
        </p:nvSpPr>
        <p:spPr>
          <a:xfrm>
            <a:off x="6370560" y="3500280"/>
            <a:ext cx="217440" cy="19368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val 12"/>
          <p:cNvSpPr/>
          <p:nvPr/>
        </p:nvSpPr>
        <p:spPr>
          <a:xfrm>
            <a:off x="7162920" y="3500280"/>
            <a:ext cx="217440" cy="19368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val 13"/>
          <p:cNvSpPr/>
          <p:nvPr/>
        </p:nvSpPr>
        <p:spPr>
          <a:xfrm>
            <a:off x="8026560" y="3500280"/>
            <a:ext cx="217440" cy="19368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4"/>
          <p:cNvSpPr/>
          <p:nvPr/>
        </p:nvSpPr>
        <p:spPr>
          <a:xfrm>
            <a:off x="1476360" y="3789360"/>
            <a:ext cx="503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00"/>
                </a:solidFill>
                <a:latin typeface="Arial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5"/>
          <p:cNvSpPr/>
          <p:nvPr/>
        </p:nvSpPr>
        <p:spPr>
          <a:xfrm>
            <a:off x="2268360" y="3789360"/>
            <a:ext cx="503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00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16"/>
          <p:cNvSpPr/>
          <p:nvPr/>
        </p:nvSpPr>
        <p:spPr>
          <a:xfrm>
            <a:off x="2987640" y="3789360"/>
            <a:ext cx="503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00"/>
                </a:solidFill>
                <a:latin typeface="Arial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7"/>
          <p:cNvSpPr/>
          <p:nvPr/>
        </p:nvSpPr>
        <p:spPr>
          <a:xfrm>
            <a:off x="3780000" y="3789360"/>
            <a:ext cx="5029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00"/>
                </a:solidFill>
                <a:latin typeface="Arial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8"/>
          <p:cNvSpPr/>
          <p:nvPr/>
        </p:nvSpPr>
        <p:spPr>
          <a:xfrm>
            <a:off x="4573440" y="3789360"/>
            <a:ext cx="503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00"/>
                </a:solidFill>
                <a:latin typeface="Arial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9"/>
          <p:cNvSpPr/>
          <p:nvPr/>
        </p:nvSpPr>
        <p:spPr>
          <a:xfrm>
            <a:off x="5364000" y="3789360"/>
            <a:ext cx="503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00"/>
                </a:solidFill>
                <a:latin typeface="Arial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20"/>
          <p:cNvSpPr/>
          <p:nvPr/>
        </p:nvSpPr>
        <p:spPr>
          <a:xfrm>
            <a:off x="6227640" y="3789360"/>
            <a:ext cx="503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00"/>
                </a:solidFill>
                <a:latin typeface="Arial"/>
              </a:rPr>
              <a:t>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21"/>
          <p:cNvSpPr/>
          <p:nvPr/>
        </p:nvSpPr>
        <p:spPr>
          <a:xfrm>
            <a:off x="7093080" y="3789360"/>
            <a:ext cx="503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00"/>
                </a:solidFill>
                <a:latin typeface="Arial"/>
              </a:rPr>
              <a:t>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22"/>
          <p:cNvSpPr/>
          <p:nvPr/>
        </p:nvSpPr>
        <p:spPr>
          <a:xfrm>
            <a:off x="7956720" y="3789360"/>
            <a:ext cx="5029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00"/>
                </a:solidFill>
                <a:latin typeface="Arial"/>
              </a:rPr>
              <a:t>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23"/>
          <p:cNvSpPr/>
          <p:nvPr/>
        </p:nvSpPr>
        <p:spPr>
          <a:xfrm>
            <a:off x="611280" y="1235160"/>
            <a:ext cx="777564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ffffff"/>
                </a:solidFill>
                <a:latin typeface="ALFABET98"/>
              </a:rPr>
              <a:t>Elde ettiğimiz bu şeklin adın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00ff00"/>
                </a:solidFill>
                <a:latin typeface="ALFABET98"/>
              </a:rPr>
              <a:t>sayı doğrusu</a:t>
            </a:r>
            <a:r>
              <a:rPr b="1" lang="tr-TR" sz="3600" spc="-1" strike="noStrike">
                <a:solidFill>
                  <a:srgbClr val="ffffff"/>
                </a:solidFill>
                <a:latin typeface="ALFABET98"/>
              </a:rPr>
              <a:t>  deni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24"/>
          <p:cNvSpPr/>
          <p:nvPr/>
        </p:nvSpPr>
        <p:spPr>
          <a:xfrm>
            <a:off x="611280" y="5013360"/>
            <a:ext cx="777564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00ff00"/>
                </a:solidFill>
                <a:latin typeface="ALFABET98"/>
              </a:rPr>
              <a:t>Sayı doğrusunda </a:t>
            </a:r>
            <a:r>
              <a:rPr b="1" lang="tr-TR" sz="3600" spc="-1" strike="noStrike">
                <a:solidFill>
                  <a:srgbClr val="ff00ff"/>
                </a:solidFill>
                <a:latin typeface="ALFABET98"/>
              </a:rPr>
              <a:t>toplama</a:t>
            </a:r>
            <a:r>
              <a:rPr b="1" lang="tr-TR" sz="3600" spc="-1" strike="noStrike">
                <a:solidFill>
                  <a:srgbClr val="00ff00"/>
                </a:solidFill>
                <a:latin typeface="ALFABET98"/>
              </a:rPr>
              <a:t>, </a:t>
            </a:r>
            <a:r>
              <a:rPr b="1" lang="tr-TR" sz="3600" spc="-1" strike="noStrike">
                <a:solidFill>
                  <a:srgbClr val="ff00ff"/>
                </a:solidFill>
                <a:latin typeface="ALFABET98"/>
              </a:rPr>
              <a:t>çıkarma </a:t>
            </a:r>
            <a:r>
              <a:rPr b="1" lang="tr-TR" sz="3600" spc="-1" strike="noStrike">
                <a:solidFill>
                  <a:srgbClr val="00ff00"/>
                </a:solidFill>
                <a:latin typeface="ALFABET98"/>
              </a:rPr>
              <a:t>işlemlerini kolayca yapabiliriz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755640" y="4797000"/>
            <a:ext cx="50328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00"/>
                </a:solidFill>
                <a:latin typeface="Arial"/>
              </a:rPr>
              <a:t>0</a:t>
            </a:r>
            <a:endParaRPr b="0" lang="en-US" sz="4400" spc="-1" strike="noStrike">
              <a:solidFill>
                <a:srgbClr val="efcfdf"/>
              </a:solidFill>
              <a:latin typeface="Arial"/>
            </a:endParaRPr>
          </a:p>
        </p:txBody>
      </p:sp>
      <p:sp>
        <p:nvSpPr>
          <p:cNvPr id="114" name="Line 4"/>
          <p:cNvSpPr/>
          <p:nvPr/>
        </p:nvSpPr>
        <p:spPr>
          <a:xfrm>
            <a:off x="395280" y="4508640"/>
            <a:ext cx="8424720" cy="0"/>
          </a:xfrm>
          <a:prstGeom prst="line">
            <a:avLst/>
          </a:prstGeom>
          <a:ln w="19368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5"/>
          <p:cNvSpPr/>
          <p:nvPr/>
        </p:nvSpPr>
        <p:spPr>
          <a:xfrm>
            <a:off x="900000" y="4437000"/>
            <a:ext cx="217440" cy="193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Oval 6"/>
          <p:cNvSpPr/>
          <p:nvPr/>
        </p:nvSpPr>
        <p:spPr>
          <a:xfrm>
            <a:off x="1617840" y="4437000"/>
            <a:ext cx="217440" cy="193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Oval 7"/>
          <p:cNvSpPr/>
          <p:nvPr/>
        </p:nvSpPr>
        <p:spPr>
          <a:xfrm>
            <a:off x="2409840" y="4437000"/>
            <a:ext cx="217440" cy="193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Oval 8"/>
          <p:cNvSpPr/>
          <p:nvPr/>
        </p:nvSpPr>
        <p:spPr>
          <a:xfrm>
            <a:off x="3201840" y="4437000"/>
            <a:ext cx="217800" cy="193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Oval 9"/>
          <p:cNvSpPr/>
          <p:nvPr/>
        </p:nvSpPr>
        <p:spPr>
          <a:xfrm>
            <a:off x="3922560" y="4437000"/>
            <a:ext cx="217800" cy="193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Oval 10"/>
          <p:cNvSpPr/>
          <p:nvPr/>
        </p:nvSpPr>
        <p:spPr>
          <a:xfrm>
            <a:off x="4714920" y="4437000"/>
            <a:ext cx="217440" cy="193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Oval 11"/>
          <p:cNvSpPr/>
          <p:nvPr/>
        </p:nvSpPr>
        <p:spPr>
          <a:xfrm>
            <a:off x="5506920" y="4437000"/>
            <a:ext cx="217440" cy="193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Oval 12"/>
          <p:cNvSpPr/>
          <p:nvPr/>
        </p:nvSpPr>
        <p:spPr>
          <a:xfrm>
            <a:off x="6370560" y="4437000"/>
            <a:ext cx="217440" cy="193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Oval 13"/>
          <p:cNvSpPr/>
          <p:nvPr/>
        </p:nvSpPr>
        <p:spPr>
          <a:xfrm>
            <a:off x="7162920" y="4437000"/>
            <a:ext cx="217440" cy="193680"/>
          </a:xfrm>
          <a:prstGeom prst="ellipse">
            <a:avLst/>
          </a:prstGeom>
          <a:solidFill>
            <a:srgbClr val="000000">
              <a:alpha val="9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Oval 14"/>
          <p:cNvSpPr/>
          <p:nvPr/>
        </p:nvSpPr>
        <p:spPr>
          <a:xfrm>
            <a:off x="8026560" y="4437000"/>
            <a:ext cx="217440" cy="193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5"/>
          <p:cNvSpPr/>
          <p:nvPr/>
        </p:nvSpPr>
        <p:spPr>
          <a:xfrm>
            <a:off x="1476360" y="4797360"/>
            <a:ext cx="503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00"/>
                </a:solidFill>
                <a:latin typeface="Arial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6"/>
          <p:cNvSpPr/>
          <p:nvPr/>
        </p:nvSpPr>
        <p:spPr>
          <a:xfrm>
            <a:off x="2268360" y="4797360"/>
            <a:ext cx="503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00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7"/>
          <p:cNvSpPr/>
          <p:nvPr/>
        </p:nvSpPr>
        <p:spPr>
          <a:xfrm>
            <a:off x="3060720" y="4797360"/>
            <a:ext cx="503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00"/>
                </a:solidFill>
                <a:latin typeface="Arial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18"/>
          <p:cNvSpPr/>
          <p:nvPr/>
        </p:nvSpPr>
        <p:spPr>
          <a:xfrm>
            <a:off x="3780000" y="4797360"/>
            <a:ext cx="5029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00"/>
                </a:solidFill>
                <a:latin typeface="Arial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19"/>
          <p:cNvSpPr/>
          <p:nvPr/>
        </p:nvSpPr>
        <p:spPr>
          <a:xfrm>
            <a:off x="4573440" y="4797360"/>
            <a:ext cx="503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00"/>
                </a:solidFill>
                <a:latin typeface="Arial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20"/>
          <p:cNvSpPr/>
          <p:nvPr/>
        </p:nvSpPr>
        <p:spPr>
          <a:xfrm>
            <a:off x="5364000" y="4724280"/>
            <a:ext cx="503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00"/>
                </a:solidFill>
                <a:latin typeface="Arial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21"/>
          <p:cNvSpPr/>
          <p:nvPr/>
        </p:nvSpPr>
        <p:spPr>
          <a:xfrm>
            <a:off x="6227640" y="4724280"/>
            <a:ext cx="503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00"/>
                </a:solidFill>
                <a:latin typeface="Arial"/>
              </a:rPr>
              <a:t>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22"/>
          <p:cNvSpPr/>
          <p:nvPr/>
        </p:nvSpPr>
        <p:spPr>
          <a:xfrm>
            <a:off x="7093080" y="4724280"/>
            <a:ext cx="503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00"/>
                </a:solidFill>
                <a:latin typeface="Arial"/>
              </a:rPr>
              <a:t>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23"/>
          <p:cNvSpPr/>
          <p:nvPr/>
        </p:nvSpPr>
        <p:spPr>
          <a:xfrm>
            <a:off x="7956720" y="4724280"/>
            <a:ext cx="5029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00"/>
                </a:solidFill>
                <a:latin typeface="Arial"/>
              </a:rPr>
              <a:t>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24"/>
          <p:cNvSpPr/>
          <p:nvPr/>
        </p:nvSpPr>
        <p:spPr>
          <a:xfrm>
            <a:off x="3852720" y="907920"/>
            <a:ext cx="1295640" cy="12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9600" spc="-1" strike="noStrike">
                <a:solidFill>
                  <a:srgbClr val="0000ff"/>
                </a:solidFill>
                <a:latin typeface="ALFABET98"/>
              </a:rPr>
              <a:t>5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25"/>
          <p:cNvSpPr/>
          <p:nvPr/>
        </p:nvSpPr>
        <p:spPr>
          <a:xfrm>
            <a:off x="4716360" y="763560"/>
            <a:ext cx="935280" cy="12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9600" spc="-1" strike="noStrike">
                <a:solidFill>
                  <a:srgbClr val="ffff00"/>
                </a:solidFill>
                <a:latin typeface="ALFABET98"/>
              </a:rPr>
              <a:t>-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26"/>
          <p:cNvSpPr/>
          <p:nvPr/>
        </p:nvSpPr>
        <p:spPr>
          <a:xfrm>
            <a:off x="5364000" y="907920"/>
            <a:ext cx="1295640" cy="12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9600" spc="-1" strike="noStrike">
                <a:solidFill>
                  <a:srgbClr val="0000ff"/>
                </a:solidFill>
                <a:latin typeface="ALFABET98"/>
              </a:rPr>
              <a:t>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27"/>
          <p:cNvSpPr/>
          <p:nvPr/>
        </p:nvSpPr>
        <p:spPr>
          <a:xfrm>
            <a:off x="6156360" y="763560"/>
            <a:ext cx="1295280" cy="12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9600" spc="-1" strike="noStrike">
                <a:solidFill>
                  <a:srgbClr val="ffff00"/>
                </a:solidFill>
                <a:latin typeface="ALFABET98"/>
              </a:rPr>
              <a:t>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28"/>
          <p:cNvSpPr/>
          <p:nvPr/>
        </p:nvSpPr>
        <p:spPr>
          <a:xfrm>
            <a:off x="6877080" y="907920"/>
            <a:ext cx="1295280" cy="12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9600" spc="-1" strike="noStrike">
                <a:solidFill>
                  <a:srgbClr val="00ffcc"/>
                </a:solidFill>
                <a:latin typeface="ALFABET98"/>
              </a:rPr>
              <a:t>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29"/>
          <p:cNvSpPr/>
          <p:nvPr/>
        </p:nvSpPr>
        <p:spPr>
          <a:xfrm>
            <a:off x="971640" y="3716280"/>
            <a:ext cx="4752720" cy="649440"/>
          </a:xfrm>
          <a:custGeom>
            <a:avLst/>
            <a:gdLst>
              <a:gd name="textAreaLeft" fmla="*/ 895320 w 4752720"/>
              <a:gd name="textAreaRight" fmla="*/ 3128040 w 4752720"/>
              <a:gd name="textAreaTop" fmla="*/ 86760 h 649440"/>
              <a:gd name="textAreaBottom" fmla="*/ 562680 h 6494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138" hR="21600" stAng="10800000" swAng="5400000"/>
                <a:lnTo>
                  <a:pt x="10148" y="0"/>
                </a:lnTo>
                <a:arcTo wR="8138" hR="21600" stAng="-5400000" swAng="3652922"/>
                <a:lnTo>
                  <a:pt x="21427" y="17164"/>
                </a:lnTo>
                <a:lnTo>
                  <a:pt x="17280" y="21600"/>
                </a:lnTo>
                <a:lnTo>
                  <a:pt x="12787" y="17164"/>
                </a:lnTo>
                <a:lnTo>
                  <a:pt x="16102" y="17164"/>
                </a:lnTo>
                <a:arcTo wR="8138" hR="21600" stAng="-1747078" swAng="-3491856"/>
                <a:lnTo>
                  <a:pt x="9143" y="165"/>
                </a:lnTo>
                <a:arcTo wR="8138" hR="21600" stAng="-5561067" swAng="-5238933"/>
                <a:close/>
              </a:path>
              <a:path fill="darkenLess" w="21600" h="21600">
                <a:moveTo>
                  <a:pt x="0" y="21600"/>
                </a:moveTo>
                <a:arcTo wR="8138" hR="21600" stAng="10800000" swAng="5400000"/>
                <a:lnTo>
                  <a:pt x="8138" y="0"/>
                </a:lnTo>
                <a:arcTo wR="8138" hR="21600" stAng="-5400000" swAng="161067"/>
                <a:lnTo>
                  <a:pt x="9143" y="165"/>
                </a:lnTo>
                <a:arcTo wR="8138" hR="21600" stAng="-5561067" swAng="-5238933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30"/>
          <p:cNvSpPr/>
          <p:nvPr/>
        </p:nvSpPr>
        <p:spPr>
          <a:xfrm>
            <a:off x="1116000" y="4365720"/>
            <a:ext cx="503280" cy="287280"/>
          </a:xfrm>
          <a:prstGeom prst="rect">
            <a:avLst/>
          </a:prstGeom>
          <a:gradFill rotWithShape="0">
            <a:gsLst>
              <a:gs pos="0">
                <a:srgbClr val="185e18"/>
              </a:gs>
              <a:gs pos="50000">
                <a:srgbClr val="33cc33"/>
              </a:gs>
              <a:gs pos="100000">
                <a:srgbClr val="185e1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31"/>
          <p:cNvSpPr/>
          <p:nvPr/>
        </p:nvSpPr>
        <p:spPr>
          <a:xfrm>
            <a:off x="1835280" y="4365720"/>
            <a:ext cx="576000" cy="287280"/>
          </a:xfrm>
          <a:prstGeom prst="rect">
            <a:avLst/>
          </a:prstGeom>
          <a:gradFill rotWithShape="0">
            <a:gsLst>
              <a:gs pos="0">
                <a:srgbClr val="185e18"/>
              </a:gs>
              <a:gs pos="50000">
                <a:srgbClr val="33cc33"/>
              </a:gs>
              <a:gs pos="100000">
                <a:srgbClr val="185e1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32"/>
          <p:cNvSpPr/>
          <p:nvPr/>
        </p:nvSpPr>
        <p:spPr>
          <a:xfrm>
            <a:off x="2627280" y="4365720"/>
            <a:ext cx="576360" cy="287280"/>
          </a:xfrm>
          <a:prstGeom prst="rect">
            <a:avLst/>
          </a:prstGeom>
          <a:gradFill rotWithShape="0">
            <a:gsLst>
              <a:gs pos="0">
                <a:srgbClr val="185e18"/>
              </a:gs>
              <a:gs pos="50000">
                <a:srgbClr val="33cc33"/>
              </a:gs>
              <a:gs pos="100000">
                <a:srgbClr val="185e1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33"/>
          <p:cNvSpPr/>
          <p:nvPr/>
        </p:nvSpPr>
        <p:spPr>
          <a:xfrm>
            <a:off x="3421080" y="2205000"/>
            <a:ext cx="2087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ffff00"/>
                </a:solidFill>
                <a:latin typeface="ALFABET98"/>
              </a:rPr>
              <a:t>eksil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34"/>
          <p:cNvSpPr/>
          <p:nvPr/>
        </p:nvSpPr>
        <p:spPr>
          <a:xfrm>
            <a:off x="5003640" y="2205000"/>
            <a:ext cx="2089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ffff00"/>
                </a:solidFill>
                <a:latin typeface="ALFABET98"/>
              </a:rPr>
              <a:t>çık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35"/>
          <p:cNvSpPr/>
          <p:nvPr/>
        </p:nvSpPr>
        <p:spPr>
          <a:xfrm>
            <a:off x="6764400" y="2205000"/>
            <a:ext cx="16239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ffff00"/>
                </a:solidFill>
                <a:latin typeface="ALFABET98"/>
              </a:rPr>
              <a:t>kal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36"/>
          <p:cNvSpPr/>
          <p:nvPr/>
        </p:nvSpPr>
        <p:spPr>
          <a:xfrm>
            <a:off x="2700360" y="3716280"/>
            <a:ext cx="576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40"/>
          <p:cNvSpPr/>
          <p:nvPr/>
        </p:nvSpPr>
        <p:spPr>
          <a:xfrm flipH="1">
            <a:off x="3203640" y="5373720"/>
            <a:ext cx="1730160" cy="719280"/>
          </a:xfrm>
          <a:custGeom>
            <a:avLst/>
            <a:gdLst>
              <a:gd name="textAreaLeft" fmla="*/ 364320 w 1730160"/>
              <a:gd name="textAreaRight" fmla="*/ 1209960 w 1730160"/>
              <a:gd name="textAreaTop" fmla="*/ 96120 h 719280"/>
              <a:gd name="textAreaBottom" fmla="*/ 62316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088" hR="21600" stAng="10800000" swAng="-5400000"/>
                <a:lnTo>
                  <a:pt x="10555" y="21600"/>
                </a:lnTo>
                <a:arcTo wR="9088" hR="21600" stAng="5400000" swAng="-3184383"/>
                <a:lnTo>
                  <a:pt x="21177" y="6512"/>
                </a:lnTo>
                <a:lnTo>
                  <a:pt x="18909" y="0"/>
                </a:lnTo>
                <a:lnTo>
                  <a:pt x="15794" y="6512"/>
                </a:lnTo>
                <a:lnTo>
                  <a:pt x="17752" y="6512"/>
                </a:lnTo>
                <a:arcTo wR="9088" hR="21600" stAng="2215617" swAng="3067306"/>
                <a:lnTo>
                  <a:pt x="9821" y="21530"/>
                </a:lnTo>
                <a:arcTo wR="9088" hR="21600" stAng="5517077" swAng="5282923"/>
                <a:close/>
              </a:path>
              <a:path fill="darkenLess" w="21600" h="21600">
                <a:moveTo>
                  <a:pt x="0" y="0"/>
                </a:moveTo>
                <a:arcTo wR="9088" hR="21600" stAng="10800000" swAng="-5400000"/>
                <a:lnTo>
                  <a:pt x="10555" y="21600"/>
                </a:lnTo>
                <a:arcTo wR="9088" hR="21600" stAng="5400000" swAng="117077"/>
                <a:lnTo>
                  <a:pt x="9821" y="21530"/>
                </a:lnTo>
                <a:arcTo wR="9088" hR="21600" stAng="5517077" swAng="5282923"/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41"/>
          <p:cNvSpPr/>
          <p:nvPr/>
        </p:nvSpPr>
        <p:spPr>
          <a:xfrm>
            <a:off x="3924360" y="5445000"/>
            <a:ext cx="503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42"/>
          <p:cNvSpPr/>
          <p:nvPr/>
        </p:nvSpPr>
        <p:spPr>
          <a:xfrm>
            <a:off x="7093080" y="836640"/>
            <a:ext cx="122400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9600" spc="-1" strike="noStrike">
                <a:solidFill>
                  <a:srgbClr val="00ffcc"/>
                </a:solidFill>
                <a:latin typeface="ALFABET98"/>
              </a:rPr>
              <a:t>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43"/>
          <p:cNvSpPr/>
          <p:nvPr/>
        </p:nvSpPr>
        <p:spPr>
          <a:xfrm>
            <a:off x="6877080" y="6021360"/>
            <a:ext cx="1800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cc9900"/>
                </a:solidFill>
                <a:latin typeface="Arial"/>
              </a:rPr>
              <a:t>HİKMET SIR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44"/>
          <p:cNvSpPr/>
          <p:nvPr/>
        </p:nvSpPr>
        <p:spPr>
          <a:xfrm>
            <a:off x="1908000" y="3141720"/>
            <a:ext cx="2087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ffff00"/>
                </a:solidFill>
                <a:latin typeface="ALFABET98"/>
              </a:rPr>
              <a:t>eksil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45"/>
          <p:cNvSpPr/>
          <p:nvPr/>
        </p:nvSpPr>
        <p:spPr>
          <a:xfrm>
            <a:off x="3276720" y="6165720"/>
            <a:ext cx="208908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ffff00"/>
                </a:solidFill>
                <a:latin typeface="ALFABET98"/>
              </a:rPr>
              <a:t>çık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46"/>
          <p:cNvSpPr/>
          <p:nvPr/>
        </p:nvSpPr>
        <p:spPr>
          <a:xfrm>
            <a:off x="1403280" y="6237360"/>
            <a:ext cx="16239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ffff00"/>
                </a:solidFill>
                <a:latin typeface="ALFABET98"/>
              </a:rPr>
              <a:t>kal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47"/>
          <p:cNvSpPr/>
          <p:nvPr/>
        </p:nvSpPr>
        <p:spPr>
          <a:xfrm>
            <a:off x="971640" y="5445000"/>
            <a:ext cx="2663640" cy="719280"/>
          </a:xfrm>
          <a:custGeom>
            <a:avLst/>
            <a:gdLst>
              <a:gd name="textAreaLeft" fmla="*/ 560160 w 2663640"/>
              <a:gd name="textAreaRight" fmla="*/ 1861920 w 2663640"/>
              <a:gd name="textAreaTop" fmla="*/ 96120 h 719280"/>
              <a:gd name="textAreaBottom" fmla="*/ 62316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088" hR="21600" stAng="10800000" swAng="-5400000"/>
                <a:lnTo>
                  <a:pt x="10555" y="21600"/>
                </a:lnTo>
                <a:arcTo wR="9088" hR="21600" stAng="5400000" swAng="-3184383"/>
                <a:lnTo>
                  <a:pt x="21177" y="6512"/>
                </a:lnTo>
                <a:lnTo>
                  <a:pt x="18909" y="0"/>
                </a:lnTo>
                <a:lnTo>
                  <a:pt x="15794" y="6512"/>
                </a:lnTo>
                <a:lnTo>
                  <a:pt x="17752" y="6512"/>
                </a:lnTo>
                <a:arcTo wR="9088" hR="21600" stAng="2215617" swAng="3067306"/>
                <a:lnTo>
                  <a:pt x="9821" y="21530"/>
                </a:lnTo>
                <a:arcTo wR="9088" hR="21600" stAng="5517077" swAng="5282923"/>
                <a:close/>
              </a:path>
              <a:path fill="darkenLess" w="21600" h="21600">
                <a:moveTo>
                  <a:pt x="0" y="0"/>
                </a:moveTo>
                <a:arcTo wR="9088" hR="21600" stAng="10800000" swAng="-5400000"/>
                <a:lnTo>
                  <a:pt x="10555" y="21600"/>
                </a:lnTo>
                <a:arcTo wR="9088" hR="21600" stAng="5400000" swAng="117077"/>
                <a:lnTo>
                  <a:pt x="9821" y="21530"/>
                </a:lnTo>
                <a:arcTo wR="9088" hR="21600" stAng="5517077" swAng="5282923"/>
                <a:close/>
              </a:path>
            </a:pathLst>
          </a:custGeom>
          <a:gradFill rotWithShape="0">
            <a:gsLst>
              <a:gs pos="0">
                <a:srgbClr val="00765e"/>
              </a:gs>
              <a:gs pos="50000">
                <a:srgbClr val="00ffcc"/>
              </a:gs>
              <a:gs pos="100000">
                <a:srgbClr val="00765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48"/>
          <p:cNvSpPr/>
          <p:nvPr/>
        </p:nvSpPr>
        <p:spPr>
          <a:xfrm>
            <a:off x="3419640" y="4365720"/>
            <a:ext cx="504720" cy="287280"/>
          </a:xfrm>
          <a:prstGeom prst="rect">
            <a:avLst/>
          </a:prstGeom>
          <a:gradFill rotWithShape="0">
            <a:gsLst>
              <a:gs pos="0">
                <a:srgbClr val="185e18"/>
              </a:gs>
              <a:gs pos="50000">
                <a:srgbClr val="33cc33"/>
              </a:gs>
              <a:gs pos="100000">
                <a:srgbClr val="185e1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49"/>
          <p:cNvSpPr/>
          <p:nvPr/>
        </p:nvSpPr>
        <p:spPr>
          <a:xfrm>
            <a:off x="4140360" y="4365720"/>
            <a:ext cx="576000" cy="287280"/>
          </a:xfrm>
          <a:prstGeom prst="rect">
            <a:avLst/>
          </a:prstGeom>
          <a:gradFill rotWithShape="0">
            <a:gsLst>
              <a:gs pos="0">
                <a:srgbClr val="185e18"/>
              </a:gs>
              <a:gs pos="50000">
                <a:srgbClr val="33cc33"/>
              </a:gs>
              <a:gs pos="100000">
                <a:srgbClr val="185e1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50"/>
          <p:cNvSpPr/>
          <p:nvPr/>
        </p:nvSpPr>
        <p:spPr>
          <a:xfrm>
            <a:off x="1908000" y="5445000"/>
            <a:ext cx="503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00ffcc"/>
                </a:solidFill>
                <a:latin typeface="Arial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51"/>
          <p:cNvSpPr/>
          <p:nvPr/>
        </p:nvSpPr>
        <p:spPr>
          <a:xfrm>
            <a:off x="179280" y="115920"/>
            <a:ext cx="1800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HİKMET SIR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0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1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2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3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4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5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6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7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8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9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0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1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2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3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4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5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6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7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8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9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0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1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2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3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4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5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6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7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8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9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0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1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2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3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4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5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6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7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8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9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6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7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8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9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0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1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2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3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36" dur="100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100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2" dur="10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xit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314" dur="50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1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3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3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0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41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5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46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755640" y="4797000"/>
            <a:ext cx="50328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00"/>
                </a:solidFill>
                <a:latin typeface="Arial"/>
              </a:rPr>
              <a:t>0</a:t>
            </a:r>
            <a:endParaRPr b="0" lang="en-US" sz="4400" spc="-1" strike="noStrike">
              <a:solidFill>
                <a:srgbClr val="efcfdf"/>
              </a:solidFill>
              <a:latin typeface="Arial"/>
            </a:endParaRPr>
          </a:p>
        </p:txBody>
      </p:sp>
      <p:sp>
        <p:nvSpPr>
          <p:cNvPr id="160" name="Line 3"/>
          <p:cNvSpPr/>
          <p:nvPr/>
        </p:nvSpPr>
        <p:spPr>
          <a:xfrm>
            <a:off x="395280" y="4508640"/>
            <a:ext cx="8424720" cy="0"/>
          </a:xfrm>
          <a:prstGeom prst="line">
            <a:avLst/>
          </a:prstGeom>
          <a:ln w="193680">
            <a:solidFill>
              <a:srgbClr val="00cc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4"/>
          <p:cNvSpPr/>
          <p:nvPr/>
        </p:nvSpPr>
        <p:spPr>
          <a:xfrm>
            <a:off x="900000" y="4437000"/>
            <a:ext cx="217440" cy="193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5"/>
          <p:cNvSpPr/>
          <p:nvPr/>
        </p:nvSpPr>
        <p:spPr>
          <a:xfrm>
            <a:off x="1617840" y="4437000"/>
            <a:ext cx="217440" cy="193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6"/>
          <p:cNvSpPr/>
          <p:nvPr/>
        </p:nvSpPr>
        <p:spPr>
          <a:xfrm>
            <a:off x="2409840" y="4437000"/>
            <a:ext cx="217440" cy="193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7"/>
          <p:cNvSpPr/>
          <p:nvPr/>
        </p:nvSpPr>
        <p:spPr>
          <a:xfrm>
            <a:off x="3201840" y="4437000"/>
            <a:ext cx="217800" cy="193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8"/>
          <p:cNvSpPr/>
          <p:nvPr/>
        </p:nvSpPr>
        <p:spPr>
          <a:xfrm>
            <a:off x="3922560" y="4437000"/>
            <a:ext cx="217800" cy="193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Oval 9"/>
          <p:cNvSpPr/>
          <p:nvPr/>
        </p:nvSpPr>
        <p:spPr>
          <a:xfrm>
            <a:off x="4714920" y="4437000"/>
            <a:ext cx="217440" cy="193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Oval 10"/>
          <p:cNvSpPr/>
          <p:nvPr/>
        </p:nvSpPr>
        <p:spPr>
          <a:xfrm>
            <a:off x="5506920" y="4437000"/>
            <a:ext cx="217440" cy="193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Oval 11"/>
          <p:cNvSpPr/>
          <p:nvPr/>
        </p:nvSpPr>
        <p:spPr>
          <a:xfrm>
            <a:off x="6370560" y="4437000"/>
            <a:ext cx="217440" cy="193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Oval 12"/>
          <p:cNvSpPr/>
          <p:nvPr/>
        </p:nvSpPr>
        <p:spPr>
          <a:xfrm>
            <a:off x="7162920" y="4437000"/>
            <a:ext cx="217440" cy="193680"/>
          </a:xfrm>
          <a:prstGeom prst="ellipse">
            <a:avLst/>
          </a:prstGeom>
          <a:solidFill>
            <a:srgbClr val="000000">
              <a:alpha val="9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Oval 13"/>
          <p:cNvSpPr/>
          <p:nvPr/>
        </p:nvSpPr>
        <p:spPr>
          <a:xfrm>
            <a:off x="8026560" y="4437000"/>
            <a:ext cx="217440" cy="193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14"/>
          <p:cNvSpPr/>
          <p:nvPr/>
        </p:nvSpPr>
        <p:spPr>
          <a:xfrm>
            <a:off x="1476360" y="4797360"/>
            <a:ext cx="503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00"/>
                </a:solidFill>
                <a:latin typeface="Arial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15"/>
          <p:cNvSpPr/>
          <p:nvPr/>
        </p:nvSpPr>
        <p:spPr>
          <a:xfrm>
            <a:off x="2268360" y="4797360"/>
            <a:ext cx="503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00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6"/>
          <p:cNvSpPr/>
          <p:nvPr/>
        </p:nvSpPr>
        <p:spPr>
          <a:xfrm>
            <a:off x="3060720" y="4797360"/>
            <a:ext cx="503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00"/>
                </a:solidFill>
                <a:latin typeface="Arial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17"/>
          <p:cNvSpPr/>
          <p:nvPr/>
        </p:nvSpPr>
        <p:spPr>
          <a:xfrm>
            <a:off x="3780000" y="4797360"/>
            <a:ext cx="5029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00"/>
                </a:solidFill>
                <a:latin typeface="Arial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18"/>
          <p:cNvSpPr/>
          <p:nvPr/>
        </p:nvSpPr>
        <p:spPr>
          <a:xfrm>
            <a:off x="4573440" y="4797360"/>
            <a:ext cx="503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00"/>
                </a:solidFill>
                <a:latin typeface="Arial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19"/>
          <p:cNvSpPr/>
          <p:nvPr/>
        </p:nvSpPr>
        <p:spPr>
          <a:xfrm>
            <a:off x="5364000" y="4724280"/>
            <a:ext cx="503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00"/>
                </a:solidFill>
                <a:latin typeface="Arial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20"/>
          <p:cNvSpPr/>
          <p:nvPr/>
        </p:nvSpPr>
        <p:spPr>
          <a:xfrm>
            <a:off x="6227640" y="4724280"/>
            <a:ext cx="503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00"/>
                </a:solidFill>
                <a:latin typeface="Arial"/>
              </a:rPr>
              <a:t>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21"/>
          <p:cNvSpPr/>
          <p:nvPr/>
        </p:nvSpPr>
        <p:spPr>
          <a:xfrm>
            <a:off x="7093080" y="4724280"/>
            <a:ext cx="503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00"/>
                </a:solidFill>
                <a:latin typeface="Arial"/>
              </a:rPr>
              <a:t>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22"/>
          <p:cNvSpPr/>
          <p:nvPr/>
        </p:nvSpPr>
        <p:spPr>
          <a:xfrm>
            <a:off x="7956720" y="4724280"/>
            <a:ext cx="5029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00"/>
                </a:solidFill>
                <a:latin typeface="Arial"/>
              </a:rPr>
              <a:t>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23"/>
          <p:cNvSpPr/>
          <p:nvPr/>
        </p:nvSpPr>
        <p:spPr>
          <a:xfrm>
            <a:off x="3852720" y="907920"/>
            <a:ext cx="1295640" cy="12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9600" spc="-1" strike="noStrike">
                <a:solidFill>
                  <a:srgbClr val="0000ff"/>
                </a:solidFill>
                <a:latin typeface="ALFABET98"/>
              </a:rPr>
              <a:t>8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24"/>
          <p:cNvSpPr/>
          <p:nvPr/>
        </p:nvSpPr>
        <p:spPr>
          <a:xfrm>
            <a:off x="4716360" y="763560"/>
            <a:ext cx="935280" cy="12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9600" spc="-1" strike="noStrike">
                <a:solidFill>
                  <a:srgbClr val="ffff00"/>
                </a:solidFill>
                <a:latin typeface="ALFABET98"/>
              </a:rPr>
              <a:t>-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25"/>
          <p:cNvSpPr/>
          <p:nvPr/>
        </p:nvSpPr>
        <p:spPr>
          <a:xfrm>
            <a:off x="5364000" y="907920"/>
            <a:ext cx="1295640" cy="12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9600" spc="-1" strike="noStrike">
                <a:solidFill>
                  <a:srgbClr val="0000ff"/>
                </a:solidFill>
                <a:latin typeface="ALFABET98"/>
              </a:rPr>
              <a:t>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26"/>
          <p:cNvSpPr/>
          <p:nvPr/>
        </p:nvSpPr>
        <p:spPr>
          <a:xfrm>
            <a:off x="6156360" y="763560"/>
            <a:ext cx="1295280" cy="12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9600" spc="-1" strike="noStrike">
                <a:solidFill>
                  <a:srgbClr val="ffff00"/>
                </a:solidFill>
                <a:latin typeface="ALFABET98"/>
              </a:rPr>
              <a:t>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27"/>
          <p:cNvSpPr/>
          <p:nvPr/>
        </p:nvSpPr>
        <p:spPr>
          <a:xfrm>
            <a:off x="6948360" y="836640"/>
            <a:ext cx="1295640" cy="12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9600" spc="-1" strike="noStrike">
                <a:solidFill>
                  <a:srgbClr val="00ffcc"/>
                </a:solidFill>
                <a:latin typeface="ALFABET98"/>
              </a:rPr>
              <a:t>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28"/>
          <p:cNvSpPr/>
          <p:nvPr/>
        </p:nvSpPr>
        <p:spPr>
          <a:xfrm>
            <a:off x="971640" y="3645000"/>
            <a:ext cx="7777080" cy="720720"/>
          </a:xfrm>
          <a:custGeom>
            <a:avLst/>
            <a:gdLst>
              <a:gd name="textAreaLeft" fmla="*/ 1470240 w 7777080"/>
              <a:gd name="textAreaRight" fmla="*/ 5092560 w 7777080"/>
              <a:gd name="textAreaTop" fmla="*/ 96480 h 720720"/>
              <a:gd name="textAreaBottom" fmla="*/ 624240 h 720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167" hR="21600" stAng="10800000" swAng="5400000"/>
                <a:lnTo>
                  <a:pt x="10061" y="0"/>
                </a:lnTo>
                <a:arcTo wR="8167" hR="21600" stAng="-5400000" swAng="3658116"/>
                <a:lnTo>
                  <a:pt x="21426" y="17164"/>
                </a:lnTo>
                <a:lnTo>
                  <a:pt x="17280" y="21600"/>
                </a:lnTo>
                <a:lnTo>
                  <a:pt x="12786" y="17164"/>
                </a:lnTo>
                <a:lnTo>
                  <a:pt x="16159" y="17164"/>
                </a:lnTo>
                <a:arcTo wR="8167" hR="21600" stAng="-1741884" swAng="-3506471"/>
                <a:lnTo>
                  <a:pt x="9114" y="146"/>
                </a:lnTo>
                <a:arcTo wR="8167" hR="21600" stAng="-5551645" swAng="-5248355"/>
                <a:close/>
              </a:path>
              <a:path fill="darkenLess" w="21600" h="21600">
                <a:moveTo>
                  <a:pt x="0" y="21600"/>
                </a:moveTo>
                <a:arcTo wR="8167" hR="21600" stAng="10800000" swAng="5400000"/>
                <a:lnTo>
                  <a:pt x="8167" y="0"/>
                </a:lnTo>
                <a:arcTo wR="8167" hR="21600" stAng="-5400000" swAng="151645"/>
                <a:lnTo>
                  <a:pt x="9114" y="146"/>
                </a:lnTo>
                <a:arcTo wR="8167" hR="21600" stAng="-5551645" swAng="-5248355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29"/>
          <p:cNvSpPr/>
          <p:nvPr/>
        </p:nvSpPr>
        <p:spPr>
          <a:xfrm>
            <a:off x="1116000" y="4365720"/>
            <a:ext cx="503280" cy="287280"/>
          </a:xfrm>
          <a:prstGeom prst="rect">
            <a:avLst/>
          </a:prstGeom>
          <a:gradFill rotWithShape="0">
            <a:gsLst>
              <a:gs pos="0">
                <a:srgbClr val="185e18"/>
              </a:gs>
              <a:gs pos="50000">
                <a:srgbClr val="33cc33"/>
              </a:gs>
              <a:gs pos="100000">
                <a:srgbClr val="185e1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30"/>
          <p:cNvSpPr/>
          <p:nvPr/>
        </p:nvSpPr>
        <p:spPr>
          <a:xfrm>
            <a:off x="1835280" y="4365720"/>
            <a:ext cx="576000" cy="287280"/>
          </a:xfrm>
          <a:prstGeom prst="rect">
            <a:avLst/>
          </a:prstGeom>
          <a:gradFill rotWithShape="0">
            <a:gsLst>
              <a:gs pos="0">
                <a:srgbClr val="185e18"/>
              </a:gs>
              <a:gs pos="50000">
                <a:srgbClr val="33cc33"/>
              </a:gs>
              <a:gs pos="100000">
                <a:srgbClr val="185e1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31"/>
          <p:cNvSpPr/>
          <p:nvPr/>
        </p:nvSpPr>
        <p:spPr>
          <a:xfrm>
            <a:off x="2627280" y="4365720"/>
            <a:ext cx="576360" cy="287280"/>
          </a:xfrm>
          <a:prstGeom prst="rect">
            <a:avLst/>
          </a:prstGeom>
          <a:gradFill rotWithShape="0">
            <a:gsLst>
              <a:gs pos="0">
                <a:srgbClr val="185e18"/>
              </a:gs>
              <a:gs pos="50000">
                <a:srgbClr val="33cc33"/>
              </a:gs>
              <a:gs pos="100000">
                <a:srgbClr val="185e1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32"/>
          <p:cNvSpPr/>
          <p:nvPr/>
        </p:nvSpPr>
        <p:spPr>
          <a:xfrm>
            <a:off x="3421080" y="2205000"/>
            <a:ext cx="2087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ffff00"/>
                </a:solidFill>
                <a:latin typeface="ALFABET98"/>
              </a:rPr>
              <a:t>eksil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33"/>
          <p:cNvSpPr/>
          <p:nvPr/>
        </p:nvSpPr>
        <p:spPr>
          <a:xfrm>
            <a:off x="5003640" y="2205000"/>
            <a:ext cx="2089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ffff00"/>
                </a:solidFill>
                <a:latin typeface="ALFABET98"/>
              </a:rPr>
              <a:t>çık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34"/>
          <p:cNvSpPr/>
          <p:nvPr/>
        </p:nvSpPr>
        <p:spPr>
          <a:xfrm>
            <a:off x="6764400" y="2205000"/>
            <a:ext cx="16239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ffff00"/>
                </a:solidFill>
                <a:latin typeface="ALFABET98"/>
              </a:rPr>
              <a:t>kal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35"/>
          <p:cNvSpPr/>
          <p:nvPr/>
        </p:nvSpPr>
        <p:spPr>
          <a:xfrm>
            <a:off x="3924360" y="3645000"/>
            <a:ext cx="5763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99ff"/>
                </a:solidFill>
                <a:latin typeface="Arial"/>
              </a:rPr>
              <a:t>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36"/>
          <p:cNvSpPr/>
          <p:nvPr/>
        </p:nvSpPr>
        <p:spPr>
          <a:xfrm flipH="1">
            <a:off x="4571280" y="5373720"/>
            <a:ext cx="2809800" cy="719280"/>
          </a:xfrm>
          <a:custGeom>
            <a:avLst/>
            <a:gdLst>
              <a:gd name="textAreaLeft" fmla="*/ 590760 w 2809800"/>
              <a:gd name="textAreaRight" fmla="*/ 1963800 w 2809800"/>
              <a:gd name="textAreaTop" fmla="*/ 96120 h 719280"/>
              <a:gd name="textAreaBottom" fmla="*/ 62316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088" hR="21600" stAng="10800000" swAng="-5400000"/>
                <a:lnTo>
                  <a:pt x="10555" y="21600"/>
                </a:lnTo>
                <a:arcTo wR="9088" hR="21600" stAng="5400000" swAng="-3184383"/>
                <a:lnTo>
                  <a:pt x="21177" y="6512"/>
                </a:lnTo>
                <a:lnTo>
                  <a:pt x="18909" y="0"/>
                </a:lnTo>
                <a:lnTo>
                  <a:pt x="15794" y="6512"/>
                </a:lnTo>
                <a:lnTo>
                  <a:pt x="17752" y="6512"/>
                </a:lnTo>
                <a:arcTo wR="9088" hR="21600" stAng="2215617" swAng="3067306"/>
                <a:lnTo>
                  <a:pt x="9821" y="21530"/>
                </a:lnTo>
                <a:arcTo wR="9088" hR="21600" stAng="5517077" swAng="5282923"/>
                <a:close/>
              </a:path>
              <a:path fill="darkenLess" w="21600" h="21600">
                <a:moveTo>
                  <a:pt x="0" y="0"/>
                </a:moveTo>
                <a:arcTo wR="9088" hR="21600" stAng="10800000" swAng="-5400000"/>
                <a:lnTo>
                  <a:pt x="10555" y="21600"/>
                </a:lnTo>
                <a:arcTo wR="9088" hR="21600" stAng="5400000" swAng="117077"/>
                <a:lnTo>
                  <a:pt x="9821" y="21530"/>
                </a:lnTo>
                <a:arcTo wR="9088" hR="21600" stAng="5517077" swAng="5282923"/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37"/>
          <p:cNvSpPr/>
          <p:nvPr/>
        </p:nvSpPr>
        <p:spPr>
          <a:xfrm>
            <a:off x="5940360" y="5445000"/>
            <a:ext cx="503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0099cc"/>
                </a:solidFill>
                <a:latin typeface="Arial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38"/>
          <p:cNvSpPr/>
          <p:nvPr/>
        </p:nvSpPr>
        <p:spPr>
          <a:xfrm>
            <a:off x="7020000" y="836640"/>
            <a:ext cx="122400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9600" spc="-1" strike="noStrike">
                <a:solidFill>
                  <a:srgbClr val="ffff00"/>
                </a:solidFill>
                <a:latin typeface="ALFABET98"/>
              </a:rPr>
              <a:t>5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39"/>
          <p:cNvSpPr/>
          <p:nvPr/>
        </p:nvSpPr>
        <p:spPr>
          <a:xfrm>
            <a:off x="179280" y="115920"/>
            <a:ext cx="1800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HİKMET SIR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40"/>
          <p:cNvSpPr/>
          <p:nvPr/>
        </p:nvSpPr>
        <p:spPr>
          <a:xfrm>
            <a:off x="3205080" y="3141720"/>
            <a:ext cx="2087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ffff00"/>
                </a:solidFill>
                <a:latin typeface="ALFABET98"/>
              </a:rPr>
              <a:t>eksil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41"/>
          <p:cNvSpPr/>
          <p:nvPr/>
        </p:nvSpPr>
        <p:spPr>
          <a:xfrm>
            <a:off x="5219640" y="6165720"/>
            <a:ext cx="208908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ffff00"/>
                </a:solidFill>
                <a:latin typeface="ALFABET98"/>
              </a:rPr>
              <a:t>çık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42"/>
          <p:cNvSpPr/>
          <p:nvPr/>
        </p:nvSpPr>
        <p:spPr>
          <a:xfrm>
            <a:off x="2195640" y="6237360"/>
            <a:ext cx="16239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ffff00"/>
                </a:solidFill>
                <a:latin typeface="ALFABET98"/>
              </a:rPr>
              <a:t>kal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AutoShape 43"/>
          <p:cNvSpPr/>
          <p:nvPr/>
        </p:nvSpPr>
        <p:spPr>
          <a:xfrm>
            <a:off x="971640" y="5445000"/>
            <a:ext cx="4392360" cy="719280"/>
          </a:xfrm>
          <a:custGeom>
            <a:avLst/>
            <a:gdLst>
              <a:gd name="textAreaLeft" fmla="*/ 923760 w 4392360"/>
              <a:gd name="textAreaRight" fmla="*/ 3070440 w 4392360"/>
              <a:gd name="textAreaTop" fmla="*/ 96120 h 719280"/>
              <a:gd name="textAreaBottom" fmla="*/ 62316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088" hR="21600" stAng="10800000" swAng="-5400000"/>
                <a:lnTo>
                  <a:pt x="10555" y="21600"/>
                </a:lnTo>
                <a:arcTo wR="9088" hR="21600" stAng="5400000" swAng="-3184383"/>
                <a:lnTo>
                  <a:pt x="21177" y="6512"/>
                </a:lnTo>
                <a:lnTo>
                  <a:pt x="18909" y="0"/>
                </a:lnTo>
                <a:lnTo>
                  <a:pt x="15794" y="6512"/>
                </a:lnTo>
                <a:lnTo>
                  <a:pt x="17752" y="6512"/>
                </a:lnTo>
                <a:arcTo wR="9088" hR="21600" stAng="2215617" swAng="3067306"/>
                <a:lnTo>
                  <a:pt x="9821" y="21530"/>
                </a:lnTo>
                <a:arcTo wR="9088" hR="21600" stAng="5517077" swAng="5282923"/>
                <a:close/>
              </a:path>
              <a:path fill="darkenLess" w="21600" h="21600">
                <a:moveTo>
                  <a:pt x="0" y="0"/>
                </a:moveTo>
                <a:arcTo wR="9088" hR="21600" stAng="10800000" swAng="-5400000"/>
                <a:lnTo>
                  <a:pt x="10555" y="21600"/>
                </a:lnTo>
                <a:arcTo wR="9088" hR="21600" stAng="5400000" swAng="117077"/>
                <a:lnTo>
                  <a:pt x="9821" y="21530"/>
                </a:lnTo>
                <a:arcTo wR="9088" hR="21600" stAng="5517077" swAng="5282923"/>
                <a:close/>
              </a:path>
            </a:pathLst>
          </a:custGeom>
          <a:gradFill rotWithShape="0">
            <a:gsLst>
              <a:gs pos="0">
                <a:srgbClr val="00765e"/>
              </a:gs>
              <a:gs pos="50000">
                <a:srgbClr val="00ffcc"/>
              </a:gs>
              <a:gs pos="100000">
                <a:srgbClr val="00765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44"/>
          <p:cNvSpPr/>
          <p:nvPr/>
        </p:nvSpPr>
        <p:spPr>
          <a:xfrm>
            <a:off x="3419640" y="4365720"/>
            <a:ext cx="504720" cy="287280"/>
          </a:xfrm>
          <a:prstGeom prst="rect">
            <a:avLst/>
          </a:prstGeom>
          <a:gradFill rotWithShape="0">
            <a:gsLst>
              <a:gs pos="0">
                <a:srgbClr val="185e18"/>
              </a:gs>
              <a:gs pos="50000">
                <a:srgbClr val="33cc33"/>
              </a:gs>
              <a:gs pos="100000">
                <a:srgbClr val="185e1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45"/>
          <p:cNvSpPr/>
          <p:nvPr/>
        </p:nvSpPr>
        <p:spPr>
          <a:xfrm>
            <a:off x="4140360" y="4365720"/>
            <a:ext cx="576000" cy="287280"/>
          </a:xfrm>
          <a:prstGeom prst="rect">
            <a:avLst/>
          </a:prstGeom>
          <a:gradFill rotWithShape="0">
            <a:gsLst>
              <a:gs pos="0">
                <a:srgbClr val="185e18"/>
              </a:gs>
              <a:gs pos="50000">
                <a:srgbClr val="33cc33"/>
              </a:gs>
              <a:gs pos="100000">
                <a:srgbClr val="185e1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46"/>
          <p:cNvSpPr/>
          <p:nvPr/>
        </p:nvSpPr>
        <p:spPr>
          <a:xfrm>
            <a:off x="2700360" y="5516640"/>
            <a:ext cx="503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00ffcc"/>
                </a:solidFill>
                <a:latin typeface="Arial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47"/>
          <p:cNvSpPr/>
          <p:nvPr/>
        </p:nvSpPr>
        <p:spPr>
          <a:xfrm>
            <a:off x="4932360" y="4365720"/>
            <a:ext cx="576360" cy="287280"/>
          </a:xfrm>
          <a:prstGeom prst="rect">
            <a:avLst/>
          </a:prstGeom>
          <a:gradFill rotWithShape="0">
            <a:gsLst>
              <a:gs pos="0">
                <a:srgbClr val="185e18"/>
              </a:gs>
              <a:gs pos="50000">
                <a:srgbClr val="33cc33"/>
              </a:gs>
              <a:gs pos="100000">
                <a:srgbClr val="185e1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48"/>
          <p:cNvSpPr/>
          <p:nvPr/>
        </p:nvSpPr>
        <p:spPr>
          <a:xfrm>
            <a:off x="5724360" y="4365720"/>
            <a:ext cx="648000" cy="287280"/>
          </a:xfrm>
          <a:prstGeom prst="rect">
            <a:avLst/>
          </a:prstGeom>
          <a:gradFill rotWithShape="0">
            <a:gsLst>
              <a:gs pos="0">
                <a:srgbClr val="185e18"/>
              </a:gs>
              <a:gs pos="50000">
                <a:srgbClr val="33cc33"/>
              </a:gs>
              <a:gs pos="100000">
                <a:srgbClr val="185e1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49"/>
          <p:cNvSpPr/>
          <p:nvPr/>
        </p:nvSpPr>
        <p:spPr>
          <a:xfrm>
            <a:off x="6588000" y="4365720"/>
            <a:ext cx="576360" cy="287280"/>
          </a:xfrm>
          <a:prstGeom prst="rect">
            <a:avLst/>
          </a:prstGeom>
          <a:gradFill rotWithShape="0">
            <a:gsLst>
              <a:gs pos="0">
                <a:srgbClr val="185e18"/>
              </a:gs>
              <a:gs pos="50000">
                <a:srgbClr val="33cc33"/>
              </a:gs>
              <a:gs pos="100000">
                <a:srgbClr val="185e1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6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4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3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1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0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5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6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1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2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3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4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5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6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7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8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4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9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50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1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2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3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4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5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6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1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2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7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8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9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70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1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72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3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4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9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0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5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6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7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8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9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90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1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92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7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8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03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04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5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06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7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08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9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10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5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6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1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2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3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4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5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6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7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28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3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4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39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40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1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42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3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44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5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46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1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2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57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58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9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60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1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62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3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64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5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6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81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82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3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84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5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86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7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88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7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01" dur="50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07" dur="50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50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13" dur="50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6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7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32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33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4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35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6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37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8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39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8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9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0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65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66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7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68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9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70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1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72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1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xit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685" dur="50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50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50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88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4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5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00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01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2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03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4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05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6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07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11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712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16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717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755640" y="4797000"/>
            <a:ext cx="50328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00"/>
                </a:solidFill>
                <a:latin typeface="Arial"/>
              </a:rPr>
              <a:t>0</a:t>
            </a:r>
            <a:endParaRPr b="0" lang="en-US" sz="4400" spc="-1" strike="noStrike">
              <a:solidFill>
                <a:srgbClr val="efcfdf"/>
              </a:solidFill>
              <a:latin typeface="Arial"/>
            </a:endParaRPr>
          </a:p>
        </p:txBody>
      </p:sp>
      <p:sp>
        <p:nvSpPr>
          <p:cNvPr id="208" name="Line 3"/>
          <p:cNvSpPr/>
          <p:nvPr/>
        </p:nvSpPr>
        <p:spPr>
          <a:xfrm>
            <a:off x="395280" y="4508640"/>
            <a:ext cx="8424720" cy="0"/>
          </a:xfrm>
          <a:prstGeom prst="line">
            <a:avLst/>
          </a:prstGeom>
          <a:ln w="193680">
            <a:solidFill>
              <a:srgbClr val="00cc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l 4"/>
          <p:cNvSpPr/>
          <p:nvPr/>
        </p:nvSpPr>
        <p:spPr>
          <a:xfrm>
            <a:off x="900000" y="4437000"/>
            <a:ext cx="217440" cy="193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5"/>
          <p:cNvSpPr/>
          <p:nvPr/>
        </p:nvSpPr>
        <p:spPr>
          <a:xfrm>
            <a:off x="1617840" y="4437000"/>
            <a:ext cx="217440" cy="193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Oval 6"/>
          <p:cNvSpPr/>
          <p:nvPr/>
        </p:nvSpPr>
        <p:spPr>
          <a:xfrm>
            <a:off x="2409840" y="4437000"/>
            <a:ext cx="217440" cy="193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Oval 7"/>
          <p:cNvSpPr/>
          <p:nvPr/>
        </p:nvSpPr>
        <p:spPr>
          <a:xfrm>
            <a:off x="3201840" y="4437000"/>
            <a:ext cx="217800" cy="193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8"/>
          <p:cNvSpPr/>
          <p:nvPr/>
        </p:nvSpPr>
        <p:spPr>
          <a:xfrm>
            <a:off x="3922560" y="4437000"/>
            <a:ext cx="217800" cy="193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Oval 9"/>
          <p:cNvSpPr/>
          <p:nvPr/>
        </p:nvSpPr>
        <p:spPr>
          <a:xfrm>
            <a:off x="4714920" y="4437000"/>
            <a:ext cx="217440" cy="193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Oval 10"/>
          <p:cNvSpPr/>
          <p:nvPr/>
        </p:nvSpPr>
        <p:spPr>
          <a:xfrm>
            <a:off x="5506920" y="4437000"/>
            <a:ext cx="217440" cy="193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Oval 11"/>
          <p:cNvSpPr/>
          <p:nvPr/>
        </p:nvSpPr>
        <p:spPr>
          <a:xfrm>
            <a:off x="6370560" y="4437000"/>
            <a:ext cx="217440" cy="193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Oval 12"/>
          <p:cNvSpPr/>
          <p:nvPr/>
        </p:nvSpPr>
        <p:spPr>
          <a:xfrm>
            <a:off x="7162920" y="4437000"/>
            <a:ext cx="217440" cy="193680"/>
          </a:xfrm>
          <a:prstGeom prst="ellipse">
            <a:avLst/>
          </a:prstGeom>
          <a:solidFill>
            <a:srgbClr val="000000">
              <a:alpha val="9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Oval 13"/>
          <p:cNvSpPr/>
          <p:nvPr/>
        </p:nvSpPr>
        <p:spPr>
          <a:xfrm>
            <a:off x="8026560" y="4437000"/>
            <a:ext cx="217440" cy="193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14"/>
          <p:cNvSpPr/>
          <p:nvPr/>
        </p:nvSpPr>
        <p:spPr>
          <a:xfrm>
            <a:off x="1476360" y="4797360"/>
            <a:ext cx="503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00"/>
                </a:solidFill>
                <a:latin typeface="Arial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15"/>
          <p:cNvSpPr/>
          <p:nvPr/>
        </p:nvSpPr>
        <p:spPr>
          <a:xfrm>
            <a:off x="2268360" y="4797360"/>
            <a:ext cx="503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00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16"/>
          <p:cNvSpPr/>
          <p:nvPr/>
        </p:nvSpPr>
        <p:spPr>
          <a:xfrm>
            <a:off x="3060720" y="4797360"/>
            <a:ext cx="503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00"/>
                </a:solidFill>
                <a:latin typeface="Arial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17"/>
          <p:cNvSpPr/>
          <p:nvPr/>
        </p:nvSpPr>
        <p:spPr>
          <a:xfrm>
            <a:off x="3780000" y="4797360"/>
            <a:ext cx="5029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00"/>
                </a:solidFill>
                <a:latin typeface="Arial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18"/>
          <p:cNvSpPr/>
          <p:nvPr/>
        </p:nvSpPr>
        <p:spPr>
          <a:xfrm>
            <a:off x="4573440" y="4797360"/>
            <a:ext cx="503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00"/>
                </a:solidFill>
                <a:latin typeface="Arial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19"/>
          <p:cNvSpPr/>
          <p:nvPr/>
        </p:nvSpPr>
        <p:spPr>
          <a:xfrm>
            <a:off x="5364000" y="4724280"/>
            <a:ext cx="503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00"/>
                </a:solidFill>
                <a:latin typeface="Arial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20"/>
          <p:cNvSpPr/>
          <p:nvPr/>
        </p:nvSpPr>
        <p:spPr>
          <a:xfrm>
            <a:off x="6227640" y="4724280"/>
            <a:ext cx="503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00"/>
                </a:solidFill>
                <a:latin typeface="Arial"/>
              </a:rPr>
              <a:t>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21"/>
          <p:cNvSpPr/>
          <p:nvPr/>
        </p:nvSpPr>
        <p:spPr>
          <a:xfrm>
            <a:off x="7093080" y="4724280"/>
            <a:ext cx="503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00"/>
                </a:solidFill>
                <a:latin typeface="Arial"/>
              </a:rPr>
              <a:t>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22"/>
          <p:cNvSpPr/>
          <p:nvPr/>
        </p:nvSpPr>
        <p:spPr>
          <a:xfrm>
            <a:off x="7956720" y="4724280"/>
            <a:ext cx="5029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00"/>
                </a:solidFill>
                <a:latin typeface="Arial"/>
              </a:rPr>
              <a:t>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23"/>
          <p:cNvSpPr/>
          <p:nvPr/>
        </p:nvSpPr>
        <p:spPr>
          <a:xfrm>
            <a:off x="3852720" y="907920"/>
            <a:ext cx="1295640" cy="12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9600" spc="-1" strike="noStrike">
                <a:solidFill>
                  <a:srgbClr val="66ff33"/>
                </a:solidFill>
                <a:latin typeface="ALFABET98"/>
              </a:rPr>
              <a:t>7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24"/>
          <p:cNvSpPr/>
          <p:nvPr/>
        </p:nvSpPr>
        <p:spPr>
          <a:xfrm>
            <a:off x="4716360" y="763560"/>
            <a:ext cx="935280" cy="12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9600" spc="-1" strike="noStrike">
                <a:solidFill>
                  <a:srgbClr val="ffff00"/>
                </a:solidFill>
                <a:latin typeface="ALFABET98"/>
              </a:rPr>
              <a:t>-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25"/>
          <p:cNvSpPr/>
          <p:nvPr/>
        </p:nvSpPr>
        <p:spPr>
          <a:xfrm>
            <a:off x="5364000" y="907920"/>
            <a:ext cx="1295640" cy="12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9600" spc="-1" strike="noStrike">
                <a:solidFill>
                  <a:srgbClr val="66ff33"/>
                </a:solidFill>
                <a:latin typeface="ALFABET98"/>
              </a:rPr>
              <a:t>6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26"/>
          <p:cNvSpPr/>
          <p:nvPr/>
        </p:nvSpPr>
        <p:spPr>
          <a:xfrm>
            <a:off x="6156360" y="763560"/>
            <a:ext cx="1295280" cy="12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9600" spc="-1" strike="noStrike">
                <a:solidFill>
                  <a:srgbClr val="ffff00"/>
                </a:solidFill>
                <a:latin typeface="ALFABET98"/>
              </a:rPr>
              <a:t>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27"/>
          <p:cNvSpPr/>
          <p:nvPr/>
        </p:nvSpPr>
        <p:spPr>
          <a:xfrm>
            <a:off x="6948360" y="836640"/>
            <a:ext cx="1295640" cy="12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9600" spc="-1" strike="noStrike">
                <a:solidFill>
                  <a:srgbClr val="00ffcc"/>
                </a:solidFill>
                <a:latin typeface="ALFABET98"/>
              </a:rPr>
              <a:t>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28"/>
          <p:cNvSpPr/>
          <p:nvPr/>
        </p:nvSpPr>
        <p:spPr>
          <a:xfrm>
            <a:off x="971640" y="3645000"/>
            <a:ext cx="6769080" cy="720720"/>
          </a:xfrm>
          <a:custGeom>
            <a:avLst/>
            <a:gdLst>
              <a:gd name="textAreaLeft" fmla="*/ 1279440 w 6769080"/>
              <a:gd name="textAreaRight" fmla="*/ 4432320 w 6769080"/>
              <a:gd name="textAreaTop" fmla="*/ 96480 h 720720"/>
              <a:gd name="textAreaBottom" fmla="*/ 624240 h 720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167" hR="21600" stAng="10800000" swAng="5400000"/>
                <a:lnTo>
                  <a:pt x="10061" y="0"/>
                </a:lnTo>
                <a:arcTo wR="8167" hR="21600" stAng="-5400000" swAng="3658116"/>
                <a:lnTo>
                  <a:pt x="21426" y="17164"/>
                </a:lnTo>
                <a:lnTo>
                  <a:pt x="17280" y="21600"/>
                </a:lnTo>
                <a:lnTo>
                  <a:pt x="12786" y="17164"/>
                </a:lnTo>
                <a:lnTo>
                  <a:pt x="16159" y="17164"/>
                </a:lnTo>
                <a:arcTo wR="8167" hR="21600" stAng="-1741884" swAng="-3506471"/>
                <a:lnTo>
                  <a:pt x="9114" y="146"/>
                </a:lnTo>
                <a:arcTo wR="8167" hR="21600" stAng="-5551645" swAng="-5248355"/>
                <a:close/>
              </a:path>
              <a:path fill="darkenLess" w="21600" h="21600">
                <a:moveTo>
                  <a:pt x="0" y="21600"/>
                </a:moveTo>
                <a:arcTo wR="8167" hR="21600" stAng="10800000" swAng="5400000"/>
                <a:lnTo>
                  <a:pt x="8167" y="0"/>
                </a:lnTo>
                <a:arcTo wR="8167" hR="21600" stAng="-5400000" swAng="151645"/>
                <a:lnTo>
                  <a:pt x="9114" y="146"/>
                </a:lnTo>
                <a:arcTo wR="8167" hR="21600" stAng="-5551645" swAng="-5248355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29"/>
          <p:cNvSpPr/>
          <p:nvPr/>
        </p:nvSpPr>
        <p:spPr>
          <a:xfrm>
            <a:off x="1116000" y="4365720"/>
            <a:ext cx="503280" cy="287280"/>
          </a:xfrm>
          <a:prstGeom prst="rect">
            <a:avLst/>
          </a:prstGeom>
          <a:gradFill rotWithShape="0">
            <a:gsLst>
              <a:gs pos="0">
                <a:srgbClr val="185e18"/>
              </a:gs>
              <a:gs pos="50000">
                <a:srgbClr val="33cc33"/>
              </a:gs>
              <a:gs pos="100000">
                <a:srgbClr val="185e1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30"/>
          <p:cNvSpPr/>
          <p:nvPr/>
        </p:nvSpPr>
        <p:spPr>
          <a:xfrm>
            <a:off x="1835280" y="4365720"/>
            <a:ext cx="576000" cy="287280"/>
          </a:xfrm>
          <a:prstGeom prst="rect">
            <a:avLst/>
          </a:prstGeom>
          <a:gradFill rotWithShape="0">
            <a:gsLst>
              <a:gs pos="0">
                <a:srgbClr val="185e18"/>
              </a:gs>
              <a:gs pos="50000">
                <a:srgbClr val="33cc33"/>
              </a:gs>
              <a:gs pos="100000">
                <a:srgbClr val="185e1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31"/>
          <p:cNvSpPr/>
          <p:nvPr/>
        </p:nvSpPr>
        <p:spPr>
          <a:xfrm>
            <a:off x="2627280" y="4365720"/>
            <a:ext cx="576360" cy="287280"/>
          </a:xfrm>
          <a:prstGeom prst="rect">
            <a:avLst/>
          </a:prstGeom>
          <a:gradFill rotWithShape="0">
            <a:gsLst>
              <a:gs pos="0">
                <a:srgbClr val="185e18"/>
              </a:gs>
              <a:gs pos="50000">
                <a:srgbClr val="33cc33"/>
              </a:gs>
              <a:gs pos="100000">
                <a:srgbClr val="185e1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32"/>
          <p:cNvSpPr/>
          <p:nvPr/>
        </p:nvSpPr>
        <p:spPr>
          <a:xfrm>
            <a:off x="3421080" y="2205000"/>
            <a:ext cx="2087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ffff00"/>
                </a:solidFill>
                <a:latin typeface="ALFABET98"/>
              </a:rPr>
              <a:t>eksil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33"/>
          <p:cNvSpPr/>
          <p:nvPr/>
        </p:nvSpPr>
        <p:spPr>
          <a:xfrm>
            <a:off x="5003640" y="2205000"/>
            <a:ext cx="2089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ffff00"/>
                </a:solidFill>
                <a:latin typeface="ALFABET98"/>
              </a:rPr>
              <a:t>çık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34"/>
          <p:cNvSpPr/>
          <p:nvPr/>
        </p:nvSpPr>
        <p:spPr>
          <a:xfrm>
            <a:off x="6764400" y="2205000"/>
            <a:ext cx="16239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ffff00"/>
                </a:solidFill>
                <a:latin typeface="ALFABET98"/>
              </a:rPr>
              <a:t>kal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35"/>
          <p:cNvSpPr/>
          <p:nvPr/>
        </p:nvSpPr>
        <p:spPr>
          <a:xfrm>
            <a:off x="3924360" y="3645000"/>
            <a:ext cx="5763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99ff"/>
                </a:solidFill>
                <a:latin typeface="Arial"/>
              </a:rPr>
              <a:t>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AutoShape 36"/>
          <p:cNvSpPr/>
          <p:nvPr/>
        </p:nvSpPr>
        <p:spPr>
          <a:xfrm flipH="1">
            <a:off x="1116000" y="5373720"/>
            <a:ext cx="5616720" cy="719280"/>
          </a:xfrm>
          <a:custGeom>
            <a:avLst/>
            <a:gdLst>
              <a:gd name="textAreaLeft" fmla="*/ 1181520 w 5616720"/>
              <a:gd name="textAreaRight" fmla="*/ 3926160 w 5616720"/>
              <a:gd name="textAreaTop" fmla="*/ 96120 h 719280"/>
              <a:gd name="textAreaBottom" fmla="*/ 62316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088" hR="21600" stAng="10800000" swAng="-5400000"/>
                <a:lnTo>
                  <a:pt x="10555" y="21600"/>
                </a:lnTo>
                <a:arcTo wR="9088" hR="21600" stAng="5400000" swAng="-3184383"/>
                <a:lnTo>
                  <a:pt x="21177" y="6512"/>
                </a:lnTo>
                <a:lnTo>
                  <a:pt x="18909" y="0"/>
                </a:lnTo>
                <a:lnTo>
                  <a:pt x="15794" y="6512"/>
                </a:lnTo>
                <a:lnTo>
                  <a:pt x="17752" y="6512"/>
                </a:lnTo>
                <a:arcTo wR="9088" hR="21600" stAng="2215617" swAng="3067306"/>
                <a:lnTo>
                  <a:pt x="9821" y="21530"/>
                </a:lnTo>
                <a:arcTo wR="9088" hR="21600" stAng="5517077" swAng="5282923"/>
                <a:close/>
              </a:path>
              <a:path fill="darkenLess" w="21600" h="21600">
                <a:moveTo>
                  <a:pt x="0" y="0"/>
                </a:moveTo>
                <a:arcTo wR="9088" hR="21600" stAng="10800000" swAng="-5400000"/>
                <a:lnTo>
                  <a:pt x="10555" y="21600"/>
                </a:lnTo>
                <a:arcTo wR="9088" hR="21600" stAng="5400000" swAng="117077"/>
                <a:lnTo>
                  <a:pt x="9821" y="21530"/>
                </a:lnTo>
                <a:arcTo wR="9088" hR="21600" stAng="5517077" swAng="5282923"/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37"/>
          <p:cNvSpPr/>
          <p:nvPr/>
        </p:nvSpPr>
        <p:spPr>
          <a:xfrm>
            <a:off x="3995640" y="5516640"/>
            <a:ext cx="503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38"/>
          <p:cNvSpPr/>
          <p:nvPr/>
        </p:nvSpPr>
        <p:spPr>
          <a:xfrm>
            <a:off x="7093080" y="836640"/>
            <a:ext cx="122400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9600" spc="-1" strike="noStrike">
                <a:solidFill>
                  <a:srgbClr val="6699ff"/>
                </a:solidFill>
                <a:latin typeface="ALFABET98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39"/>
          <p:cNvSpPr/>
          <p:nvPr/>
        </p:nvSpPr>
        <p:spPr>
          <a:xfrm>
            <a:off x="179280" y="115920"/>
            <a:ext cx="1800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HİKMET SIR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40"/>
          <p:cNvSpPr/>
          <p:nvPr/>
        </p:nvSpPr>
        <p:spPr>
          <a:xfrm>
            <a:off x="3205080" y="3141720"/>
            <a:ext cx="2087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ffff00"/>
                </a:solidFill>
                <a:latin typeface="ALFABET98"/>
              </a:rPr>
              <a:t>eksil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41"/>
          <p:cNvSpPr/>
          <p:nvPr/>
        </p:nvSpPr>
        <p:spPr>
          <a:xfrm>
            <a:off x="3348000" y="6094440"/>
            <a:ext cx="208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ffff00"/>
                </a:solidFill>
                <a:latin typeface="ALFABET98"/>
              </a:rPr>
              <a:t>çık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42"/>
          <p:cNvSpPr/>
          <p:nvPr/>
        </p:nvSpPr>
        <p:spPr>
          <a:xfrm>
            <a:off x="571680" y="6237360"/>
            <a:ext cx="16239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ffff00"/>
                </a:solidFill>
                <a:latin typeface="ALFABET98"/>
              </a:rPr>
              <a:t>kal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AutoShape 43"/>
          <p:cNvSpPr/>
          <p:nvPr/>
        </p:nvSpPr>
        <p:spPr>
          <a:xfrm>
            <a:off x="971640" y="5445000"/>
            <a:ext cx="865080" cy="792360"/>
          </a:xfrm>
          <a:custGeom>
            <a:avLst/>
            <a:gdLst>
              <a:gd name="textAreaLeft" fmla="*/ 181800 w 865080"/>
              <a:gd name="textAreaRight" fmla="*/ 604800 w 865080"/>
              <a:gd name="textAreaTop" fmla="*/ 106200 h 792360"/>
              <a:gd name="textAreaBottom" fmla="*/ 686160 h 79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088" hR="21600" stAng="10800000" swAng="-5400000"/>
                <a:lnTo>
                  <a:pt x="10555" y="21600"/>
                </a:lnTo>
                <a:arcTo wR="9088" hR="21600" stAng="5400000" swAng="-3184383"/>
                <a:lnTo>
                  <a:pt x="21177" y="6512"/>
                </a:lnTo>
                <a:lnTo>
                  <a:pt x="18909" y="0"/>
                </a:lnTo>
                <a:lnTo>
                  <a:pt x="15794" y="6512"/>
                </a:lnTo>
                <a:lnTo>
                  <a:pt x="17752" y="6512"/>
                </a:lnTo>
                <a:arcTo wR="9088" hR="21600" stAng="2215617" swAng="3067306"/>
                <a:lnTo>
                  <a:pt x="9821" y="21530"/>
                </a:lnTo>
                <a:arcTo wR="9088" hR="21600" stAng="5517077" swAng="5282923"/>
                <a:close/>
              </a:path>
              <a:path fill="darkenLess" w="21600" h="21600">
                <a:moveTo>
                  <a:pt x="0" y="0"/>
                </a:moveTo>
                <a:arcTo wR="9088" hR="21600" stAng="10800000" swAng="-5400000"/>
                <a:lnTo>
                  <a:pt x="10555" y="21600"/>
                </a:lnTo>
                <a:arcTo wR="9088" hR="21600" stAng="5400000" swAng="117077"/>
                <a:lnTo>
                  <a:pt x="9821" y="21530"/>
                </a:lnTo>
                <a:arcTo wR="9088" hR="21600" stAng="5517077" swAng="5282923"/>
                <a:close/>
              </a:path>
            </a:pathLst>
          </a:custGeom>
          <a:gradFill rotWithShape="0">
            <a:gsLst>
              <a:gs pos="0">
                <a:srgbClr val="00765e"/>
              </a:gs>
              <a:gs pos="50000">
                <a:srgbClr val="00ffcc"/>
              </a:gs>
              <a:gs pos="100000">
                <a:srgbClr val="00765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44"/>
          <p:cNvSpPr/>
          <p:nvPr/>
        </p:nvSpPr>
        <p:spPr>
          <a:xfrm>
            <a:off x="3419640" y="4365720"/>
            <a:ext cx="504720" cy="287280"/>
          </a:xfrm>
          <a:prstGeom prst="rect">
            <a:avLst/>
          </a:prstGeom>
          <a:gradFill rotWithShape="0">
            <a:gsLst>
              <a:gs pos="0">
                <a:srgbClr val="185e18"/>
              </a:gs>
              <a:gs pos="50000">
                <a:srgbClr val="33cc33"/>
              </a:gs>
              <a:gs pos="100000">
                <a:srgbClr val="185e1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45"/>
          <p:cNvSpPr/>
          <p:nvPr/>
        </p:nvSpPr>
        <p:spPr>
          <a:xfrm>
            <a:off x="4140360" y="4365720"/>
            <a:ext cx="576000" cy="287280"/>
          </a:xfrm>
          <a:prstGeom prst="rect">
            <a:avLst/>
          </a:prstGeom>
          <a:gradFill rotWithShape="0">
            <a:gsLst>
              <a:gs pos="0">
                <a:srgbClr val="185e18"/>
              </a:gs>
              <a:gs pos="50000">
                <a:srgbClr val="33cc33"/>
              </a:gs>
              <a:gs pos="100000">
                <a:srgbClr val="185e1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46"/>
          <p:cNvSpPr/>
          <p:nvPr/>
        </p:nvSpPr>
        <p:spPr>
          <a:xfrm>
            <a:off x="1116000" y="5589720"/>
            <a:ext cx="5032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00ffcc"/>
                </a:solidFill>
                <a:latin typeface="Arial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47"/>
          <p:cNvSpPr/>
          <p:nvPr/>
        </p:nvSpPr>
        <p:spPr>
          <a:xfrm>
            <a:off x="4932360" y="4365720"/>
            <a:ext cx="576360" cy="287280"/>
          </a:xfrm>
          <a:prstGeom prst="rect">
            <a:avLst/>
          </a:prstGeom>
          <a:gradFill rotWithShape="0">
            <a:gsLst>
              <a:gs pos="0">
                <a:srgbClr val="185e18"/>
              </a:gs>
              <a:gs pos="50000">
                <a:srgbClr val="33cc33"/>
              </a:gs>
              <a:gs pos="100000">
                <a:srgbClr val="185e1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48"/>
          <p:cNvSpPr/>
          <p:nvPr/>
        </p:nvSpPr>
        <p:spPr>
          <a:xfrm>
            <a:off x="5724360" y="4365720"/>
            <a:ext cx="648000" cy="287280"/>
          </a:xfrm>
          <a:prstGeom prst="rect">
            <a:avLst/>
          </a:prstGeom>
          <a:gradFill rotWithShape="0">
            <a:gsLst>
              <a:gs pos="0">
                <a:srgbClr val="185e18"/>
              </a:gs>
              <a:gs pos="50000">
                <a:srgbClr val="33cc33"/>
              </a:gs>
              <a:gs pos="100000">
                <a:srgbClr val="185e1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8" dur="indefinite" restart="never" nodeType="tmRoot">
          <p:childTnLst>
            <p:seq>
              <p:cTn id="719" dur="indefinite" nodeType="mainSeq">
                <p:childTnLst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8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3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7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6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1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5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0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4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3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8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2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1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6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7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02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03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4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05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6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07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8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09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4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5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20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21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2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23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4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25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6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27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2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3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38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39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0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41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2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43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4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45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0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1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56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57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8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59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0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61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2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63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8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9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74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75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6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77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8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79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0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81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6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7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92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93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4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95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6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97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8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99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fill="hold">
                      <p:stCondLst>
                        <p:cond delay="indefinite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4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5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6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10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11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2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13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4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15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6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17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8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9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1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34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35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6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37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8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39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0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41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7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8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9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54" dur="500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5" dur="500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60" dur="50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1" dur="50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72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3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78" dur="500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9" dur="500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84" dur="50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5" dur="50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7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8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9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0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1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2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03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04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05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06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07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08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09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10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8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9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0" fill="hold">
                      <p:stCondLst>
                        <p:cond delay="indefinite"/>
                      </p:stCondLst>
                      <p:childTnLst>
                        <p:par>
                          <p:cTn id="1021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4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5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0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1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2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3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4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5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36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37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38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39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0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41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2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43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4" fill="hold">
                      <p:stCondLst>
                        <p:cond delay="indefinite"/>
                      </p:stCondLst>
                      <p:childTnLst>
                        <p:par>
                          <p:cTn id="1045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8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2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56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057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061" dur="50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2" dur="50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3" dur="50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64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0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1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2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3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4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5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76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77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8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79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80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81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82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83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4" fill="hold">
                      <p:stCondLst>
                        <p:cond delay="indefinite"/>
                      </p:stCondLst>
                      <p:childTnLst>
                        <p:par>
                          <p:cTn id="1085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87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088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755640" y="4797000"/>
            <a:ext cx="50328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00"/>
                </a:solidFill>
                <a:latin typeface="Arial"/>
              </a:rPr>
              <a:t>0</a:t>
            </a:r>
            <a:endParaRPr b="0" lang="en-US" sz="4400" spc="-1" strike="noStrike">
              <a:solidFill>
                <a:srgbClr val="efcfdf"/>
              </a:solidFill>
              <a:latin typeface="Arial"/>
            </a:endParaRPr>
          </a:p>
        </p:txBody>
      </p:sp>
      <p:sp>
        <p:nvSpPr>
          <p:cNvPr id="255" name="Line 3"/>
          <p:cNvSpPr/>
          <p:nvPr/>
        </p:nvSpPr>
        <p:spPr>
          <a:xfrm>
            <a:off x="395280" y="4508640"/>
            <a:ext cx="8424720" cy="0"/>
          </a:xfrm>
          <a:prstGeom prst="line">
            <a:avLst/>
          </a:prstGeom>
          <a:ln w="193680">
            <a:solidFill>
              <a:srgbClr val="00cc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Oval 4"/>
          <p:cNvSpPr/>
          <p:nvPr/>
        </p:nvSpPr>
        <p:spPr>
          <a:xfrm>
            <a:off x="900000" y="4437000"/>
            <a:ext cx="217440" cy="193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Oval 5"/>
          <p:cNvSpPr/>
          <p:nvPr/>
        </p:nvSpPr>
        <p:spPr>
          <a:xfrm>
            <a:off x="1617840" y="4437000"/>
            <a:ext cx="217440" cy="193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Oval 6"/>
          <p:cNvSpPr/>
          <p:nvPr/>
        </p:nvSpPr>
        <p:spPr>
          <a:xfrm>
            <a:off x="2409840" y="4437000"/>
            <a:ext cx="217440" cy="193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Oval 7"/>
          <p:cNvSpPr/>
          <p:nvPr/>
        </p:nvSpPr>
        <p:spPr>
          <a:xfrm>
            <a:off x="3201840" y="4437000"/>
            <a:ext cx="217800" cy="193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Oval 8"/>
          <p:cNvSpPr/>
          <p:nvPr/>
        </p:nvSpPr>
        <p:spPr>
          <a:xfrm>
            <a:off x="3922560" y="4437000"/>
            <a:ext cx="217800" cy="193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9"/>
          <p:cNvSpPr/>
          <p:nvPr/>
        </p:nvSpPr>
        <p:spPr>
          <a:xfrm>
            <a:off x="4714920" y="4437000"/>
            <a:ext cx="217440" cy="193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l 10"/>
          <p:cNvSpPr/>
          <p:nvPr/>
        </p:nvSpPr>
        <p:spPr>
          <a:xfrm>
            <a:off x="5506920" y="4437000"/>
            <a:ext cx="217440" cy="193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l 11"/>
          <p:cNvSpPr/>
          <p:nvPr/>
        </p:nvSpPr>
        <p:spPr>
          <a:xfrm>
            <a:off x="6370560" y="4437000"/>
            <a:ext cx="217440" cy="193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Oval 12"/>
          <p:cNvSpPr/>
          <p:nvPr/>
        </p:nvSpPr>
        <p:spPr>
          <a:xfrm>
            <a:off x="7162920" y="4437000"/>
            <a:ext cx="217440" cy="193680"/>
          </a:xfrm>
          <a:prstGeom prst="ellipse">
            <a:avLst/>
          </a:prstGeom>
          <a:solidFill>
            <a:srgbClr val="000000">
              <a:alpha val="9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Oval 13"/>
          <p:cNvSpPr/>
          <p:nvPr/>
        </p:nvSpPr>
        <p:spPr>
          <a:xfrm>
            <a:off x="8026560" y="4437000"/>
            <a:ext cx="217440" cy="193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14"/>
          <p:cNvSpPr/>
          <p:nvPr/>
        </p:nvSpPr>
        <p:spPr>
          <a:xfrm>
            <a:off x="1476360" y="4797360"/>
            <a:ext cx="503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00"/>
                </a:solidFill>
                <a:latin typeface="Arial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15"/>
          <p:cNvSpPr/>
          <p:nvPr/>
        </p:nvSpPr>
        <p:spPr>
          <a:xfrm>
            <a:off x="2268360" y="4797360"/>
            <a:ext cx="503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00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16"/>
          <p:cNvSpPr/>
          <p:nvPr/>
        </p:nvSpPr>
        <p:spPr>
          <a:xfrm>
            <a:off x="3060720" y="4797360"/>
            <a:ext cx="503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00"/>
                </a:solidFill>
                <a:latin typeface="Arial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17"/>
          <p:cNvSpPr/>
          <p:nvPr/>
        </p:nvSpPr>
        <p:spPr>
          <a:xfrm>
            <a:off x="3780000" y="4797360"/>
            <a:ext cx="5029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00"/>
                </a:solidFill>
                <a:latin typeface="Arial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18"/>
          <p:cNvSpPr/>
          <p:nvPr/>
        </p:nvSpPr>
        <p:spPr>
          <a:xfrm>
            <a:off x="4573440" y="4797360"/>
            <a:ext cx="503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00"/>
                </a:solidFill>
                <a:latin typeface="Arial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19"/>
          <p:cNvSpPr/>
          <p:nvPr/>
        </p:nvSpPr>
        <p:spPr>
          <a:xfrm>
            <a:off x="5364000" y="4724280"/>
            <a:ext cx="503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00"/>
                </a:solidFill>
                <a:latin typeface="Arial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20"/>
          <p:cNvSpPr/>
          <p:nvPr/>
        </p:nvSpPr>
        <p:spPr>
          <a:xfrm>
            <a:off x="6227640" y="4724280"/>
            <a:ext cx="503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00"/>
                </a:solidFill>
                <a:latin typeface="Arial"/>
              </a:rPr>
              <a:t>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21"/>
          <p:cNvSpPr/>
          <p:nvPr/>
        </p:nvSpPr>
        <p:spPr>
          <a:xfrm>
            <a:off x="7093080" y="4724280"/>
            <a:ext cx="503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00"/>
                </a:solidFill>
                <a:latin typeface="Arial"/>
              </a:rPr>
              <a:t>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22"/>
          <p:cNvSpPr/>
          <p:nvPr/>
        </p:nvSpPr>
        <p:spPr>
          <a:xfrm>
            <a:off x="7956720" y="4724280"/>
            <a:ext cx="5029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00"/>
                </a:solidFill>
                <a:latin typeface="Arial"/>
              </a:rPr>
              <a:t>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23"/>
          <p:cNvSpPr/>
          <p:nvPr/>
        </p:nvSpPr>
        <p:spPr>
          <a:xfrm>
            <a:off x="3852720" y="907920"/>
            <a:ext cx="1295640" cy="12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9600" spc="-1" strike="noStrike">
                <a:solidFill>
                  <a:srgbClr val="0000ff"/>
                </a:solidFill>
                <a:latin typeface="ALFABET98"/>
              </a:rPr>
              <a:t>9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24"/>
          <p:cNvSpPr/>
          <p:nvPr/>
        </p:nvSpPr>
        <p:spPr>
          <a:xfrm>
            <a:off x="4716360" y="763560"/>
            <a:ext cx="935280" cy="12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9600" spc="-1" strike="noStrike">
                <a:solidFill>
                  <a:srgbClr val="ffff00"/>
                </a:solidFill>
                <a:latin typeface="ALFABET98"/>
              </a:rPr>
              <a:t>-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25"/>
          <p:cNvSpPr/>
          <p:nvPr/>
        </p:nvSpPr>
        <p:spPr>
          <a:xfrm>
            <a:off x="5364000" y="907920"/>
            <a:ext cx="1295640" cy="12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9600" spc="-1" strike="noStrike">
                <a:solidFill>
                  <a:srgbClr val="0000ff"/>
                </a:solidFill>
                <a:latin typeface="ALFABET98"/>
              </a:rPr>
              <a:t>5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26"/>
          <p:cNvSpPr/>
          <p:nvPr/>
        </p:nvSpPr>
        <p:spPr>
          <a:xfrm>
            <a:off x="6156360" y="763560"/>
            <a:ext cx="1295280" cy="12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9600" spc="-1" strike="noStrike">
                <a:solidFill>
                  <a:srgbClr val="ffff00"/>
                </a:solidFill>
                <a:latin typeface="ALFABET98"/>
              </a:rPr>
              <a:t>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27"/>
          <p:cNvSpPr/>
          <p:nvPr/>
        </p:nvSpPr>
        <p:spPr>
          <a:xfrm>
            <a:off x="6948360" y="836640"/>
            <a:ext cx="1295640" cy="12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9600" spc="-1" strike="noStrike">
                <a:solidFill>
                  <a:srgbClr val="00ffcc"/>
                </a:solidFill>
                <a:latin typeface="ALFABET98"/>
              </a:rPr>
              <a:t>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AutoShape 28"/>
          <p:cNvSpPr/>
          <p:nvPr/>
        </p:nvSpPr>
        <p:spPr>
          <a:xfrm>
            <a:off x="971640" y="3645000"/>
            <a:ext cx="8172360" cy="720720"/>
          </a:xfrm>
          <a:custGeom>
            <a:avLst/>
            <a:gdLst>
              <a:gd name="textAreaLeft" fmla="*/ 1690560 w 8172360"/>
              <a:gd name="textAreaRight" fmla="*/ 5291280 w 8172360"/>
              <a:gd name="textAreaTop" fmla="*/ 96480 h 720720"/>
              <a:gd name="textAreaBottom" fmla="*/ 624240 h 720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937" hR="21600" stAng="10800000" swAng="5400000"/>
                <a:lnTo>
                  <a:pt x="9517" y="0"/>
                </a:lnTo>
                <a:arcTo wR="8937" hR="21600" stAng="-5400000" swAng="2304906"/>
                <a:lnTo>
                  <a:pt x="20587" y="11609"/>
                </a:lnTo>
                <a:lnTo>
                  <a:pt x="18163" y="21600"/>
                </a:lnTo>
                <a:lnTo>
                  <a:pt x="13713" y="11609"/>
                </a:lnTo>
                <a:lnTo>
                  <a:pt x="16860" y="11609"/>
                </a:lnTo>
                <a:arcTo wR="8937" hR="21600" stAng="-3095094" swAng="-2258730"/>
                <a:lnTo>
                  <a:pt x="9227" y="11"/>
                </a:lnTo>
                <a:arcTo wR="8937" hR="21600" stAng="-5446176" swAng="-5353824"/>
                <a:close/>
              </a:path>
              <a:path fill="darkenLess" w="21600" h="21600">
                <a:moveTo>
                  <a:pt x="0" y="21600"/>
                </a:moveTo>
                <a:arcTo wR="8937" hR="21600" stAng="10800000" swAng="5400000"/>
                <a:lnTo>
                  <a:pt x="8937" y="0"/>
                </a:lnTo>
                <a:arcTo wR="8937" hR="21600" stAng="-5400000" swAng="46176"/>
                <a:lnTo>
                  <a:pt x="9227" y="11"/>
                </a:lnTo>
                <a:arcTo wR="8937" hR="21600" stAng="-5446176" swAng="-5353824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29"/>
          <p:cNvSpPr/>
          <p:nvPr/>
        </p:nvSpPr>
        <p:spPr>
          <a:xfrm>
            <a:off x="1116000" y="4365720"/>
            <a:ext cx="503280" cy="287280"/>
          </a:xfrm>
          <a:prstGeom prst="rect">
            <a:avLst/>
          </a:prstGeom>
          <a:gradFill rotWithShape="0">
            <a:gsLst>
              <a:gs pos="0">
                <a:srgbClr val="185e18"/>
              </a:gs>
              <a:gs pos="50000">
                <a:srgbClr val="33cc33"/>
              </a:gs>
              <a:gs pos="100000">
                <a:srgbClr val="185e1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30"/>
          <p:cNvSpPr/>
          <p:nvPr/>
        </p:nvSpPr>
        <p:spPr>
          <a:xfrm>
            <a:off x="1835280" y="4365720"/>
            <a:ext cx="576000" cy="287280"/>
          </a:xfrm>
          <a:prstGeom prst="rect">
            <a:avLst/>
          </a:prstGeom>
          <a:gradFill rotWithShape="0">
            <a:gsLst>
              <a:gs pos="0">
                <a:srgbClr val="185e18"/>
              </a:gs>
              <a:gs pos="50000">
                <a:srgbClr val="33cc33"/>
              </a:gs>
              <a:gs pos="100000">
                <a:srgbClr val="185e1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31"/>
          <p:cNvSpPr/>
          <p:nvPr/>
        </p:nvSpPr>
        <p:spPr>
          <a:xfrm>
            <a:off x="2627280" y="4365720"/>
            <a:ext cx="576360" cy="287280"/>
          </a:xfrm>
          <a:prstGeom prst="rect">
            <a:avLst/>
          </a:prstGeom>
          <a:gradFill rotWithShape="0">
            <a:gsLst>
              <a:gs pos="0">
                <a:srgbClr val="185e18"/>
              </a:gs>
              <a:gs pos="50000">
                <a:srgbClr val="33cc33"/>
              </a:gs>
              <a:gs pos="100000">
                <a:srgbClr val="185e1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32"/>
          <p:cNvSpPr/>
          <p:nvPr/>
        </p:nvSpPr>
        <p:spPr>
          <a:xfrm>
            <a:off x="3421080" y="2205000"/>
            <a:ext cx="2087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ffff00"/>
                </a:solidFill>
                <a:latin typeface="ALFABET98"/>
              </a:rPr>
              <a:t>eksil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33"/>
          <p:cNvSpPr/>
          <p:nvPr/>
        </p:nvSpPr>
        <p:spPr>
          <a:xfrm>
            <a:off x="5003640" y="2205000"/>
            <a:ext cx="2089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ffff00"/>
                </a:solidFill>
                <a:latin typeface="ALFABET98"/>
              </a:rPr>
              <a:t>çık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34"/>
          <p:cNvSpPr/>
          <p:nvPr/>
        </p:nvSpPr>
        <p:spPr>
          <a:xfrm>
            <a:off x="6764400" y="2205000"/>
            <a:ext cx="16239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ffff00"/>
                </a:solidFill>
                <a:latin typeface="ALFABET98"/>
              </a:rPr>
              <a:t>kal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35"/>
          <p:cNvSpPr/>
          <p:nvPr/>
        </p:nvSpPr>
        <p:spPr>
          <a:xfrm>
            <a:off x="3924360" y="3645000"/>
            <a:ext cx="5763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99ff"/>
                </a:solidFill>
                <a:latin typeface="Arial"/>
              </a:rPr>
              <a:t>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AutoShape 36"/>
          <p:cNvSpPr/>
          <p:nvPr/>
        </p:nvSpPr>
        <p:spPr>
          <a:xfrm flipH="1">
            <a:off x="3564000" y="5373720"/>
            <a:ext cx="4680000" cy="719280"/>
          </a:xfrm>
          <a:custGeom>
            <a:avLst/>
            <a:gdLst>
              <a:gd name="textAreaLeft" fmla="*/ 984600 w 4680000"/>
              <a:gd name="textAreaRight" fmla="*/ 3271680 w 4680000"/>
              <a:gd name="textAreaTop" fmla="*/ 96120 h 719280"/>
              <a:gd name="textAreaBottom" fmla="*/ 62316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088" hR="21600" stAng="10800000" swAng="-5400000"/>
                <a:lnTo>
                  <a:pt x="10555" y="21600"/>
                </a:lnTo>
                <a:arcTo wR="9088" hR="21600" stAng="5400000" swAng="-3184383"/>
                <a:lnTo>
                  <a:pt x="21177" y="6512"/>
                </a:lnTo>
                <a:lnTo>
                  <a:pt x="18909" y="0"/>
                </a:lnTo>
                <a:lnTo>
                  <a:pt x="15794" y="6512"/>
                </a:lnTo>
                <a:lnTo>
                  <a:pt x="17752" y="6512"/>
                </a:lnTo>
                <a:arcTo wR="9088" hR="21600" stAng="2215617" swAng="3067306"/>
                <a:lnTo>
                  <a:pt x="9821" y="21530"/>
                </a:lnTo>
                <a:arcTo wR="9088" hR="21600" stAng="5517077" swAng="5282923"/>
                <a:close/>
              </a:path>
              <a:path fill="darkenLess" w="21600" h="21600">
                <a:moveTo>
                  <a:pt x="0" y="0"/>
                </a:moveTo>
                <a:arcTo wR="9088" hR="21600" stAng="10800000" swAng="-5400000"/>
                <a:lnTo>
                  <a:pt x="10555" y="21600"/>
                </a:lnTo>
                <a:arcTo wR="9088" hR="21600" stAng="5400000" swAng="117077"/>
                <a:lnTo>
                  <a:pt x="9821" y="21530"/>
                </a:lnTo>
                <a:arcTo wR="9088" hR="21600" stAng="5517077" swAng="5282923"/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37"/>
          <p:cNvSpPr/>
          <p:nvPr/>
        </p:nvSpPr>
        <p:spPr>
          <a:xfrm>
            <a:off x="6229440" y="5445000"/>
            <a:ext cx="503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00ffcc"/>
                </a:solidFill>
                <a:latin typeface="Arial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38"/>
          <p:cNvSpPr/>
          <p:nvPr/>
        </p:nvSpPr>
        <p:spPr>
          <a:xfrm>
            <a:off x="7093080" y="836640"/>
            <a:ext cx="122400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9600" spc="-1" strike="noStrike">
                <a:solidFill>
                  <a:srgbClr val="66ff33"/>
                </a:solidFill>
                <a:latin typeface="ALFABET98"/>
              </a:rPr>
              <a:t>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39"/>
          <p:cNvSpPr/>
          <p:nvPr/>
        </p:nvSpPr>
        <p:spPr>
          <a:xfrm>
            <a:off x="179280" y="115920"/>
            <a:ext cx="1800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HİKMET SIR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40"/>
          <p:cNvSpPr/>
          <p:nvPr/>
        </p:nvSpPr>
        <p:spPr>
          <a:xfrm>
            <a:off x="3205080" y="3141720"/>
            <a:ext cx="2087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ffff00"/>
                </a:solidFill>
                <a:latin typeface="ALFABET98"/>
              </a:rPr>
              <a:t>eksil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41"/>
          <p:cNvSpPr/>
          <p:nvPr/>
        </p:nvSpPr>
        <p:spPr>
          <a:xfrm>
            <a:off x="5578560" y="6165720"/>
            <a:ext cx="208908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ffff00"/>
                </a:solidFill>
                <a:latin typeface="ALFABET98"/>
              </a:rPr>
              <a:t>çık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42"/>
          <p:cNvSpPr/>
          <p:nvPr/>
        </p:nvSpPr>
        <p:spPr>
          <a:xfrm>
            <a:off x="1763640" y="6237360"/>
            <a:ext cx="16239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ffff00"/>
                </a:solidFill>
                <a:latin typeface="ALFABET98"/>
              </a:rPr>
              <a:t>kal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AutoShape 43"/>
          <p:cNvSpPr/>
          <p:nvPr/>
        </p:nvSpPr>
        <p:spPr>
          <a:xfrm>
            <a:off x="971640" y="5445000"/>
            <a:ext cx="3529080" cy="719280"/>
          </a:xfrm>
          <a:custGeom>
            <a:avLst/>
            <a:gdLst>
              <a:gd name="textAreaLeft" fmla="*/ 742320 w 3529080"/>
              <a:gd name="textAreaRight" fmla="*/ 2466720 w 3529080"/>
              <a:gd name="textAreaTop" fmla="*/ 96120 h 719280"/>
              <a:gd name="textAreaBottom" fmla="*/ 62316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088" hR="21600" stAng="10800000" swAng="-5400000"/>
                <a:lnTo>
                  <a:pt x="10555" y="21600"/>
                </a:lnTo>
                <a:arcTo wR="9088" hR="21600" stAng="5400000" swAng="-3184383"/>
                <a:lnTo>
                  <a:pt x="21177" y="6512"/>
                </a:lnTo>
                <a:lnTo>
                  <a:pt x="18909" y="0"/>
                </a:lnTo>
                <a:lnTo>
                  <a:pt x="15794" y="6512"/>
                </a:lnTo>
                <a:lnTo>
                  <a:pt x="17752" y="6512"/>
                </a:lnTo>
                <a:arcTo wR="9088" hR="21600" stAng="2215617" swAng="3067306"/>
                <a:lnTo>
                  <a:pt x="9821" y="21530"/>
                </a:lnTo>
                <a:arcTo wR="9088" hR="21600" stAng="5517077" swAng="5282923"/>
                <a:close/>
              </a:path>
              <a:path fill="darkenLess" w="21600" h="21600">
                <a:moveTo>
                  <a:pt x="0" y="0"/>
                </a:moveTo>
                <a:arcTo wR="9088" hR="21600" stAng="10800000" swAng="-5400000"/>
                <a:lnTo>
                  <a:pt x="10555" y="21600"/>
                </a:lnTo>
                <a:arcTo wR="9088" hR="21600" stAng="5400000" swAng="117077"/>
                <a:lnTo>
                  <a:pt x="9821" y="21530"/>
                </a:lnTo>
                <a:arcTo wR="9088" hR="21600" stAng="5517077" swAng="5282923"/>
                <a:close/>
              </a:path>
            </a:pathLst>
          </a:custGeom>
          <a:gradFill rotWithShape="0">
            <a:gsLst>
              <a:gs pos="0">
                <a:srgbClr val="00765e"/>
              </a:gs>
              <a:gs pos="50000">
                <a:srgbClr val="00ffcc"/>
              </a:gs>
              <a:gs pos="100000">
                <a:srgbClr val="00765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44"/>
          <p:cNvSpPr/>
          <p:nvPr/>
        </p:nvSpPr>
        <p:spPr>
          <a:xfrm>
            <a:off x="3419640" y="4365720"/>
            <a:ext cx="504720" cy="287280"/>
          </a:xfrm>
          <a:prstGeom prst="rect">
            <a:avLst/>
          </a:prstGeom>
          <a:gradFill rotWithShape="0">
            <a:gsLst>
              <a:gs pos="0">
                <a:srgbClr val="185e18"/>
              </a:gs>
              <a:gs pos="50000">
                <a:srgbClr val="33cc33"/>
              </a:gs>
              <a:gs pos="100000">
                <a:srgbClr val="185e1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45"/>
          <p:cNvSpPr/>
          <p:nvPr/>
        </p:nvSpPr>
        <p:spPr>
          <a:xfrm>
            <a:off x="4140360" y="4365720"/>
            <a:ext cx="576000" cy="287280"/>
          </a:xfrm>
          <a:prstGeom prst="rect">
            <a:avLst/>
          </a:prstGeom>
          <a:gradFill rotWithShape="0">
            <a:gsLst>
              <a:gs pos="0">
                <a:srgbClr val="185e18"/>
              </a:gs>
              <a:gs pos="50000">
                <a:srgbClr val="33cc33"/>
              </a:gs>
              <a:gs pos="100000">
                <a:srgbClr val="185e1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46"/>
          <p:cNvSpPr/>
          <p:nvPr/>
        </p:nvSpPr>
        <p:spPr>
          <a:xfrm>
            <a:off x="2268360" y="5516640"/>
            <a:ext cx="503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00ffcc"/>
                </a:solidFill>
                <a:latin typeface="Arial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47"/>
          <p:cNvSpPr/>
          <p:nvPr/>
        </p:nvSpPr>
        <p:spPr>
          <a:xfrm>
            <a:off x="4932360" y="4365720"/>
            <a:ext cx="576360" cy="287280"/>
          </a:xfrm>
          <a:prstGeom prst="rect">
            <a:avLst/>
          </a:prstGeom>
          <a:gradFill rotWithShape="0">
            <a:gsLst>
              <a:gs pos="0">
                <a:srgbClr val="185e18"/>
              </a:gs>
              <a:gs pos="50000">
                <a:srgbClr val="33cc33"/>
              </a:gs>
              <a:gs pos="100000">
                <a:srgbClr val="185e1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48"/>
          <p:cNvSpPr/>
          <p:nvPr/>
        </p:nvSpPr>
        <p:spPr>
          <a:xfrm>
            <a:off x="5724360" y="4365720"/>
            <a:ext cx="648000" cy="287280"/>
          </a:xfrm>
          <a:prstGeom prst="rect">
            <a:avLst/>
          </a:prstGeom>
          <a:gradFill rotWithShape="0">
            <a:gsLst>
              <a:gs pos="0">
                <a:srgbClr val="185e18"/>
              </a:gs>
              <a:gs pos="50000">
                <a:srgbClr val="33cc33"/>
              </a:gs>
              <a:gs pos="100000">
                <a:srgbClr val="185e1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49"/>
          <p:cNvSpPr/>
          <p:nvPr/>
        </p:nvSpPr>
        <p:spPr>
          <a:xfrm>
            <a:off x="6588000" y="4365720"/>
            <a:ext cx="576360" cy="287280"/>
          </a:xfrm>
          <a:prstGeom prst="rect">
            <a:avLst/>
          </a:prstGeom>
          <a:gradFill rotWithShape="0">
            <a:gsLst>
              <a:gs pos="0">
                <a:srgbClr val="185e18"/>
              </a:gs>
              <a:gs pos="50000">
                <a:srgbClr val="33cc33"/>
              </a:gs>
              <a:gs pos="100000">
                <a:srgbClr val="185e1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50"/>
          <p:cNvSpPr/>
          <p:nvPr/>
        </p:nvSpPr>
        <p:spPr>
          <a:xfrm>
            <a:off x="7380360" y="4365720"/>
            <a:ext cx="647640" cy="287280"/>
          </a:xfrm>
          <a:prstGeom prst="rect">
            <a:avLst/>
          </a:prstGeom>
          <a:gradFill rotWithShape="0">
            <a:gsLst>
              <a:gs pos="0">
                <a:srgbClr val="185e18"/>
              </a:gs>
              <a:gs pos="50000">
                <a:srgbClr val="33cc33"/>
              </a:gs>
              <a:gs pos="100000">
                <a:srgbClr val="185e1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9" dur="indefinite" restart="never" nodeType="tmRoot">
          <p:childTnLst>
            <p:seq>
              <p:cTn id="1090" dur="indefinite" nodeType="mainSeq">
                <p:childTnLst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5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6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9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0" fill="hold">
                      <p:stCondLst>
                        <p:cond delay="indefinite"/>
                      </p:stCondLst>
                      <p:childTnLst>
                        <p:par>
                          <p:cTn id="1101" fill="hold">
                            <p:stCondLst>
                              <p:cond delay="0"/>
                            </p:stCondLst>
                            <p:childTnLst>
                              <p:par>
                                <p:cTn id="110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4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5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6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7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8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3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4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5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6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7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8" fill="hold">
                      <p:stCondLst>
                        <p:cond delay="indefinite"/>
                      </p:stCondLst>
                      <p:childTnLst>
                        <p:par>
                          <p:cTn id="1119" fill="hold">
                            <p:stCondLst>
                              <p:cond delay="0"/>
                            </p:stCondLst>
                            <p:childTnLst>
                              <p:par>
                                <p:cTn id="112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2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3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4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5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6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1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2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3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4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5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6" fill="hold">
                      <p:stCondLst>
                        <p:cond delay="indefinite"/>
                      </p:stCondLst>
                      <p:childTnLst>
                        <p:par>
                          <p:cTn id="1137" fill="hold">
                            <p:stCondLst>
                              <p:cond delay="0"/>
                            </p:stCondLst>
                            <p:childTnLst>
                              <p:par>
                                <p:cTn id="113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0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1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2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3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4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9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0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1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2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3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4" fill="hold">
                      <p:stCondLst>
                        <p:cond delay="indefinite"/>
                      </p:stCondLst>
                      <p:childTnLst>
                        <p:par>
                          <p:cTn id="1155" fill="hold">
                            <p:stCondLst>
                              <p:cond delay="0"/>
                            </p:stCondLst>
                            <p:childTnLst>
                              <p:par>
                                <p:cTn id="115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8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9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0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1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2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3" fill="hold">
                      <p:stCondLst>
                        <p:cond delay="indefinite"/>
                      </p:stCondLst>
                      <p:childTnLst>
                        <p:par>
                          <p:cTn id="1164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7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8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9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0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73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74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5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76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7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78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9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80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1" fill="hold">
                      <p:stCondLst>
                        <p:cond delay="indefinite"/>
                      </p:stCondLst>
                      <p:childTnLst>
                        <p:par>
                          <p:cTn id="1182" fill="hold">
                            <p:stCondLst>
                              <p:cond delay="0"/>
                            </p:stCondLst>
                            <p:childTnLst>
                              <p:par>
                                <p:cTn id="118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5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6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7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8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9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0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91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92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3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94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5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96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7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98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9" fill="hold">
                      <p:stCondLst>
                        <p:cond delay="indefinite"/>
                      </p:stCondLst>
                      <p:childTnLst>
                        <p:par>
                          <p:cTn id="1200" fill="hold">
                            <p:stCondLst>
                              <p:cond delay="0"/>
                            </p:stCondLst>
                            <p:childTnLst>
                              <p:par>
                                <p:cTn id="120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3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4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5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6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7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8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09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10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11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12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13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14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15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16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7" fill="hold">
                      <p:stCondLst>
                        <p:cond delay="indefinite"/>
                      </p:stCondLst>
                      <p:childTnLst>
                        <p:par>
                          <p:cTn id="1218" fill="hold">
                            <p:stCondLst>
                              <p:cond delay="0"/>
                            </p:stCondLst>
                            <p:childTnLst>
                              <p:par>
                                <p:cTn id="121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1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2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3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4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5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6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27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28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29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30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1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32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3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34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5" fill="hold">
                      <p:stCondLst>
                        <p:cond delay="indefinite"/>
                      </p:stCondLst>
                      <p:childTnLst>
                        <p:par>
                          <p:cTn id="1236" fill="hold">
                            <p:stCondLst>
                              <p:cond delay="0"/>
                            </p:stCondLst>
                            <p:childTnLst>
                              <p:par>
                                <p:cTn id="123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9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0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1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2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3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4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45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46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47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48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49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50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1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52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3" fill="hold">
                      <p:stCondLst>
                        <p:cond delay="indefinite"/>
                      </p:stCondLst>
                      <p:childTnLst>
                        <p:par>
                          <p:cTn id="1254" fill="hold">
                            <p:stCondLst>
                              <p:cond delay="0"/>
                            </p:stCondLst>
                            <p:childTnLst>
                              <p:par>
                                <p:cTn id="125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7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8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9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0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1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2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63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64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65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66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67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68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69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70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1" fill="hold">
                      <p:stCondLst>
                        <p:cond delay="indefinite"/>
                      </p:stCondLst>
                      <p:childTnLst>
                        <p:par>
                          <p:cTn id="1272" fill="hold">
                            <p:stCondLst>
                              <p:cond delay="0"/>
                            </p:stCondLst>
                            <p:childTnLst>
                              <p:par>
                                <p:cTn id="127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5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6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7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8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9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0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81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82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83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84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85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86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87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88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9" fill="hold">
                      <p:stCondLst>
                        <p:cond delay="indefinite"/>
                      </p:stCondLst>
                      <p:childTnLst>
                        <p:par>
                          <p:cTn id="1290" fill="hold">
                            <p:stCondLst>
                              <p:cond delay="0"/>
                            </p:stCondLst>
                            <p:childTnLst>
                              <p:par>
                                <p:cTn id="129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3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4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5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6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7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8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99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00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01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02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03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04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05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06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1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2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3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4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5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6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17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18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19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20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21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22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23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24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5" fill="hold">
                      <p:stCondLst>
                        <p:cond delay="indefinite"/>
                      </p:stCondLst>
                      <p:childTnLst>
                        <p:par>
                          <p:cTn id="1326" fill="hold">
                            <p:stCondLst>
                              <p:cond delay="0"/>
                            </p:stCondLst>
                            <p:childTnLst>
                              <p:par>
                                <p:cTn id="13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9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0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1" fill="hold">
                      <p:stCondLst>
                        <p:cond delay="indefinite"/>
                      </p:stCondLst>
                      <p:childTnLst>
                        <p:par>
                          <p:cTn id="1332" fill="hold">
                            <p:stCondLst>
                              <p:cond delay="0"/>
                            </p:stCondLst>
                            <p:childTnLst>
                              <p:par>
                                <p:cTn id="133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5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6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7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8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9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0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41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42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43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44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45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46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47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48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9" fill="hold">
                      <p:stCondLst>
                        <p:cond delay="indefinite"/>
                      </p:stCondLst>
                      <p:childTnLst>
                        <p:par>
                          <p:cTn id="1350" fill="hold">
                            <p:stCondLst>
                              <p:cond delay="0"/>
                            </p:stCondLst>
                            <p:childTnLst>
                              <p:par>
                                <p:cTn id="135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3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4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5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6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7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8" fill="hold">
                      <p:stCondLst>
                        <p:cond delay="indefinite"/>
                      </p:stCondLst>
                      <p:childTnLst>
                        <p:par>
                          <p:cTn id="1359" fill="hold">
                            <p:stCondLst>
                              <p:cond delay="0"/>
                            </p:stCondLst>
                            <p:childTnLst>
                              <p:par>
                                <p:cTn id="136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61" dur="500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2" dur="500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4" fill="hold">
                      <p:stCondLst>
                        <p:cond delay="indefinite"/>
                      </p:stCondLst>
                      <p:childTnLst>
                        <p:par>
                          <p:cTn id="1365" fill="hold">
                            <p:stCondLst>
                              <p:cond delay="0"/>
                            </p:stCondLst>
                            <p:childTnLst>
                              <p:par>
                                <p:cTn id="136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67" dur="500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8" dur="500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0" fill="hold">
                      <p:stCondLst>
                        <p:cond delay="indefinite"/>
                      </p:stCondLst>
                      <p:childTnLst>
                        <p:par>
                          <p:cTn id="1371" fill="hold">
                            <p:stCondLst>
                              <p:cond delay="0"/>
                            </p:stCondLst>
                            <p:childTnLst>
                              <p:par>
                                <p:cTn id="137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73" dur="500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4" dur="500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6" fill="hold">
                      <p:stCondLst>
                        <p:cond delay="indefinite"/>
                      </p:stCondLst>
                      <p:childTnLst>
                        <p:par>
                          <p:cTn id="1377" fill="hold">
                            <p:stCondLst>
                              <p:cond delay="0"/>
                            </p:stCondLst>
                            <p:childTnLst>
                              <p:par>
                                <p:cTn id="137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79" dur="500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0" dur="500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2" fill="hold">
                      <p:stCondLst>
                        <p:cond delay="indefinite"/>
                      </p:stCondLst>
                      <p:childTnLst>
                        <p:par>
                          <p:cTn id="1383" fill="hold">
                            <p:stCondLst>
                              <p:cond delay="0"/>
                            </p:stCondLst>
                            <p:childTnLst>
                              <p:par>
                                <p:cTn id="138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85" dur="500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6" dur="500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8" fill="hold">
                      <p:stCondLst>
                        <p:cond delay="indefinite"/>
                      </p:stCondLst>
                      <p:childTnLst>
                        <p:par>
                          <p:cTn id="1389" fill="hold">
                            <p:stCondLst>
                              <p:cond delay="0"/>
                            </p:stCondLst>
                            <p:childTnLst>
                              <p:par>
                                <p:cTn id="13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2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3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4" fill="hold">
                      <p:stCondLst>
                        <p:cond delay="indefinite"/>
                      </p:stCondLst>
                      <p:childTnLst>
                        <p:par>
                          <p:cTn id="1395" fill="hold">
                            <p:stCondLst>
                              <p:cond delay="0"/>
                            </p:stCondLst>
                            <p:childTnLst>
                              <p:par>
                                <p:cTn id="139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8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9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0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1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2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3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04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05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06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07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08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09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10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11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2" fill="hold">
                      <p:stCondLst>
                        <p:cond delay="indefinite"/>
                      </p:stCondLst>
                      <p:childTnLst>
                        <p:par>
                          <p:cTn id="1413" fill="hold">
                            <p:stCondLst>
                              <p:cond delay="0"/>
                            </p:stCondLst>
                            <p:childTnLst>
                              <p:par>
                                <p:cTn id="141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6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7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8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9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0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1" fill="hold">
                      <p:stCondLst>
                        <p:cond delay="indefinite"/>
                      </p:stCondLst>
                      <p:childTnLst>
                        <p:par>
                          <p:cTn id="1422" fill="hold">
                            <p:stCondLst>
                              <p:cond delay="0"/>
                            </p:stCondLst>
                            <p:childTnLst>
                              <p:par>
                                <p:cTn id="14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5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6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7" fill="hold">
                      <p:stCondLst>
                        <p:cond delay="indefinite"/>
                      </p:stCondLst>
                      <p:childTnLst>
                        <p:par>
                          <p:cTn id="1428" fill="hold">
                            <p:stCondLst>
                              <p:cond delay="0"/>
                            </p:stCondLst>
                            <p:childTnLst>
                              <p:par>
                                <p:cTn id="142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1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2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3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4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5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6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37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38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39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40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41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42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43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44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5" fill="hold">
                      <p:stCondLst>
                        <p:cond delay="indefinite"/>
                      </p:stCondLst>
                      <p:childTnLst>
                        <p:par>
                          <p:cTn id="1446" fill="hold">
                            <p:stCondLst>
                              <p:cond delay="0"/>
                            </p:stCondLst>
                            <p:childTnLst>
                              <p:par>
                                <p:cTn id="144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9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0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1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2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3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4" fill="hold">
                      <p:stCondLst>
                        <p:cond delay="indefinite"/>
                      </p:stCondLst>
                      <p:childTnLst>
                        <p:par>
                          <p:cTn id="1455" fill="hold">
                            <p:stCondLst>
                              <p:cond delay="0"/>
                            </p:stCondLst>
                            <p:childTnLst>
                              <p:par>
                                <p:cTn id="145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57" dur="2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458" dur="2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9" fill="hold">
                      <p:stCondLst>
                        <p:cond delay="indefinite"/>
                      </p:stCondLst>
                      <p:childTnLst>
                        <p:par>
                          <p:cTn id="1460" fill="hold">
                            <p:stCondLst>
                              <p:cond delay="0"/>
                            </p:stCondLst>
                            <p:childTnLst>
                              <p:par>
                                <p:cTn id="1461" nodeType="clickEffect" fill="hold" presetClass="exit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462" dur="500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3" dur="500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4" dur="500"/>
                                        <p:tgtEl>
                                          <p:spTgt spid="2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65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7" fill="hold">
                      <p:stCondLst>
                        <p:cond delay="indefinite"/>
                      </p:stCondLst>
                      <p:childTnLst>
                        <p:par>
                          <p:cTn id="1468" fill="hold">
                            <p:stCondLst>
                              <p:cond delay="0"/>
                            </p:stCondLst>
                            <p:childTnLst>
                              <p:par>
                                <p:cTn id="146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1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2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3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4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5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6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77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78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79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80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81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82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83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84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5" fill="hold">
                      <p:stCondLst>
                        <p:cond delay="indefinite"/>
                      </p:stCondLst>
                      <p:childTnLst>
                        <p:par>
                          <p:cTn id="1486" fill="hold">
                            <p:stCondLst>
                              <p:cond delay="0"/>
                            </p:stCondLst>
                            <p:childTnLst>
                              <p:par>
                                <p:cTn id="148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88" dur="2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489" dur="2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755640" y="4797000"/>
            <a:ext cx="50328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00"/>
                </a:solidFill>
                <a:latin typeface="Arial"/>
              </a:rPr>
              <a:t>0</a:t>
            </a:r>
            <a:endParaRPr b="0" lang="en-US" sz="4400" spc="-1" strike="noStrike">
              <a:solidFill>
                <a:srgbClr val="efcfdf"/>
              </a:solidFill>
              <a:latin typeface="Arial"/>
            </a:endParaRPr>
          </a:p>
        </p:txBody>
      </p:sp>
      <p:sp>
        <p:nvSpPr>
          <p:cNvPr id="304" name="Line 3"/>
          <p:cNvSpPr/>
          <p:nvPr/>
        </p:nvSpPr>
        <p:spPr>
          <a:xfrm>
            <a:off x="395280" y="4508640"/>
            <a:ext cx="8424720" cy="0"/>
          </a:xfrm>
          <a:prstGeom prst="line">
            <a:avLst/>
          </a:prstGeom>
          <a:ln w="193680">
            <a:solidFill>
              <a:srgbClr val="00cc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Oval 4"/>
          <p:cNvSpPr/>
          <p:nvPr/>
        </p:nvSpPr>
        <p:spPr>
          <a:xfrm>
            <a:off x="900000" y="4437000"/>
            <a:ext cx="217440" cy="193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Oval 5"/>
          <p:cNvSpPr/>
          <p:nvPr/>
        </p:nvSpPr>
        <p:spPr>
          <a:xfrm>
            <a:off x="1617840" y="4437000"/>
            <a:ext cx="217440" cy="193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Oval 6"/>
          <p:cNvSpPr/>
          <p:nvPr/>
        </p:nvSpPr>
        <p:spPr>
          <a:xfrm>
            <a:off x="2409840" y="4437000"/>
            <a:ext cx="217440" cy="193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Oval 7"/>
          <p:cNvSpPr/>
          <p:nvPr/>
        </p:nvSpPr>
        <p:spPr>
          <a:xfrm>
            <a:off x="3201840" y="4437000"/>
            <a:ext cx="217800" cy="193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Oval 8"/>
          <p:cNvSpPr/>
          <p:nvPr/>
        </p:nvSpPr>
        <p:spPr>
          <a:xfrm>
            <a:off x="3922560" y="4437000"/>
            <a:ext cx="217800" cy="193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Oval 9"/>
          <p:cNvSpPr/>
          <p:nvPr/>
        </p:nvSpPr>
        <p:spPr>
          <a:xfrm>
            <a:off x="4714920" y="4437000"/>
            <a:ext cx="217440" cy="193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Oval 10"/>
          <p:cNvSpPr/>
          <p:nvPr/>
        </p:nvSpPr>
        <p:spPr>
          <a:xfrm>
            <a:off x="5506920" y="4437000"/>
            <a:ext cx="217440" cy="193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Oval 11"/>
          <p:cNvSpPr/>
          <p:nvPr/>
        </p:nvSpPr>
        <p:spPr>
          <a:xfrm>
            <a:off x="6370560" y="4437000"/>
            <a:ext cx="217440" cy="193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12"/>
          <p:cNvSpPr/>
          <p:nvPr/>
        </p:nvSpPr>
        <p:spPr>
          <a:xfrm>
            <a:off x="7162920" y="4437000"/>
            <a:ext cx="217440" cy="193680"/>
          </a:xfrm>
          <a:prstGeom prst="ellipse">
            <a:avLst/>
          </a:prstGeom>
          <a:solidFill>
            <a:srgbClr val="000000">
              <a:alpha val="9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Oval 13"/>
          <p:cNvSpPr/>
          <p:nvPr/>
        </p:nvSpPr>
        <p:spPr>
          <a:xfrm>
            <a:off x="8026560" y="4437000"/>
            <a:ext cx="217440" cy="193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14"/>
          <p:cNvSpPr/>
          <p:nvPr/>
        </p:nvSpPr>
        <p:spPr>
          <a:xfrm>
            <a:off x="1476360" y="4797360"/>
            <a:ext cx="503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00"/>
                </a:solidFill>
                <a:latin typeface="Arial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15"/>
          <p:cNvSpPr/>
          <p:nvPr/>
        </p:nvSpPr>
        <p:spPr>
          <a:xfrm>
            <a:off x="2268360" y="4797360"/>
            <a:ext cx="503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00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16"/>
          <p:cNvSpPr/>
          <p:nvPr/>
        </p:nvSpPr>
        <p:spPr>
          <a:xfrm>
            <a:off x="3060720" y="4797360"/>
            <a:ext cx="503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00"/>
                </a:solidFill>
                <a:latin typeface="Arial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17"/>
          <p:cNvSpPr/>
          <p:nvPr/>
        </p:nvSpPr>
        <p:spPr>
          <a:xfrm>
            <a:off x="3780000" y="4797360"/>
            <a:ext cx="5029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00"/>
                </a:solidFill>
                <a:latin typeface="Arial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18"/>
          <p:cNvSpPr/>
          <p:nvPr/>
        </p:nvSpPr>
        <p:spPr>
          <a:xfrm>
            <a:off x="4573440" y="4797360"/>
            <a:ext cx="503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00"/>
                </a:solidFill>
                <a:latin typeface="Arial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19"/>
          <p:cNvSpPr/>
          <p:nvPr/>
        </p:nvSpPr>
        <p:spPr>
          <a:xfrm>
            <a:off x="5364000" y="4724280"/>
            <a:ext cx="503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00"/>
                </a:solidFill>
                <a:latin typeface="Arial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20"/>
          <p:cNvSpPr/>
          <p:nvPr/>
        </p:nvSpPr>
        <p:spPr>
          <a:xfrm>
            <a:off x="6227640" y="4724280"/>
            <a:ext cx="503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00"/>
                </a:solidFill>
                <a:latin typeface="Arial"/>
              </a:rPr>
              <a:t>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21"/>
          <p:cNvSpPr/>
          <p:nvPr/>
        </p:nvSpPr>
        <p:spPr>
          <a:xfrm>
            <a:off x="7093080" y="4724280"/>
            <a:ext cx="503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00"/>
                </a:solidFill>
                <a:latin typeface="Arial"/>
              </a:rPr>
              <a:t>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22"/>
          <p:cNvSpPr/>
          <p:nvPr/>
        </p:nvSpPr>
        <p:spPr>
          <a:xfrm>
            <a:off x="7956720" y="4724280"/>
            <a:ext cx="5029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00"/>
                </a:solidFill>
                <a:latin typeface="Arial"/>
              </a:rPr>
              <a:t>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23"/>
          <p:cNvSpPr/>
          <p:nvPr/>
        </p:nvSpPr>
        <p:spPr>
          <a:xfrm>
            <a:off x="3852720" y="907920"/>
            <a:ext cx="1295640" cy="12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9600" spc="-1" strike="noStrike">
                <a:solidFill>
                  <a:srgbClr val="0000ff"/>
                </a:solidFill>
                <a:latin typeface="ALFABET98"/>
              </a:rPr>
              <a:t>6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24"/>
          <p:cNvSpPr/>
          <p:nvPr/>
        </p:nvSpPr>
        <p:spPr>
          <a:xfrm>
            <a:off x="4716360" y="763560"/>
            <a:ext cx="935280" cy="12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9600" spc="-1" strike="noStrike">
                <a:solidFill>
                  <a:srgbClr val="ffff00"/>
                </a:solidFill>
                <a:latin typeface="ALFABET98"/>
              </a:rPr>
              <a:t>-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25"/>
          <p:cNvSpPr/>
          <p:nvPr/>
        </p:nvSpPr>
        <p:spPr>
          <a:xfrm>
            <a:off x="5364000" y="907920"/>
            <a:ext cx="1295640" cy="12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9600" spc="-1" strike="noStrike">
                <a:solidFill>
                  <a:srgbClr val="0000ff"/>
                </a:solidFill>
                <a:latin typeface="ALFABET98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26"/>
          <p:cNvSpPr/>
          <p:nvPr/>
        </p:nvSpPr>
        <p:spPr>
          <a:xfrm>
            <a:off x="6156360" y="763560"/>
            <a:ext cx="863640" cy="12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9600" spc="-1" strike="noStrike">
                <a:solidFill>
                  <a:srgbClr val="ffff00"/>
                </a:solidFill>
                <a:latin typeface="ALFABET98"/>
              </a:rPr>
              <a:t>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27"/>
          <p:cNvSpPr/>
          <p:nvPr/>
        </p:nvSpPr>
        <p:spPr>
          <a:xfrm>
            <a:off x="6948360" y="836640"/>
            <a:ext cx="1295640" cy="12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9600" spc="-1" strike="noStrike">
                <a:solidFill>
                  <a:srgbClr val="00ffcc"/>
                </a:solidFill>
                <a:latin typeface="ALFABET98"/>
              </a:rPr>
              <a:t>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AutoShape 28"/>
          <p:cNvSpPr/>
          <p:nvPr/>
        </p:nvSpPr>
        <p:spPr>
          <a:xfrm>
            <a:off x="971640" y="3645000"/>
            <a:ext cx="5472000" cy="720720"/>
          </a:xfrm>
          <a:custGeom>
            <a:avLst/>
            <a:gdLst>
              <a:gd name="textAreaLeft" fmla="*/ 1131840 w 5472000"/>
              <a:gd name="textAreaRight" fmla="*/ 3542760 w 5472000"/>
              <a:gd name="textAreaTop" fmla="*/ 96480 h 720720"/>
              <a:gd name="textAreaBottom" fmla="*/ 624240 h 720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937" hR="21600" stAng="10800000" swAng="5400000"/>
                <a:lnTo>
                  <a:pt x="9517" y="0"/>
                </a:lnTo>
                <a:arcTo wR="8937" hR="21600" stAng="-5400000" swAng="2304906"/>
                <a:lnTo>
                  <a:pt x="20587" y="11609"/>
                </a:lnTo>
                <a:lnTo>
                  <a:pt x="18163" y="21600"/>
                </a:lnTo>
                <a:lnTo>
                  <a:pt x="13713" y="11609"/>
                </a:lnTo>
                <a:lnTo>
                  <a:pt x="16860" y="11609"/>
                </a:lnTo>
                <a:arcTo wR="8937" hR="21600" stAng="-3095094" swAng="-2258730"/>
                <a:lnTo>
                  <a:pt x="9227" y="11"/>
                </a:lnTo>
                <a:arcTo wR="8937" hR="21600" stAng="-5446176" swAng="-5353824"/>
                <a:close/>
              </a:path>
              <a:path fill="darkenLess" w="21600" h="21600">
                <a:moveTo>
                  <a:pt x="0" y="21600"/>
                </a:moveTo>
                <a:arcTo wR="8937" hR="21600" stAng="10800000" swAng="5400000"/>
                <a:lnTo>
                  <a:pt x="8937" y="0"/>
                </a:lnTo>
                <a:arcTo wR="8937" hR="21600" stAng="-5400000" swAng="46176"/>
                <a:lnTo>
                  <a:pt x="9227" y="11"/>
                </a:lnTo>
                <a:arcTo wR="8937" hR="21600" stAng="-5446176" swAng="-5353824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29"/>
          <p:cNvSpPr/>
          <p:nvPr/>
        </p:nvSpPr>
        <p:spPr>
          <a:xfrm>
            <a:off x="1116000" y="4365720"/>
            <a:ext cx="503280" cy="287280"/>
          </a:xfrm>
          <a:prstGeom prst="rect">
            <a:avLst/>
          </a:prstGeom>
          <a:gradFill rotWithShape="0">
            <a:gsLst>
              <a:gs pos="0">
                <a:srgbClr val="185e18"/>
              </a:gs>
              <a:gs pos="50000">
                <a:srgbClr val="33cc33"/>
              </a:gs>
              <a:gs pos="100000">
                <a:srgbClr val="185e1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30"/>
          <p:cNvSpPr/>
          <p:nvPr/>
        </p:nvSpPr>
        <p:spPr>
          <a:xfrm>
            <a:off x="1835280" y="4365720"/>
            <a:ext cx="576000" cy="287280"/>
          </a:xfrm>
          <a:prstGeom prst="rect">
            <a:avLst/>
          </a:prstGeom>
          <a:gradFill rotWithShape="0">
            <a:gsLst>
              <a:gs pos="0">
                <a:srgbClr val="185e18"/>
              </a:gs>
              <a:gs pos="50000">
                <a:srgbClr val="33cc33"/>
              </a:gs>
              <a:gs pos="100000">
                <a:srgbClr val="185e1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31"/>
          <p:cNvSpPr/>
          <p:nvPr/>
        </p:nvSpPr>
        <p:spPr>
          <a:xfrm>
            <a:off x="2627280" y="4365720"/>
            <a:ext cx="576360" cy="287280"/>
          </a:xfrm>
          <a:prstGeom prst="rect">
            <a:avLst/>
          </a:prstGeom>
          <a:gradFill rotWithShape="0">
            <a:gsLst>
              <a:gs pos="0">
                <a:srgbClr val="185e18"/>
              </a:gs>
              <a:gs pos="50000">
                <a:srgbClr val="33cc33"/>
              </a:gs>
              <a:gs pos="100000">
                <a:srgbClr val="185e1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32"/>
          <p:cNvSpPr/>
          <p:nvPr/>
        </p:nvSpPr>
        <p:spPr>
          <a:xfrm>
            <a:off x="3421080" y="2205000"/>
            <a:ext cx="2087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ffff00"/>
                </a:solidFill>
                <a:latin typeface="ALFABET98"/>
              </a:rPr>
              <a:t>eksil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33"/>
          <p:cNvSpPr/>
          <p:nvPr/>
        </p:nvSpPr>
        <p:spPr>
          <a:xfrm>
            <a:off x="5003640" y="2205000"/>
            <a:ext cx="2089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ffff00"/>
                </a:solidFill>
                <a:latin typeface="ALFABET98"/>
              </a:rPr>
              <a:t>çık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34"/>
          <p:cNvSpPr/>
          <p:nvPr/>
        </p:nvSpPr>
        <p:spPr>
          <a:xfrm>
            <a:off x="6764400" y="2205000"/>
            <a:ext cx="16239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ffff00"/>
                </a:solidFill>
                <a:latin typeface="ALFABET98"/>
              </a:rPr>
              <a:t>kal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35"/>
          <p:cNvSpPr/>
          <p:nvPr/>
        </p:nvSpPr>
        <p:spPr>
          <a:xfrm>
            <a:off x="2843280" y="3645000"/>
            <a:ext cx="5763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99ff"/>
                </a:solidFill>
                <a:latin typeface="Arial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AutoShape 36"/>
          <p:cNvSpPr/>
          <p:nvPr/>
        </p:nvSpPr>
        <p:spPr>
          <a:xfrm flipH="1">
            <a:off x="4572000" y="5373720"/>
            <a:ext cx="1224000" cy="719280"/>
          </a:xfrm>
          <a:custGeom>
            <a:avLst/>
            <a:gdLst>
              <a:gd name="textAreaLeft" fmla="*/ 257400 w 1224000"/>
              <a:gd name="textAreaRight" fmla="*/ 855720 w 1224000"/>
              <a:gd name="textAreaTop" fmla="*/ 96120 h 719280"/>
              <a:gd name="textAreaBottom" fmla="*/ 62316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088" hR="21600" stAng="10800000" swAng="-5400000"/>
                <a:lnTo>
                  <a:pt x="10555" y="21600"/>
                </a:lnTo>
                <a:arcTo wR="9088" hR="21600" stAng="5400000" swAng="-3184383"/>
                <a:lnTo>
                  <a:pt x="21177" y="6512"/>
                </a:lnTo>
                <a:lnTo>
                  <a:pt x="18909" y="0"/>
                </a:lnTo>
                <a:lnTo>
                  <a:pt x="15794" y="6512"/>
                </a:lnTo>
                <a:lnTo>
                  <a:pt x="17752" y="6512"/>
                </a:lnTo>
                <a:arcTo wR="9088" hR="21600" stAng="2215617" swAng="3067306"/>
                <a:lnTo>
                  <a:pt x="9821" y="21530"/>
                </a:lnTo>
                <a:arcTo wR="9088" hR="21600" stAng="5517077" swAng="5282923"/>
                <a:close/>
              </a:path>
              <a:path fill="darkenLess" w="21600" h="21600">
                <a:moveTo>
                  <a:pt x="0" y="0"/>
                </a:moveTo>
                <a:arcTo wR="9088" hR="21600" stAng="10800000" swAng="-5400000"/>
                <a:lnTo>
                  <a:pt x="10555" y="21600"/>
                </a:lnTo>
                <a:arcTo wR="9088" hR="21600" stAng="5400000" swAng="117077"/>
                <a:lnTo>
                  <a:pt x="9821" y="21530"/>
                </a:lnTo>
                <a:arcTo wR="9088" hR="21600" stAng="5517077" swAng="5282923"/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37"/>
          <p:cNvSpPr/>
          <p:nvPr/>
        </p:nvSpPr>
        <p:spPr>
          <a:xfrm>
            <a:off x="5076720" y="5445000"/>
            <a:ext cx="503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0099cc"/>
                </a:solidFill>
                <a:latin typeface="Arial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38"/>
          <p:cNvSpPr/>
          <p:nvPr/>
        </p:nvSpPr>
        <p:spPr>
          <a:xfrm>
            <a:off x="7020000" y="836640"/>
            <a:ext cx="122400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9600" spc="-1" strike="noStrike">
                <a:solidFill>
                  <a:srgbClr val="ffff00"/>
                </a:solidFill>
                <a:latin typeface="ALFABET98"/>
              </a:rPr>
              <a:t>5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39"/>
          <p:cNvSpPr/>
          <p:nvPr/>
        </p:nvSpPr>
        <p:spPr>
          <a:xfrm>
            <a:off x="179280" y="115920"/>
            <a:ext cx="1800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HİKMET SIR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40"/>
          <p:cNvSpPr/>
          <p:nvPr/>
        </p:nvSpPr>
        <p:spPr>
          <a:xfrm>
            <a:off x="2124000" y="3141720"/>
            <a:ext cx="2087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ffff00"/>
                </a:solidFill>
                <a:latin typeface="ALFABET98"/>
              </a:rPr>
              <a:t>eksil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41"/>
          <p:cNvSpPr/>
          <p:nvPr/>
        </p:nvSpPr>
        <p:spPr>
          <a:xfrm>
            <a:off x="4354560" y="6165720"/>
            <a:ext cx="208908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ffff00"/>
                </a:solidFill>
                <a:latin typeface="ALFABET98"/>
              </a:rPr>
              <a:t>çık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42"/>
          <p:cNvSpPr/>
          <p:nvPr/>
        </p:nvSpPr>
        <p:spPr>
          <a:xfrm>
            <a:off x="2195640" y="6165720"/>
            <a:ext cx="16239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ffff00"/>
                </a:solidFill>
                <a:latin typeface="ALFABET98"/>
              </a:rPr>
              <a:t>kal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AutoShape 43"/>
          <p:cNvSpPr/>
          <p:nvPr/>
        </p:nvSpPr>
        <p:spPr>
          <a:xfrm>
            <a:off x="971640" y="5445000"/>
            <a:ext cx="4248000" cy="719280"/>
          </a:xfrm>
          <a:custGeom>
            <a:avLst/>
            <a:gdLst>
              <a:gd name="textAreaLeft" fmla="*/ 893520 w 4248000"/>
              <a:gd name="textAreaRight" fmla="*/ 2969280 w 4248000"/>
              <a:gd name="textAreaTop" fmla="*/ 96120 h 719280"/>
              <a:gd name="textAreaBottom" fmla="*/ 62316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088" hR="21600" stAng="10800000" swAng="-5400000"/>
                <a:lnTo>
                  <a:pt x="10555" y="21600"/>
                </a:lnTo>
                <a:arcTo wR="9088" hR="21600" stAng="5400000" swAng="-3184383"/>
                <a:lnTo>
                  <a:pt x="21177" y="6512"/>
                </a:lnTo>
                <a:lnTo>
                  <a:pt x="18909" y="0"/>
                </a:lnTo>
                <a:lnTo>
                  <a:pt x="15794" y="6512"/>
                </a:lnTo>
                <a:lnTo>
                  <a:pt x="17752" y="6512"/>
                </a:lnTo>
                <a:arcTo wR="9088" hR="21600" stAng="2215617" swAng="3067306"/>
                <a:lnTo>
                  <a:pt x="9821" y="21530"/>
                </a:lnTo>
                <a:arcTo wR="9088" hR="21600" stAng="5517077" swAng="5282923"/>
                <a:close/>
              </a:path>
              <a:path fill="darkenLess" w="21600" h="21600">
                <a:moveTo>
                  <a:pt x="0" y="0"/>
                </a:moveTo>
                <a:arcTo wR="9088" hR="21600" stAng="10800000" swAng="-5400000"/>
                <a:lnTo>
                  <a:pt x="10555" y="21600"/>
                </a:lnTo>
                <a:arcTo wR="9088" hR="21600" stAng="5400000" swAng="117077"/>
                <a:lnTo>
                  <a:pt x="9821" y="21530"/>
                </a:lnTo>
                <a:arcTo wR="9088" hR="21600" stAng="5517077" swAng="5282923"/>
                <a:close/>
              </a:path>
            </a:pathLst>
          </a:custGeom>
          <a:gradFill rotWithShape="0">
            <a:gsLst>
              <a:gs pos="0">
                <a:srgbClr val="00765e"/>
              </a:gs>
              <a:gs pos="50000">
                <a:srgbClr val="00ffcc"/>
              </a:gs>
              <a:gs pos="100000">
                <a:srgbClr val="00765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44"/>
          <p:cNvSpPr/>
          <p:nvPr/>
        </p:nvSpPr>
        <p:spPr>
          <a:xfrm>
            <a:off x="3419640" y="4365720"/>
            <a:ext cx="504720" cy="287280"/>
          </a:xfrm>
          <a:prstGeom prst="rect">
            <a:avLst/>
          </a:prstGeom>
          <a:gradFill rotWithShape="0">
            <a:gsLst>
              <a:gs pos="0">
                <a:srgbClr val="185e18"/>
              </a:gs>
              <a:gs pos="50000">
                <a:srgbClr val="33cc33"/>
              </a:gs>
              <a:gs pos="100000">
                <a:srgbClr val="185e1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45"/>
          <p:cNvSpPr/>
          <p:nvPr/>
        </p:nvSpPr>
        <p:spPr>
          <a:xfrm>
            <a:off x="4140360" y="4365720"/>
            <a:ext cx="576000" cy="287280"/>
          </a:xfrm>
          <a:prstGeom prst="rect">
            <a:avLst/>
          </a:prstGeom>
          <a:gradFill rotWithShape="0">
            <a:gsLst>
              <a:gs pos="0">
                <a:srgbClr val="185e18"/>
              </a:gs>
              <a:gs pos="50000">
                <a:srgbClr val="33cc33"/>
              </a:gs>
              <a:gs pos="100000">
                <a:srgbClr val="185e1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46"/>
          <p:cNvSpPr/>
          <p:nvPr/>
        </p:nvSpPr>
        <p:spPr>
          <a:xfrm>
            <a:off x="2700360" y="5516640"/>
            <a:ext cx="503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00ffcc"/>
                </a:solidFill>
                <a:latin typeface="Arial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47"/>
          <p:cNvSpPr/>
          <p:nvPr/>
        </p:nvSpPr>
        <p:spPr>
          <a:xfrm>
            <a:off x="4932360" y="4365720"/>
            <a:ext cx="576360" cy="287280"/>
          </a:xfrm>
          <a:prstGeom prst="rect">
            <a:avLst/>
          </a:prstGeom>
          <a:gradFill rotWithShape="0">
            <a:gsLst>
              <a:gs pos="0">
                <a:srgbClr val="185e18"/>
              </a:gs>
              <a:gs pos="50000">
                <a:srgbClr val="33cc33"/>
              </a:gs>
              <a:gs pos="100000">
                <a:srgbClr val="185e1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0" dur="indefinite" restart="never" nodeType="tmRoot">
          <p:childTnLst>
            <p:seq>
              <p:cTn id="1491" dur="indefinite" nodeType="mainSeq">
                <p:childTnLst>
                  <p:par>
                    <p:cTn id="1492" fill="hold">
                      <p:stCondLst>
                        <p:cond delay="indefinite"/>
                      </p:stCondLst>
                      <p:childTnLst>
                        <p:par>
                          <p:cTn id="1493" fill="hold">
                            <p:stCondLst>
                              <p:cond delay="0"/>
                            </p:stCondLst>
                            <p:childTnLst>
                              <p:par>
                                <p:cTn id="149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6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7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8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9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0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1" fill="hold">
                      <p:stCondLst>
                        <p:cond delay="indefinite"/>
                      </p:stCondLst>
                      <p:childTnLst>
                        <p:par>
                          <p:cTn id="1502" fill="hold">
                            <p:stCondLst>
                              <p:cond delay="0"/>
                            </p:stCondLst>
                            <p:childTnLst>
                              <p:par>
                                <p:cTn id="150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5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6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7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8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9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0" fill="hold">
                      <p:stCondLst>
                        <p:cond delay="indefinite"/>
                      </p:stCondLst>
                      <p:childTnLst>
                        <p:par>
                          <p:cTn id="1511" fill="hold">
                            <p:stCondLst>
                              <p:cond delay="0"/>
                            </p:stCondLst>
                            <p:childTnLst>
                              <p:par>
                                <p:cTn id="151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4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5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6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7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8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9" fill="hold">
                      <p:stCondLst>
                        <p:cond delay="indefinite"/>
                      </p:stCondLst>
                      <p:childTnLst>
                        <p:par>
                          <p:cTn id="1520" fill="hold">
                            <p:stCondLst>
                              <p:cond delay="0"/>
                            </p:stCondLst>
                            <p:childTnLst>
                              <p:par>
                                <p:cTn id="152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3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4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5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6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8" fill="hold">
                      <p:stCondLst>
                        <p:cond delay="indefinite"/>
                      </p:stCondLst>
                      <p:childTnLst>
                        <p:par>
                          <p:cTn id="1529" fill="hold">
                            <p:stCondLst>
                              <p:cond delay="0"/>
                            </p:stCondLst>
                            <p:childTnLst>
                              <p:par>
                                <p:cTn id="153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2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3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4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5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6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7" fill="hold">
                      <p:stCondLst>
                        <p:cond delay="indefinite"/>
                      </p:stCondLst>
                      <p:childTnLst>
                        <p:par>
                          <p:cTn id="1538" fill="hold">
                            <p:stCondLst>
                              <p:cond delay="0"/>
                            </p:stCondLst>
                            <p:childTnLst>
                              <p:par>
                                <p:cTn id="153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1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2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5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6" fill="hold">
                      <p:stCondLst>
                        <p:cond delay="indefinite"/>
                      </p:stCondLst>
                      <p:childTnLst>
                        <p:par>
                          <p:cTn id="1547" fill="hold">
                            <p:stCondLst>
                              <p:cond delay="0"/>
                            </p:stCondLst>
                            <p:childTnLst>
                              <p:par>
                                <p:cTn id="154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0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1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2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3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4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5" fill="hold">
                      <p:stCondLst>
                        <p:cond delay="indefinite"/>
                      </p:stCondLst>
                      <p:childTnLst>
                        <p:par>
                          <p:cTn id="1556" fill="hold">
                            <p:stCondLst>
                              <p:cond delay="0"/>
                            </p:stCondLst>
                            <p:childTnLst>
                              <p:par>
                                <p:cTn id="155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9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0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1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2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3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4" fill="hold">
                      <p:stCondLst>
                        <p:cond delay="indefinite"/>
                      </p:stCondLst>
                      <p:childTnLst>
                        <p:par>
                          <p:cTn id="1565" fill="hold">
                            <p:stCondLst>
                              <p:cond delay="0"/>
                            </p:stCondLst>
                            <p:childTnLst>
                              <p:par>
                                <p:cTn id="156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8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9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0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1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2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3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74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75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76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77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78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79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80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81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2" fill="hold">
                      <p:stCondLst>
                        <p:cond delay="indefinite"/>
                      </p:stCondLst>
                      <p:childTnLst>
                        <p:par>
                          <p:cTn id="1583" fill="hold">
                            <p:stCondLst>
                              <p:cond delay="0"/>
                            </p:stCondLst>
                            <p:childTnLst>
                              <p:par>
                                <p:cTn id="158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6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7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8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9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0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1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92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93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94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95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96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97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98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99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0" fill="hold">
                      <p:stCondLst>
                        <p:cond delay="indefinite"/>
                      </p:stCondLst>
                      <p:childTnLst>
                        <p:par>
                          <p:cTn id="1601" fill="hold">
                            <p:stCondLst>
                              <p:cond delay="0"/>
                            </p:stCondLst>
                            <p:childTnLst>
                              <p:par>
                                <p:cTn id="160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4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5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6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7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8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9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10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11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12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13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14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15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16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17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8" fill="hold">
                      <p:stCondLst>
                        <p:cond delay="indefinite"/>
                      </p:stCondLst>
                      <p:childTnLst>
                        <p:par>
                          <p:cTn id="1619" fill="hold">
                            <p:stCondLst>
                              <p:cond delay="0"/>
                            </p:stCondLst>
                            <p:childTnLst>
                              <p:par>
                                <p:cTn id="162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2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3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4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5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6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7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28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29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30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31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32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33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34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35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6" fill="hold">
                      <p:stCondLst>
                        <p:cond delay="indefinite"/>
                      </p:stCondLst>
                      <p:childTnLst>
                        <p:par>
                          <p:cTn id="1637" fill="hold">
                            <p:stCondLst>
                              <p:cond delay="0"/>
                            </p:stCondLst>
                            <p:childTnLst>
                              <p:par>
                                <p:cTn id="163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0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1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2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3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4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5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46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47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48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49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50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51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52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53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4" fill="hold">
                      <p:stCondLst>
                        <p:cond delay="indefinite"/>
                      </p:stCondLst>
                      <p:childTnLst>
                        <p:par>
                          <p:cTn id="1655" fill="hold">
                            <p:stCondLst>
                              <p:cond delay="0"/>
                            </p:stCondLst>
                            <p:childTnLst>
                              <p:par>
                                <p:cTn id="165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8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9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0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1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2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3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64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65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66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67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68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69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70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71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2" fill="hold">
                      <p:stCondLst>
                        <p:cond delay="indefinite"/>
                      </p:stCondLst>
                      <p:childTnLst>
                        <p:par>
                          <p:cTn id="1673" fill="hold">
                            <p:stCondLst>
                              <p:cond delay="0"/>
                            </p:stCondLst>
                            <p:childTnLst>
                              <p:par>
                                <p:cTn id="167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6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7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8" fill="hold">
                      <p:stCondLst>
                        <p:cond delay="indefinite"/>
                      </p:stCondLst>
                      <p:childTnLst>
                        <p:par>
                          <p:cTn id="1679" fill="hold">
                            <p:stCondLst>
                              <p:cond delay="0"/>
                            </p:stCondLst>
                            <p:childTnLst>
                              <p:par>
                                <p:cTn id="168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2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3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4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5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6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7" fill="hold">
                      <p:stCondLst>
                        <p:cond delay="indefinite"/>
                      </p:stCondLst>
                      <p:childTnLst>
                        <p:par>
                          <p:cTn id="1688" fill="hold">
                            <p:stCondLst>
                              <p:cond delay="0"/>
                            </p:stCondLst>
                            <p:childTnLst>
                              <p:par>
                                <p:cTn id="168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1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2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3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4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5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6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97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98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99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00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01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02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03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04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5" fill="hold">
                      <p:stCondLst>
                        <p:cond delay="indefinite"/>
                      </p:stCondLst>
                      <p:childTnLst>
                        <p:par>
                          <p:cTn id="1706" fill="hold">
                            <p:stCondLst>
                              <p:cond delay="0"/>
                            </p:stCondLst>
                            <p:childTnLst>
                              <p:par>
                                <p:cTn id="170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08" dur="500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9" dur="500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1" fill="hold">
                      <p:stCondLst>
                        <p:cond delay="indefinite"/>
                      </p:stCondLst>
                      <p:childTnLst>
                        <p:par>
                          <p:cTn id="1712" fill="hold">
                            <p:stCondLst>
                              <p:cond delay="0"/>
                            </p:stCondLst>
                            <p:childTnLst>
                              <p:par>
                                <p:cTn id="17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5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6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7" fill="hold">
                      <p:stCondLst>
                        <p:cond delay="indefinite"/>
                      </p:stCondLst>
                      <p:childTnLst>
                        <p:par>
                          <p:cTn id="1718" fill="hold">
                            <p:stCondLst>
                              <p:cond delay="0"/>
                            </p:stCondLst>
                            <p:childTnLst>
                              <p:par>
                                <p:cTn id="171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1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2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3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4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5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6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27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28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29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30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31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32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33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34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5" fill="hold">
                      <p:stCondLst>
                        <p:cond delay="indefinite"/>
                      </p:stCondLst>
                      <p:childTnLst>
                        <p:par>
                          <p:cTn id="1736" fill="hold">
                            <p:stCondLst>
                              <p:cond delay="0"/>
                            </p:stCondLst>
                            <p:childTnLst>
                              <p:par>
                                <p:cTn id="173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9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0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1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2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3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4" fill="hold">
                      <p:stCondLst>
                        <p:cond delay="indefinite"/>
                      </p:stCondLst>
                      <p:childTnLst>
                        <p:par>
                          <p:cTn id="1745" fill="hold">
                            <p:stCondLst>
                              <p:cond delay="0"/>
                            </p:stCondLst>
                            <p:childTnLst>
                              <p:par>
                                <p:cTn id="17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8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9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0" fill="hold">
                      <p:stCondLst>
                        <p:cond delay="indefinite"/>
                      </p:stCondLst>
                      <p:childTnLst>
                        <p:par>
                          <p:cTn id="1751" fill="hold">
                            <p:stCondLst>
                              <p:cond delay="0"/>
                            </p:stCondLst>
                            <p:childTnLst>
                              <p:par>
                                <p:cTn id="175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4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5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6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7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8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9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60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61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62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63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64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65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66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67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8" fill="hold">
                      <p:stCondLst>
                        <p:cond delay="indefinite"/>
                      </p:stCondLst>
                      <p:childTnLst>
                        <p:par>
                          <p:cTn id="1769" fill="hold">
                            <p:stCondLst>
                              <p:cond delay="0"/>
                            </p:stCondLst>
                            <p:childTnLst>
                              <p:par>
                                <p:cTn id="177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2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3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4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5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6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7" fill="hold">
                      <p:stCondLst>
                        <p:cond delay="indefinite"/>
                      </p:stCondLst>
                      <p:childTnLst>
                        <p:par>
                          <p:cTn id="1778" fill="hold">
                            <p:stCondLst>
                              <p:cond delay="0"/>
                            </p:stCondLst>
                            <p:childTnLst>
                              <p:par>
                                <p:cTn id="1779" nodeType="clickEffect" fill="hold" presetClass="exit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780" dur="500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1" dur="500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2" dur="500"/>
                                        <p:tgtEl>
                                          <p:spTgt spid="3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83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5" fill="hold">
                      <p:stCondLst>
                        <p:cond delay="indefinite"/>
                      </p:stCondLst>
                      <p:childTnLst>
                        <p:par>
                          <p:cTn id="1786" fill="hold">
                            <p:stCondLst>
                              <p:cond delay="0"/>
                            </p:stCondLst>
                            <p:childTnLst>
                              <p:par>
                                <p:cTn id="178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89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0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1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2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3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4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95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96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97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98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99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00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01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02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3" fill="hold">
                      <p:stCondLst>
                        <p:cond delay="indefinite"/>
                      </p:stCondLst>
                      <p:childTnLst>
                        <p:par>
                          <p:cTn id="1804" fill="hold">
                            <p:stCondLst>
                              <p:cond delay="0"/>
                            </p:stCondLst>
                            <p:childTnLst>
                              <p:par>
                                <p:cTn id="180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06" dur="2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807" dur="2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8" fill="hold">
                      <p:stCondLst>
                        <p:cond delay="indefinite"/>
                      </p:stCondLst>
                      <p:childTnLst>
                        <p:par>
                          <p:cTn id="1809" fill="hold">
                            <p:stCondLst>
                              <p:cond delay="0"/>
                            </p:stCondLst>
                            <p:childTnLst>
                              <p:par>
                                <p:cTn id="181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11" dur="2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812" dur="2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755640" y="4797000"/>
            <a:ext cx="50328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00"/>
                </a:solidFill>
                <a:latin typeface="Arial"/>
              </a:rPr>
              <a:t>0</a:t>
            </a:r>
            <a:endParaRPr b="0" lang="en-US" sz="4400" spc="-1" strike="noStrike">
              <a:solidFill>
                <a:srgbClr val="efcfdf"/>
              </a:solidFill>
              <a:latin typeface="Arial"/>
            </a:endParaRPr>
          </a:p>
        </p:txBody>
      </p:sp>
      <p:sp>
        <p:nvSpPr>
          <p:cNvPr id="350" name="Line 3"/>
          <p:cNvSpPr/>
          <p:nvPr/>
        </p:nvSpPr>
        <p:spPr>
          <a:xfrm>
            <a:off x="395280" y="4508640"/>
            <a:ext cx="8424720" cy="0"/>
          </a:xfrm>
          <a:prstGeom prst="line">
            <a:avLst/>
          </a:prstGeom>
          <a:ln w="193680">
            <a:solidFill>
              <a:srgbClr val="ffff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Oval 4"/>
          <p:cNvSpPr/>
          <p:nvPr/>
        </p:nvSpPr>
        <p:spPr>
          <a:xfrm>
            <a:off x="900000" y="4437000"/>
            <a:ext cx="217440" cy="193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Oval 5"/>
          <p:cNvSpPr/>
          <p:nvPr/>
        </p:nvSpPr>
        <p:spPr>
          <a:xfrm>
            <a:off x="1617840" y="4437000"/>
            <a:ext cx="217440" cy="193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Oval 6"/>
          <p:cNvSpPr/>
          <p:nvPr/>
        </p:nvSpPr>
        <p:spPr>
          <a:xfrm>
            <a:off x="2409840" y="4437000"/>
            <a:ext cx="217440" cy="193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Oval 7"/>
          <p:cNvSpPr/>
          <p:nvPr/>
        </p:nvSpPr>
        <p:spPr>
          <a:xfrm>
            <a:off x="3201840" y="4437000"/>
            <a:ext cx="217800" cy="193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Oval 8"/>
          <p:cNvSpPr/>
          <p:nvPr/>
        </p:nvSpPr>
        <p:spPr>
          <a:xfrm>
            <a:off x="3922560" y="4437000"/>
            <a:ext cx="217800" cy="193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Oval 9"/>
          <p:cNvSpPr/>
          <p:nvPr/>
        </p:nvSpPr>
        <p:spPr>
          <a:xfrm>
            <a:off x="4714920" y="4437000"/>
            <a:ext cx="217440" cy="193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Oval 10"/>
          <p:cNvSpPr/>
          <p:nvPr/>
        </p:nvSpPr>
        <p:spPr>
          <a:xfrm>
            <a:off x="5506920" y="4437000"/>
            <a:ext cx="217440" cy="193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Oval 11"/>
          <p:cNvSpPr/>
          <p:nvPr/>
        </p:nvSpPr>
        <p:spPr>
          <a:xfrm>
            <a:off x="6370560" y="4437000"/>
            <a:ext cx="217440" cy="193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Oval 12"/>
          <p:cNvSpPr/>
          <p:nvPr/>
        </p:nvSpPr>
        <p:spPr>
          <a:xfrm>
            <a:off x="7162920" y="4437000"/>
            <a:ext cx="217440" cy="193680"/>
          </a:xfrm>
          <a:prstGeom prst="ellipse">
            <a:avLst/>
          </a:prstGeom>
          <a:solidFill>
            <a:srgbClr val="000000">
              <a:alpha val="9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Oval 13"/>
          <p:cNvSpPr/>
          <p:nvPr/>
        </p:nvSpPr>
        <p:spPr>
          <a:xfrm>
            <a:off x="8026560" y="4437000"/>
            <a:ext cx="217440" cy="193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14"/>
          <p:cNvSpPr/>
          <p:nvPr/>
        </p:nvSpPr>
        <p:spPr>
          <a:xfrm>
            <a:off x="1476360" y="4797360"/>
            <a:ext cx="503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00"/>
                </a:solidFill>
                <a:latin typeface="Arial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15"/>
          <p:cNvSpPr/>
          <p:nvPr/>
        </p:nvSpPr>
        <p:spPr>
          <a:xfrm>
            <a:off x="2268360" y="4797360"/>
            <a:ext cx="503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00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16"/>
          <p:cNvSpPr/>
          <p:nvPr/>
        </p:nvSpPr>
        <p:spPr>
          <a:xfrm>
            <a:off x="3060720" y="4797360"/>
            <a:ext cx="503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00"/>
                </a:solidFill>
                <a:latin typeface="Arial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17"/>
          <p:cNvSpPr/>
          <p:nvPr/>
        </p:nvSpPr>
        <p:spPr>
          <a:xfrm>
            <a:off x="3780000" y="4797360"/>
            <a:ext cx="5029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00"/>
                </a:solidFill>
                <a:latin typeface="Arial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ectangle 18"/>
          <p:cNvSpPr/>
          <p:nvPr/>
        </p:nvSpPr>
        <p:spPr>
          <a:xfrm>
            <a:off x="4573440" y="4797360"/>
            <a:ext cx="503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00"/>
                </a:solidFill>
                <a:latin typeface="Arial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19"/>
          <p:cNvSpPr/>
          <p:nvPr/>
        </p:nvSpPr>
        <p:spPr>
          <a:xfrm>
            <a:off x="5364000" y="4724280"/>
            <a:ext cx="503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00"/>
                </a:solidFill>
                <a:latin typeface="Arial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20"/>
          <p:cNvSpPr/>
          <p:nvPr/>
        </p:nvSpPr>
        <p:spPr>
          <a:xfrm>
            <a:off x="6227640" y="4724280"/>
            <a:ext cx="503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00"/>
                </a:solidFill>
                <a:latin typeface="Arial"/>
              </a:rPr>
              <a:t>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21"/>
          <p:cNvSpPr/>
          <p:nvPr/>
        </p:nvSpPr>
        <p:spPr>
          <a:xfrm>
            <a:off x="7093080" y="4724280"/>
            <a:ext cx="503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00"/>
                </a:solidFill>
                <a:latin typeface="Arial"/>
              </a:rPr>
              <a:t>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22"/>
          <p:cNvSpPr/>
          <p:nvPr/>
        </p:nvSpPr>
        <p:spPr>
          <a:xfrm>
            <a:off x="7956720" y="4724280"/>
            <a:ext cx="5029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00"/>
                </a:solidFill>
                <a:latin typeface="Arial"/>
              </a:rPr>
              <a:t>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23"/>
          <p:cNvSpPr/>
          <p:nvPr/>
        </p:nvSpPr>
        <p:spPr>
          <a:xfrm>
            <a:off x="3852720" y="907920"/>
            <a:ext cx="1295640" cy="12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9600" spc="-1" strike="noStrike">
                <a:solidFill>
                  <a:srgbClr val="0000ff"/>
                </a:solidFill>
                <a:latin typeface="ALFABET98"/>
              </a:rPr>
              <a:t>7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24"/>
          <p:cNvSpPr/>
          <p:nvPr/>
        </p:nvSpPr>
        <p:spPr>
          <a:xfrm>
            <a:off x="4716360" y="763560"/>
            <a:ext cx="935280" cy="12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9600" spc="-1" strike="noStrike">
                <a:solidFill>
                  <a:srgbClr val="ffff00"/>
                </a:solidFill>
                <a:latin typeface="ALFABET98"/>
              </a:rPr>
              <a:t>-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25"/>
          <p:cNvSpPr/>
          <p:nvPr/>
        </p:nvSpPr>
        <p:spPr>
          <a:xfrm>
            <a:off x="5364000" y="907920"/>
            <a:ext cx="1295640" cy="12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9600" spc="-1" strike="noStrike">
                <a:solidFill>
                  <a:srgbClr val="0000ff"/>
                </a:solidFill>
                <a:latin typeface="ALFABET98"/>
              </a:rPr>
              <a:t>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26"/>
          <p:cNvSpPr/>
          <p:nvPr/>
        </p:nvSpPr>
        <p:spPr>
          <a:xfrm>
            <a:off x="6156360" y="763560"/>
            <a:ext cx="1295280" cy="12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9600" spc="-1" strike="noStrike">
                <a:solidFill>
                  <a:srgbClr val="ffff00"/>
                </a:solidFill>
                <a:latin typeface="ALFABET98"/>
              </a:rPr>
              <a:t>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27"/>
          <p:cNvSpPr/>
          <p:nvPr/>
        </p:nvSpPr>
        <p:spPr>
          <a:xfrm>
            <a:off x="6948360" y="836640"/>
            <a:ext cx="1295640" cy="12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9600" spc="-1" strike="noStrike">
                <a:solidFill>
                  <a:srgbClr val="00ffcc"/>
                </a:solidFill>
                <a:latin typeface="ALFABET98"/>
              </a:rPr>
              <a:t>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AutoShape 28"/>
          <p:cNvSpPr/>
          <p:nvPr/>
        </p:nvSpPr>
        <p:spPr>
          <a:xfrm>
            <a:off x="971640" y="3645000"/>
            <a:ext cx="6408720" cy="720720"/>
          </a:xfrm>
          <a:custGeom>
            <a:avLst/>
            <a:gdLst>
              <a:gd name="textAreaLeft" fmla="*/ 1325520 w 6408720"/>
              <a:gd name="textAreaRight" fmla="*/ 4149360 w 6408720"/>
              <a:gd name="textAreaTop" fmla="*/ 96480 h 720720"/>
              <a:gd name="textAreaBottom" fmla="*/ 624240 h 720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937" hR="21600" stAng="10800000" swAng="5400000"/>
                <a:lnTo>
                  <a:pt x="9517" y="0"/>
                </a:lnTo>
                <a:arcTo wR="8937" hR="21600" stAng="-5400000" swAng="2304906"/>
                <a:lnTo>
                  <a:pt x="20587" y="11609"/>
                </a:lnTo>
                <a:lnTo>
                  <a:pt x="18163" y="21600"/>
                </a:lnTo>
                <a:lnTo>
                  <a:pt x="13713" y="11609"/>
                </a:lnTo>
                <a:lnTo>
                  <a:pt x="16860" y="11609"/>
                </a:lnTo>
                <a:arcTo wR="8937" hR="21600" stAng="-3095094" swAng="-2258730"/>
                <a:lnTo>
                  <a:pt x="9227" y="11"/>
                </a:lnTo>
                <a:arcTo wR="8937" hR="21600" stAng="-5446176" swAng="-5353824"/>
                <a:close/>
              </a:path>
              <a:path fill="darkenLess" w="21600" h="21600">
                <a:moveTo>
                  <a:pt x="0" y="21600"/>
                </a:moveTo>
                <a:arcTo wR="8937" hR="21600" stAng="10800000" swAng="5400000"/>
                <a:lnTo>
                  <a:pt x="8937" y="0"/>
                </a:lnTo>
                <a:arcTo wR="8937" hR="21600" stAng="-5400000" swAng="46176"/>
                <a:lnTo>
                  <a:pt x="9227" y="11"/>
                </a:lnTo>
                <a:arcTo wR="8937" hR="21600" stAng="-5446176" swAng="-5353824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Rectangle 29"/>
          <p:cNvSpPr/>
          <p:nvPr/>
        </p:nvSpPr>
        <p:spPr>
          <a:xfrm>
            <a:off x="1116000" y="4365720"/>
            <a:ext cx="503280" cy="287280"/>
          </a:xfrm>
          <a:prstGeom prst="rect">
            <a:avLst/>
          </a:prstGeom>
          <a:gradFill rotWithShape="0">
            <a:gsLst>
              <a:gs pos="0">
                <a:srgbClr val="185e18"/>
              </a:gs>
              <a:gs pos="50000">
                <a:srgbClr val="33cc33"/>
              </a:gs>
              <a:gs pos="100000">
                <a:srgbClr val="185e1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30"/>
          <p:cNvSpPr/>
          <p:nvPr/>
        </p:nvSpPr>
        <p:spPr>
          <a:xfrm>
            <a:off x="1835280" y="4365720"/>
            <a:ext cx="576000" cy="287280"/>
          </a:xfrm>
          <a:prstGeom prst="rect">
            <a:avLst/>
          </a:prstGeom>
          <a:gradFill rotWithShape="0">
            <a:gsLst>
              <a:gs pos="0">
                <a:srgbClr val="185e18"/>
              </a:gs>
              <a:gs pos="50000">
                <a:srgbClr val="33cc33"/>
              </a:gs>
              <a:gs pos="100000">
                <a:srgbClr val="185e1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31"/>
          <p:cNvSpPr/>
          <p:nvPr/>
        </p:nvSpPr>
        <p:spPr>
          <a:xfrm>
            <a:off x="2627280" y="4365720"/>
            <a:ext cx="576360" cy="287280"/>
          </a:xfrm>
          <a:prstGeom prst="rect">
            <a:avLst/>
          </a:prstGeom>
          <a:gradFill rotWithShape="0">
            <a:gsLst>
              <a:gs pos="0">
                <a:srgbClr val="185e18"/>
              </a:gs>
              <a:gs pos="50000">
                <a:srgbClr val="33cc33"/>
              </a:gs>
              <a:gs pos="100000">
                <a:srgbClr val="185e1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Rectangle 32"/>
          <p:cNvSpPr/>
          <p:nvPr/>
        </p:nvSpPr>
        <p:spPr>
          <a:xfrm>
            <a:off x="3421080" y="2205000"/>
            <a:ext cx="2087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ffff00"/>
                </a:solidFill>
                <a:latin typeface="ALFABET98"/>
              </a:rPr>
              <a:t>eksil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Rectangle 33"/>
          <p:cNvSpPr/>
          <p:nvPr/>
        </p:nvSpPr>
        <p:spPr>
          <a:xfrm>
            <a:off x="5003640" y="2205000"/>
            <a:ext cx="2089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ffff00"/>
                </a:solidFill>
                <a:latin typeface="ALFABET98"/>
              </a:rPr>
              <a:t>çık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34"/>
          <p:cNvSpPr/>
          <p:nvPr/>
        </p:nvSpPr>
        <p:spPr>
          <a:xfrm>
            <a:off x="6764400" y="2205000"/>
            <a:ext cx="16239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ffff00"/>
                </a:solidFill>
                <a:latin typeface="ALFABET98"/>
              </a:rPr>
              <a:t>kal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35"/>
          <p:cNvSpPr/>
          <p:nvPr/>
        </p:nvSpPr>
        <p:spPr>
          <a:xfrm>
            <a:off x="3924360" y="3645000"/>
            <a:ext cx="5763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00ffcc"/>
                </a:solidFill>
                <a:latin typeface="Arial"/>
              </a:rPr>
              <a:t>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AutoShape 36"/>
          <p:cNvSpPr/>
          <p:nvPr/>
        </p:nvSpPr>
        <p:spPr>
          <a:xfrm flipH="1">
            <a:off x="3707640" y="5373720"/>
            <a:ext cx="2808360" cy="719280"/>
          </a:xfrm>
          <a:custGeom>
            <a:avLst/>
            <a:gdLst>
              <a:gd name="textAreaLeft" fmla="*/ 590400 w 2808360"/>
              <a:gd name="textAreaRight" fmla="*/ 1962720 w 2808360"/>
              <a:gd name="textAreaTop" fmla="*/ 96120 h 719280"/>
              <a:gd name="textAreaBottom" fmla="*/ 62316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088" hR="21600" stAng="10800000" swAng="-5400000"/>
                <a:lnTo>
                  <a:pt x="10555" y="21600"/>
                </a:lnTo>
                <a:arcTo wR="9088" hR="21600" stAng="5400000" swAng="-3184383"/>
                <a:lnTo>
                  <a:pt x="21177" y="6512"/>
                </a:lnTo>
                <a:lnTo>
                  <a:pt x="18909" y="0"/>
                </a:lnTo>
                <a:lnTo>
                  <a:pt x="15794" y="6512"/>
                </a:lnTo>
                <a:lnTo>
                  <a:pt x="17752" y="6512"/>
                </a:lnTo>
                <a:arcTo wR="9088" hR="21600" stAng="2215617" swAng="3067306"/>
                <a:lnTo>
                  <a:pt x="9821" y="21530"/>
                </a:lnTo>
                <a:arcTo wR="9088" hR="21600" stAng="5517077" swAng="5282923"/>
                <a:close/>
              </a:path>
              <a:path fill="darkenLess" w="21600" h="21600">
                <a:moveTo>
                  <a:pt x="0" y="0"/>
                </a:moveTo>
                <a:arcTo wR="9088" hR="21600" stAng="10800000" swAng="-5400000"/>
                <a:lnTo>
                  <a:pt x="10555" y="21600"/>
                </a:lnTo>
                <a:arcTo wR="9088" hR="21600" stAng="5400000" swAng="117077"/>
                <a:lnTo>
                  <a:pt x="9821" y="21530"/>
                </a:lnTo>
                <a:arcTo wR="9088" hR="21600" stAng="5517077" swAng="5282923"/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ctangle 37"/>
          <p:cNvSpPr/>
          <p:nvPr/>
        </p:nvSpPr>
        <p:spPr>
          <a:xfrm>
            <a:off x="5076720" y="5445000"/>
            <a:ext cx="503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00ffcc"/>
                </a:solidFill>
                <a:latin typeface="Arial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38"/>
          <p:cNvSpPr/>
          <p:nvPr/>
        </p:nvSpPr>
        <p:spPr>
          <a:xfrm>
            <a:off x="7093080" y="907920"/>
            <a:ext cx="122400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9600" spc="-1" strike="noStrike">
                <a:solidFill>
                  <a:srgbClr val="ff0000"/>
                </a:solidFill>
                <a:latin typeface="ALFABET98"/>
              </a:rPr>
              <a:t>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39"/>
          <p:cNvSpPr/>
          <p:nvPr/>
        </p:nvSpPr>
        <p:spPr>
          <a:xfrm>
            <a:off x="179280" y="115920"/>
            <a:ext cx="1800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HİKMET SIR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ectangle 40"/>
          <p:cNvSpPr/>
          <p:nvPr/>
        </p:nvSpPr>
        <p:spPr>
          <a:xfrm>
            <a:off x="3205080" y="3141720"/>
            <a:ext cx="2087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ffff00"/>
                </a:solidFill>
                <a:latin typeface="ALFABET98"/>
              </a:rPr>
              <a:t>eksil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Rectangle 41"/>
          <p:cNvSpPr/>
          <p:nvPr/>
        </p:nvSpPr>
        <p:spPr>
          <a:xfrm>
            <a:off x="4498920" y="6165720"/>
            <a:ext cx="208908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ffff00"/>
                </a:solidFill>
                <a:latin typeface="ALFABET98"/>
              </a:rPr>
              <a:t>çık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Rectangle 42"/>
          <p:cNvSpPr/>
          <p:nvPr/>
        </p:nvSpPr>
        <p:spPr>
          <a:xfrm>
            <a:off x="1692360" y="6237360"/>
            <a:ext cx="16239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ffff00"/>
                </a:solidFill>
                <a:latin typeface="ALFABET98"/>
              </a:rPr>
              <a:t>kal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AutoShape 43"/>
          <p:cNvSpPr/>
          <p:nvPr/>
        </p:nvSpPr>
        <p:spPr>
          <a:xfrm>
            <a:off x="971640" y="5445000"/>
            <a:ext cx="3456000" cy="719280"/>
          </a:xfrm>
          <a:custGeom>
            <a:avLst/>
            <a:gdLst>
              <a:gd name="textAreaLeft" fmla="*/ 726840 w 3456000"/>
              <a:gd name="textAreaRight" fmla="*/ 2415960 w 3456000"/>
              <a:gd name="textAreaTop" fmla="*/ 96120 h 719280"/>
              <a:gd name="textAreaBottom" fmla="*/ 62316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088" hR="21600" stAng="10800000" swAng="-5400000"/>
                <a:lnTo>
                  <a:pt x="10555" y="21600"/>
                </a:lnTo>
                <a:arcTo wR="9088" hR="21600" stAng="5400000" swAng="-3184383"/>
                <a:lnTo>
                  <a:pt x="21177" y="6512"/>
                </a:lnTo>
                <a:lnTo>
                  <a:pt x="18909" y="0"/>
                </a:lnTo>
                <a:lnTo>
                  <a:pt x="15794" y="6512"/>
                </a:lnTo>
                <a:lnTo>
                  <a:pt x="17752" y="6512"/>
                </a:lnTo>
                <a:arcTo wR="9088" hR="21600" stAng="2215617" swAng="3067306"/>
                <a:lnTo>
                  <a:pt x="9821" y="21530"/>
                </a:lnTo>
                <a:arcTo wR="9088" hR="21600" stAng="5517077" swAng="5282923"/>
                <a:close/>
              </a:path>
              <a:path fill="darkenLess" w="21600" h="21600">
                <a:moveTo>
                  <a:pt x="0" y="0"/>
                </a:moveTo>
                <a:arcTo wR="9088" hR="21600" stAng="10800000" swAng="-5400000"/>
                <a:lnTo>
                  <a:pt x="10555" y="21600"/>
                </a:lnTo>
                <a:arcTo wR="9088" hR="21600" stAng="5400000" swAng="117077"/>
                <a:lnTo>
                  <a:pt x="9821" y="21530"/>
                </a:lnTo>
                <a:arcTo wR="9088" hR="21600" stAng="5517077" swAng="5282923"/>
                <a:close/>
              </a:path>
            </a:pathLst>
          </a:custGeom>
          <a:gradFill rotWithShape="0">
            <a:gsLst>
              <a:gs pos="0">
                <a:srgbClr val="00765e"/>
              </a:gs>
              <a:gs pos="50000">
                <a:srgbClr val="00ffcc"/>
              </a:gs>
              <a:gs pos="100000">
                <a:srgbClr val="00765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Rectangle 44"/>
          <p:cNvSpPr/>
          <p:nvPr/>
        </p:nvSpPr>
        <p:spPr>
          <a:xfrm>
            <a:off x="3419640" y="4365720"/>
            <a:ext cx="504720" cy="287280"/>
          </a:xfrm>
          <a:prstGeom prst="rect">
            <a:avLst/>
          </a:prstGeom>
          <a:gradFill rotWithShape="0">
            <a:gsLst>
              <a:gs pos="0">
                <a:srgbClr val="185e18"/>
              </a:gs>
              <a:gs pos="50000">
                <a:srgbClr val="33cc33"/>
              </a:gs>
              <a:gs pos="100000">
                <a:srgbClr val="185e1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Rectangle 45"/>
          <p:cNvSpPr/>
          <p:nvPr/>
        </p:nvSpPr>
        <p:spPr>
          <a:xfrm>
            <a:off x="4140360" y="4365720"/>
            <a:ext cx="576000" cy="287280"/>
          </a:xfrm>
          <a:prstGeom prst="rect">
            <a:avLst/>
          </a:prstGeom>
          <a:gradFill rotWithShape="0">
            <a:gsLst>
              <a:gs pos="0">
                <a:srgbClr val="185e18"/>
              </a:gs>
              <a:gs pos="50000">
                <a:srgbClr val="33cc33"/>
              </a:gs>
              <a:gs pos="100000">
                <a:srgbClr val="185e1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46"/>
          <p:cNvSpPr/>
          <p:nvPr/>
        </p:nvSpPr>
        <p:spPr>
          <a:xfrm>
            <a:off x="2195640" y="5516640"/>
            <a:ext cx="503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00ffcc"/>
                </a:solidFill>
                <a:latin typeface="Arial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47"/>
          <p:cNvSpPr/>
          <p:nvPr/>
        </p:nvSpPr>
        <p:spPr>
          <a:xfrm>
            <a:off x="4932360" y="4365720"/>
            <a:ext cx="576360" cy="287280"/>
          </a:xfrm>
          <a:prstGeom prst="rect">
            <a:avLst/>
          </a:prstGeom>
          <a:gradFill rotWithShape="0">
            <a:gsLst>
              <a:gs pos="0">
                <a:srgbClr val="185e18"/>
              </a:gs>
              <a:gs pos="50000">
                <a:srgbClr val="33cc33"/>
              </a:gs>
              <a:gs pos="100000">
                <a:srgbClr val="185e1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48"/>
          <p:cNvSpPr/>
          <p:nvPr/>
        </p:nvSpPr>
        <p:spPr>
          <a:xfrm>
            <a:off x="5724360" y="4365720"/>
            <a:ext cx="648000" cy="287280"/>
          </a:xfrm>
          <a:prstGeom prst="rect">
            <a:avLst/>
          </a:prstGeom>
          <a:gradFill rotWithShape="0">
            <a:gsLst>
              <a:gs pos="0">
                <a:srgbClr val="185e18"/>
              </a:gs>
              <a:gs pos="50000">
                <a:srgbClr val="33cc33"/>
              </a:gs>
              <a:gs pos="100000">
                <a:srgbClr val="185e1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3" dur="indefinite" restart="never" nodeType="tmRoot">
          <p:childTnLst>
            <p:seq>
              <p:cTn id="1814" dur="indefinite" nodeType="mainSeq">
                <p:childTnLst>
                  <p:par>
                    <p:cTn id="1815" fill="hold">
                      <p:stCondLst>
                        <p:cond delay="indefinite"/>
                      </p:stCondLst>
                      <p:childTnLst>
                        <p:par>
                          <p:cTn id="1816" fill="hold">
                            <p:stCondLst>
                              <p:cond delay="0"/>
                            </p:stCondLst>
                            <p:childTnLst>
                              <p:par>
                                <p:cTn id="181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9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0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1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2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4" fill="hold">
                      <p:stCondLst>
                        <p:cond delay="indefinite"/>
                      </p:stCondLst>
                      <p:childTnLst>
                        <p:par>
                          <p:cTn id="1825" fill="hold">
                            <p:stCondLst>
                              <p:cond delay="0"/>
                            </p:stCondLst>
                            <p:childTnLst>
                              <p:par>
                                <p:cTn id="182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8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9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0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2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3" fill="hold">
                      <p:stCondLst>
                        <p:cond delay="indefinite"/>
                      </p:stCondLst>
                      <p:childTnLst>
                        <p:par>
                          <p:cTn id="1834" fill="hold">
                            <p:stCondLst>
                              <p:cond delay="0"/>
                            </p:stCondLst>
                            <p:childTnLst>
                              <p:par>
                                <p:cTn id="183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7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8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9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0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1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2" fill="hold">
                      <p:stCondLst>
                        <p:cond delay="indefinite"/>
                      </p:stCondLst>
                      <p:childTnLst>
                        <p:par>
                          <p:cTn id="1843" fill="hold">
                            <p:stCondLst>
                              <p:cond delay="0"/>
                            </p:stCondLst>
                            <p:childTnLst>
                              <p:par>
                                <p:cTn id="184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6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7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8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9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0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1" fill="hold">
                      <p:stCondLst>
                        <p:cond delay="indefinite"/>
                      </p:stCondLst>
                      <p:childTnLst>
                        <p:par>
                          <p:cTn id="1852" fill="hold">
                            <p:stCondLst>
                              <p:cond delay="0"/>
                            </p:stCondLst>
                            <p:childTnLst>
                              <p:par>
                                <p:cTn id="185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5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6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7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8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9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0" fill="hold">
                      <p:stCondLst>
                        <p:cond delay="indefinite"/>
                      </p:stCondLst>
                      <p:childTnLst>
                        <p:par>
                          <p:cTn id="1861" fill="hold">
                            <p:stCondLst>
                              <p:cond delay="0"/>
                            </p:stCondLst>
                            <p:childTnLst>
                              <p:par>
                                <p:cTn id="186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5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6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7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8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9" fill="hold">
                      <p:stCondLst>
                        <p:cond delay="indefinite"/>
                      </p:stCondLst>
                      <p:childTnLst>
                        <p:par>
                          <p:cTn id="1870" fill="hold">
                            <p:stCondLst>
                              <p:cond delay="0"/>
                            </p:stCondLst>
                            <p:childTnLst>
                              <p:par>
                                <p:cTn id="187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3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4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5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6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8" fill="hold">
                      <p:stCondLst>
                        <p:cond delay="indefinite"/>
                      </p:stCondLst>
                      <p:childTnLst>
                        <p:par>
                          <p:cTn id="1879" fill="hold">
                            <p:stCondLst>
                              <p:cond delay="0"/>
                            </p:stCondLst>
                            <p:childTnLst>
                              <p:par>
                                <p:cTn id="188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2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3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4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5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6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7" fill="hold">
                      <p:stCondLst>
                        <p:cond delay="indefinite"/>
                      </p:stCondLst>
                      <p:childTnLst>
                        <p:par>
                          <p:cTn id="1888" fill="hold">
                            <p:stCondLst>
                              <p:cond delay="0"/>
                            </p:stCondLst>
                            <p:childTnLst>
                              <p:par>
                                <p:cTn id="188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91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2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3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4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5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6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97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98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99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00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01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02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03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04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5" fill="hold">
                      <p:stCondLst>
                        <p:cond delay="indefinite"/>
                      </p:stCondLst>
                      <p:childTnLst>
                        <p:par>
                          <p:cTn id="1906" fill="hold">
                            <p:stCondLst>
                              <p:cond delay="0"/>
                            </p:stCondLst>
                            <p:childTnLst>
                              <p:par>
                                <p:cTn id="190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09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0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1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2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3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4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15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16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17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18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19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20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21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22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3" fill="hold">
                      <p:stCondLst>
                        <p:cond delay="indefinite"/>
                      </p:stCondLst>
                      <p:childTnLst>
                        <p:par>
                          <p:cTn id="1924" fill="hold">
                            <p:stCondLst>
                              <p:cond delay="0"/>
                            </p:stCondLst>
                            <p:childTnLst>
                              <p:par>
                                <p:cTn id="192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27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8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9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0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1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2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33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34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35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36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37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38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39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40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1" fill="hold">
                      <p:stCondLst>
                        <p:cond delay="indefinite"/>
                      </p:stCondLst>
                      <p:childTnLst>
                        <p:par>
                          <p:cTn id="1942" fill="hold">
                            <p:stCondLst>
                              <p:cond delay="0"/>
                            </p:stCondLst>
                            <p:childTnLst>
                              <p:par>
                                <p:cTn id="194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45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6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7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8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9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0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51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52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53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54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55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56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57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58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9" fill="hold">
                      <p:stCondLst>
                        <p:cond delay="indefinite"/>
                      </p:stCondLst>
                      <p:childTnLst>
                        <p:par>
                          <p:cTn id="1960" fill="hold">
                            <p:stCondLst>
                              <p:cond delay="0"/>
                            </p:stCondLst>
                            <p:childTnLst>
                              <p:par>
                                <p:cTn id="196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63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4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5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6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7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8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69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70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71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72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73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74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75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76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7" fill="hold">
                      <p:stCondLst>
                        <p:cond delay="indefinite"/>
                      </p:stCondLst>
                      <p:childTnLst>
                        <p:par>
                          <p:cTn id="1978" fill="hold">
                            <p:stCondLst>
                              <p:cond delay="0"/>
                            </p:stCondLst>
                            <p:childTnLst>
                              <p:par>
                                <p:cTn id="197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81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2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3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4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5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6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87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88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89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90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91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92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93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94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5" fill="hold">
                      <p:stCondLst>
                        <p:cond delay="indefinite"/>
                      </p:stCondLst>
                      <p:childTnLst>
                        <p:par>
                          <p:cTn id="1996" fill="hold">
                            <p:stCondLst>
                              <p:cond delay="0"/>
                            </p:stCondLst>
                            <p:childTnLst>
                              <p:par>
                                <p:cTn id="199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99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0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1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2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3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4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05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06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07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08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09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10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11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12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3" fill="hold">
                      <p:stCondLst>
                        <p:cond delay="indefinite"/>
                      </p:stCondLst>
                      <p:childTnLst>
                        <p:par>
                          <p:cTn id="2014" fill="hold">
                            <p:stCondLst>
                              <p:cond delay="0"/>
                            </p:stCondLst>
                            <p:childTnLst>
                              <p:par>
                                <p:cTn id="20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7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8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9" fill="hold">
                      <p:stCondLst>
                        <p:cond delay="indefinite"/>
                      </p:stCondLst>
                      <p:childTnLst>
                        <p:par>
                          <p:cTn id="2020" fill="hold">
                            <p:stCondLst>
                              <p:cond delay="0"/>
                            </p:stCondLst>
                            <p:childTnLst>
                              <p:par>
                                <p:cTn id="202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23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4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5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6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7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8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29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30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31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32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33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34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35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36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7" fill="hold">
                      <p:stCondLst>
                        <p:cond delay="indefinite"/>
                      </p:stCondLst>
                      <p:childTnLst>
                        <p:par>
                          <p:cTn id="2038" fill="hold">
                            <p:stCondLst>
                              <p:cond delay="0"/>
                            </p:stCondLst>
                            <p:childTnLst>
                              <p:par>
                                <p:cTn id="203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1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2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3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4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5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6" fill="hold">
                      <p:stCondLst>
                        <p:cond delay="indefinite"/>
                      </p:stCondLst>
                      <p:childTnLst>
                        <p:par>
                          <p:cTn id="2047" fill="hold">
                            <p:stCondLst>
                              <p:cond delay="0"/>
                            </p:stCondLst>
                            <p:childTnLst>
                              <p:par>
                                <p:cTn id="204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49" dur="500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0" dur="500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2" fill="hold">
                      <p:stCondLst>
                        <p:cond delay="indefinite"/>
                      </p:stCondLst>
                      <p:childTnLst>
                        <p:par>
                          <p:cTn id="2053" fill="hold">
                            <p:stCondLst>
                              <p:cond delay="0"/>
                            </p:stCondLst>
                            <p:childTnLst>
                              <p:par>
                                <p:cTn id="205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55" dur="500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6" dur="500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8" fill="hold">
                      <p:stCondLst>
                        <p:cond delay="indefinite"/>
                      </p:stCondLst>
                      <p:childTnLst>
                        <p:par>
                          <p:cTn id="2059" fill="hold">
                            <p:stCondLst>
                              <p:cond delay="0"/>
                            </p:stCondLst>
                            <p:childTnLst>
                              <p:par>
                                <p:cTn id="206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61" dur="500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2" dur="500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4" fill="hold">
                      <p:stCondLst>
                        <p:cond delay="indefinite"/>
                      </p:stCondLst>
                      <p:childTnLst>
                        <p:par>
                          <p:cTn id="2065" fill="hold">
                            <p:stCondLst>
                              <p:cond delay="0"/>
                            </p:stCondLst>
                            <p:childTnLst>
                              <p:par>
                                <p:cTn id="206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8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9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0" fill="hold">
                      <p:stCondLst>
                        <p:cond delay="indefinite"/>
                      </p:stCondLst>
                      <p:childTnLst>
                        <p:par>
                          <p:cTn id="2071" fill="hold">
                            <p:stCondLst>
                              <p:cond delay="0"/>
                            </p:stCondLst>
                            <p:childTnLst>
                              <p:par>
                                <p:cTn id="207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4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5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6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7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8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9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80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81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82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83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84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85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86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87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8" fill="hold">
                      <p:stCondLst>
                        <p:cond delay="indefinite"/>
                      </p:stCondLst>
                      <p:childTnLst>
                        <p:par>
                          <p:cTn id="2089" fill="hold">
                            <p:stCondLst>
                              <p:cond delay="0"/>
                            </p:stCondLst>
                            <p:childTnLst>
                              <p:par>
                                <p:cTn id="209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2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3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4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5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7" fill="hold">
                      <p:stCondLst>
                        <p:cond delay="indefinite"/>
                      </p:stCondLst>
                      <p:childTnLst>
                        <p:par>
                          <p:cTn id="2098" fill="hold">
                            <p:stCondLst>
                              <p:cond delay="0"/>
                            </p:stCondLst>
                            <p:childTnLst>
                              <p:par>
                                <p:cTn id="20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1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2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3" fill="hold">
                      <p:stCondLst>
                        <p:cond delay="indefinite"/>
                      </p:stCondLst>
                      <p:childTnLst>
                        <p:par>
                          <p:cTn id="2104" fill="hold">
                            <p:stCondLst>
                              <p:cond delay="0"/>
                            </p:stCondLst>
                            <p:childTnLst>
                              <p:par>
                                <p:cTn id="210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7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8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9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0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1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2" fill="hold">
                      <p:stCondLst>
                        <p:cond delay="indefinite"/>
                      </p:stCondLst>
                      <p:childTnLst>
                        <p:par>
                          <p:cTn id="2113" fill="hold">
                            <p:stCondLst>
                              <p:cond delay="0"/>
                            </p:stCondLst>
                            <p:childTnLst>
                              <p:par>
                                <p:cTn id="211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6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7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8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9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0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1" fill="hold">
                      <p:stCondLst>
                        <p:cond delay="indefinite"/>
                      </p:stCondLst>
                      <p:childTnLst>
                        <p:par>
                          <p:cTn id="2122" fill="hold">
                            <p:stCondLst>
                              <p:cond delay="0"/>
                            </p:stCondLst>
                            <p:childTnLst>
                              <p:par>
                                <p:cTn id="2123" nodeType="clickEffect" fill="hold" presetClass="exit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124" dur="500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5" dur="500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6" dur="500"/>
                                        <p:tgtEl>
                                          <p:spTgt spid="3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2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9" fill="hold">
                      <p:stCondLst>
                        <p:cond delay="indefinite"/>
                      </p:stCondLst>
                      <p:childTnLst>
                        <p:par>
                          <p:cTn id="2130" fill="hold">
                            <p:stCondLst>
                              <p:cond delay="0"/>
                            </p:stCondLst>
                            <p:childTnLst>
                              <p:par>
                                <p:cTn id="213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3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3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4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4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4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4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4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4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4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7" fill="hold">
                      <p:stCondLst>
                        <p:cond delay="indefinite"/>
                      </p:stCondLst>
                      <p:childTnLst>
                        <p:par>
                          <p:cTn id="2148" fill="hold">
                            <p:stCondLst>
                              <p:cond delay="0"/>
                            </p:stCondLst>
                            <p:childTnLst>
                              <p:par>
                                <p:cTn id="214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50" dur="2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151" dur="2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2" fill="hold">
                      <p:stCondLst>
                        <p:cond delay="indefinite"/>
                      </p:stCondLst>
                      <p:childTnLst>
                        <p:par>
                          <p:cTn id="2153" fill="hold">
                            <p:stCondLst>
                              <p:cond delay="0"/>
                            </p:stCondLst>
                            <p:childTnLst>
                              <p:par>
                                <p:cTn id="215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55" dur="2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99ff"/>
                                      </p:to>
                                    </p:animClr>
                                    <p:set>
                                      <p:cBhvr>
                                        <p:cTn id="2156" dur="2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7T20:15:10Z</dcterms:created>
  <dc:creator>tbbbg</dc:creator>
  <dc:description/>
  <dc:language>en-US</dc:language>
  <cp:lastModifiedBy>hikmet</cp:lastModifiedBy>
  <dcterms:modified xsi:type="dcterms:W3CDTF">2007-08-17T01:32:42Z</dcterms:modified>
  <cp:revision>6</cp:revision>
  <dc:subject/>
  <dc:title>Slayt 1</dc:title>
</cp:coreProperties>
</file>