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54E-966B-48D3-B395-13DF8007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A1E6-C6C4-40D1-8161-DF77FC9F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3194-12C1-4A94-8F21-D88E87F1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823-5AA0-43F7-8C08-D90719B1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839-D15C-4885-AC89-D5C8A292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1DB1-CC91-4AED-8DA5-F348F247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CADF-2AEC-4059-8328-D61AA843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C67-89B6-4944-AD57-FE7D7CD6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873-1841-44B5-B5CA-CE9B6E17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672D-A41D-4EDB-938D-A76E51F1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1C9-792E-4B03-A636-60A8646D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06A9-C3A1-41BE-A80D-8704FD75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64F5-E372-4FFB-9521-B037BEB02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image" Target="../media/image9.jpeg"/><Relationship Id="rId4" Type="http://schemas.openxmlformats.org/officeDocument/2006/relationships/slide" Target="slide7.xml"/><Relationship Id="rId5" Type="http://schemas.openxmlformats.org/officeDocument/2006/relationships/image" Target="../media/image9.jpeg"/><Relationship Id="rId6" Type="http://schemas.openxmlformats.org/officeDocument/2006/relationships/slide" Target="slide9.xml"/><Relationship Id="rId7" Type="http://schemas.openxmlformats.org/officeDocument/2006/relationships/image" Target="../media/image10.jpeg"/><Relationship Id="rId8" Type="http://schemas.openxmlformats.org/officeDocument/2006/relationships/slide" Target="slide1.xml"/><Relationship Id="rId9" Type="http://schemas.openxmlformats.org/officeDocument/2006/relationships/image" Target="../media/image9.jpeg"/><Relationship Id="rId10" Type="http://schemas.openxmlformats.org/officeDocument/2006/relationships/hyperlink" Target="file:///../&#1601;&#1607;&#1585;&#1587;%20&#1575;&#1604;&#1578;&#1585;&#1575;&#1606;&#1610;&#1605;.pps" TargetMode="External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08000" y="692280"/>
            <a:ext cx="712800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شعبي يا ربي بيناد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44720" y="4616280"/>
            <a:ext cx="712764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تعال بنهضة في بلاد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44280"/>
            <a:ext cx="2016000" cy="7207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بالإيمان أنا شايف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ها تيجى و مش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6" action="ppaction://hlinksldjump"/>
          </p:cNvPr>
          <p:cNvSpPr/>
          <p:nvPr/>
        </p:nvSpPr>
        <p:spPr>
          <a:xfrm>
            <a:off x="108000" y="1281240"/>
            <a:ext cx="460836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Times New Roman"/>
              </a:rPr>
              <a:t> القرار : </a:t>
            </a:r>
            <a:r>
              <a:rPr b="1" lang="ar-SA" sz="4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يا قدوس يا قدوس</a:t>
            </a:r>
            <a:r>
              <a:rPr b="1" lang="ar-EG" sz="4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8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عبى يا رب بينا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92">
            <a:hlinkClick r:id="rId10"/>
          </p:cNvPr>
          <p:cNvSpPr/>
          <p:nvPr/>
        </p:nvSpPr>
        <p:spPr>
          <a:xfrm>
            <a:off x="900000" y="260280"/>
            <a:ext cx="2448000" cy="11912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abic Transparent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1447920"/>
            <a:ext cx="712764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تملا الصحرا والواد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708280"/>
            <a:ext cx="712800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نشوفك إنت يا قدوس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3743280" cy="6597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356000" y="1341360"/>
            <a:ext cx="4464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يا قدوس يا قدوس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يــا قـــدوس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يا إلــــه الكـــــــون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9128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cc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324000" y="2095560"/>
            <a:ext cx="777744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بالإيمان أنا شايف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3429000"/>
            <a:ext cx="785016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كيد سهران على وعد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44280"/>
            <a:ext cx="2089080" cy="7956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95400" y="-61920"/>
            <a:ext cx="9334800" cy="6981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58920" y="836640"/>
            <a:ext cx="777708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هاتيجي وتفتقد شعب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62160" y="1989000"/>
            <a:ext cx="784692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نشوفك إنت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يا قدوس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3743280" cy="6597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356000" y="1341360"/>
            <a:ext cx="4464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يا قدوس يا قدوس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يــا قـــدوس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يا إلــــه الكـــــــون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9128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cc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7808760" y="555480"/>
            <a:ext cx="1098720" cy="55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94200" y="698400"/>
            <a:ext cx="424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4200" y="1554120"/>
            <a:ext cx="785016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هاتيجي ومش هاتتأخ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032280"/>
            <a:ext cx="689292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بصلواتنا هنسه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9360" y="-14400"/>
            <a:ext cx="9162720" cy="6886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340000" y="1428840"/>
            <a:ext cx="6192720" cy="2104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بالخير السماء تمط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13080" y="2384280"/>
            <a:ext cx="619128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بكلمة منك يا قدوس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032360" cy="6597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427640" y="1341360"/>
            <a:ext cx="439236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يا قدوس يا قدوس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يــا قـــدوس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يا إلــــه الكـــــــون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5164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cc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3:28:45Z</dcterms:created>
  <dc:creator/>
  <dc:description/>
  <dc:language>en-US</dc:language>
  <cp:lastModifiedBy>Sp2</cp:lastModifiedBy>
  <dcterms:modified xsi:type="dcterms:W3CDTF">2008-09-09T12:42:41Z</dcterms:modified>
  <cp:revision>94</cp:revision>
  <dc:subject/>
  <dc:title>PowerPoint Presentation</dc:title>
</cp:coreProperties>
</file>