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344-C6F4-4274-AD52-F3B88C8C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962A-7172-440D-A6F2-916B7054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AD5-7FAC-495E-80FC-8CC5659C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0F0-2505-4ECD-BF93-D5FE4F5B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05D-BA29-4A55-8E6F-6CBA2BEB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AF5-921D-4494-87D6-69C27B92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B71-A117-4538-BB7A-E6524D62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DE59-C124-4C62-851F-5C87D494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17D-077C-47CC-A712-6D6D53FB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FC8A-F70E-4AE3-BE8A-E5D92DB2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6CA-E245-43D9-84B9-91D2874E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75D-BEFF-46DA-B56C-2CA4B39C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6C40-E28C-450A-A8CA-354697F8B5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image" Target="../media/image9.jpeg"/><Relationship Id="rId4" Type="http://schemas.openxmlformats.org/officeDocument/2006/relationships/slide" Target="slide7.xml"/><Relationship Id="rId5" Type="http://schemas.openxmlformats.org/officeDocument/2006/relationships/image" Target="../media/image9.jpeg"/><Relationship Id="rId6" Type="http://schemas.openxmlformats.org/officeDocument/2006/relationships/slide" Target="slide9.xml"/><Relationship Id="rId7" Type="http://schemas.openxmlformats.org/officeDocument/2006/relationships/image" Target="../media/image10.jpeg"/><Relationship Id="rId8" Type="http://schemas.openxmlformats.org/officeDocument/2006/relationships/slide" Target="slide1.xml"/><Relationship Id="rId9" Type="http://schemas.openxmlformats.org/officeDocument/2006/relationships/image" Target="../media/image9.jpeg"/><Relationship Id="rId10" Type="http://schemas.openxmlformats.org/officeDocument/2006/relationships/hyperlink" Target="file:///../&#1601;&#1607;&#1585;&#1587;%20&#1575;&#1604;&#1578;&#1585;&#1575;&#1606;&#1610;&#1605;.pps" TargetMode="External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08000" y="692280"/>
            <a:ext cx="712800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شعبي يا ربي بيناد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44720" y="4616280"/>
            <a:ext cx="712764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تعال بنهضة في بلاد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44280"/>
            <a:ext cx="2016000" cy="7207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بالإيمان أنا شايف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ها تيجى و مش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6" action="ppaction://hlinksldjump"/>
          </p:cNvPr>
          <p:cNvSpPr/>
          <p:nvPr/>
        </p:nvSpPr>
        <p:spPr>
          <a:xfrm>
            <a:off x="108000" y="1281240"/>
            <a:ext cx="460836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Times New Roman"/>
              </a:rPr>
              <a:t> القرار : </a:t>
            </a:r>
            <a:r>
              <a:rPr b="1" lang="ar-SA" sz="4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يا قدوس يا قدوس</a:t>
            </a:r>
            <a:r>
              <a:rPr b="1" lang="ar-EG" sz="4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8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شعبى يا رب بينا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92">
            <a:hlinkClick r:id="rId10"/>
          </p:cNvPr>
          <p:cNvSpPr/>
          <p:nvPr/>
        </p:nvSpPr>
        <p:spPr>
          <a:xfrm>
            <a:off x="900000" y="260280"/>
            <a:ext cx="2448000" cy="11912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abic Transparent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1447920"/>
            <a:ext cx="712764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تملا الصحرا والواد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708280"/>
            <a:ext cx="712800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نشوفك إنت يا قدو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743280" cy="6597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356000" y="1341360"/>
            <a:ext cx="4464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ا قدوس يا قدو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ــا قـــدو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ا إلــــه الكـــــــون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128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cc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324000" y="2095560"/>
            <a:ext cx="777744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الإيمان أنا شايف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3429000"/>
            <a:ext cx="785016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كيد سهران على وعد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4428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95400" y="-61920"/>
            <a:ext cx="9334800" cy="6981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58920" y="836640"/>
            <a:ext cx="777708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هاتيجي وتفتقد شعب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62160" y="1989000"/>
            <a:ext cx="784692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نشوفك إنت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يا قدو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743280" cy="6597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356000" y="1341360"/>
            <a:ext cx="4464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ا قدوس يا قدو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ــا قـــدو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ا إلــــه الكـــــــون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9128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cc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7808760" y="555480"/>
            <a:ext cx="1098720" cy="55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94200" y="698400"/>
            <a:ext cx="424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4200" y="1554120"/>
            <a:ext cx="785016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هاتيجي ومش هاتتأخ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032280"/>
            <a:ext cx="689292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بصلواتنا هنسه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9360" y="-14400"/>
            <a:ext cx="9162720" cy="6886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340000" y="1428840"/>
            <a:ext cx="6192720" cy="2104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بالخير السماء تمط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13080" y="2384280"/>
            <a:ext cx="619128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كلمة منك يا قدو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032360" cy="6597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427640" y="1341360"/>
            <a:ext cx="439236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ا قدوس يا قدو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ــا قـــدوس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ا إلــــه الكـــــــون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5164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cc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3:28:45Z</dcterms:created>
  <dc:creator/>
  <dc:description/>
  <dc:language>en-US</dc:language>
  <cp:lastModifiedBy>Sp2</cp:lastModifiedBy>
  <dcterms:modified xsi:type="dcterms:W3CDTF">2008-09-09T12:42:41Z</dcterms:modified>
  <cp:revision>94</cp:revision>
  <dc:subject/>
  <dc:title>PowerPoint Presentation</dc:title>
</cp:coreProperties>
</file>