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AE0-7151-4A46-9479-847B4FAD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4DAD-B620-4D0D-9CC2-A4BEF8E6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2DC-C4F1-47AA-B40E-E781F9A0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914-1D4A-4C9C-A120-1550C5BF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E10-D6E6-4B0B-A2C4-D9884302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781-8DC3-494A-B913-A08835C9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6B58-6E1E-4F2D-9FB4-0622F9D6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C17-AF74-49DC-A4EE-E14291A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32FB-D45C-4ED2-A868-895F7041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DEC-73FD-4865-B002-9ED4784F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6D56-A6FD-4A80-A02F-D7CECB20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C40-C250-4FD0-A61C-08AA7C06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0CD3-AAE1-4A4D-9DF7-ADD5140317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image" Target="../media/image5.jpeg"/><Relationship Id="rId4" Type="http://schemas.openxmlformats.org/officeDocument/2006/relationships/slide" Target="slide4.xml"/><Relationship Id="rId5" Type="http://schemas.openxmlformats.org/officeDocument/2006/relationships/image" Target="../media/image6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6.jpeg"/><Relationship Id="rId8" Type="http://schemas.openxmlformats.org/officeDocument/2006/relationships/slide" Target="slide1.xml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635280" y="1125360"/>
            <a:ext cx="5364360" cy="253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ثقتـــــي فــــ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شخصك حقيق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بتقــوي إيما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08360" y="3933720"/>
            <a:ext cx="5219640" cy="25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ــا للـي أنت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حــــي بتصن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خير علشا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64000" y="4392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781440" y="1341360"/>
            <a:ext cx="511164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ا هو أنت اللي خالق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صــانعــني ونـــاشأ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دعــــوتنــى بــاسم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لا يـــــــوم بتنســـان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60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80000" y="1197000"/>
            <a:ext cx="51847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عارف فكري وطريق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الانــه في ضلـــوع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51280" y="3933720"/>
            <a:ext cx="4968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كاشف ضعفي الحقيق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يـــا ربي يــا يسوعـــ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67164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781440" y="1341360"/>
            <a:ext cx="511164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ما هو أنت اللي خالق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صــانعــني ونـــاشأني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دعــــوتنــى بــاسم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ولا يـــــــوم بتنســـانـــ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3600360" cy="6885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44280"/>
            <a:ext cx="2160720" cy="79236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333399"/>
                </a:solidFill>
                <a:latin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4643280" y="1413000"/>
            <a:ext cx="446580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عارف فكري و طريق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</a:rPr>
              <a:t> القرار : ما هو أنت الل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abic Transparent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8" action="ppaction://hlinksldjump"/>
          </p:cNvPr>
          <p:cNvSpPr/>
          <p:nvPr/>
        </p:nvSpPr>
        <p:spPr>
          <a:xfrm>
            <a:off x="4643280" y="417600"/>
            <a:ext cx="446580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</a:rPr>
              <a:t>- ثقتي في شخص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23:16:07Z</dcterms:created>
  <dc:creator>naglaa</dc:creator>
  <dc:description/>
  <dc:language>en-US</dc:language>
  <cp:lastModifiedBy>Sp2</cp:lastModifiedBy>
  <dcterms:modified xsi:type="dcterms:W3CDTF">2008-09-18T12:43:21Z</dcterms:modified>
  <cp:revision>46</cp:revision>
  <dc:subject/>
  <dc:title>الشريحة 1</dc:title>
</cp:coreProperties>
</file>