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6E0-CBFD-40DD-A24A-83C16E85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332-A3BC-466E-A03C-38E88266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DB3-4E71-489E-BB43-5398EBAE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5E9-B35B-432A-B1B9-1F92C201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C79-97D9-4E71-9900-BE7CD170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4CA-86E6-4504-8622-D212EB1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395-1CEA-4204-BED1-7683CA46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F58-07F3-42D7-B4FD-A4DFA48B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2FA-3670-400C-83E6-5E91797F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DAD-4EF1-4CD3-B61E-E4F3B56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076-3F5F-4724-A85E-FEAE9AF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9D4-84DC-48ED-8E96-0FB03648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3D30-7EA2-44F2-8C23-B303A990BC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6.jpeg"/><Relationship Id="rId8" Type="http://schemas.openxmlformats.org/officeDocument/2006/relationships/slide" Target="slide1.xm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635280" y="1125360"/>
            <a:ext cx="5364360" cy="253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ثقتـــــي فــــ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شخصك حقيق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تقــوي إيما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3933720"/>
            <a:ext cx="521964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ــا للـي أنت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حــــي بتصن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خير علشا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64000" y="4392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81440" y="1341360"/>
            <a:ext cx="51116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ا هو أنت اللي خالق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صــانعــني ونـــاشأ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دعــــوتنــى بــاسم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لا يـــــــوم بتنســـان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0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80000" y="1197000"/>
            <a:ext cx="5184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عارف فكري وطريق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الانــه في ضلـــوع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51280" y="3933720"/>
            <a:ext cx="4968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كاشف ضعفي الحقيق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ـا ربي يــا يسوعـــ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7164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781440" y="1341360"/>
            <a:ext cx="51116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ا هو أنت اللي خالق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صــانعــني ونـــاشأ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دعــــوتنــى بــاسم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لا يـــــــوم بتنســـان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0036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4643280" y="1413000"/>
            <a:ext cx="446580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عارف فكري و طر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ما هو أنت ال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4643280" y="417600"/>
            <a:ext cx="446580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ثقتي في شخص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23:16:07Z</dcterms:created>
  <dc:creator>naglaa</dc:creator>
  <dc:description/>
  <dc:language>en-US</dc:language>
  <cp:lastModifiedBy>Sp2</cp:lastModifiedBy>
  <dcterms:modified xsi:type="dcterms:W3CDTF">2008-09-18T12:43:21Z</dcterms:modified>
  <cp:revision>46</cp:revision>
  <dc:subject/>
  <dc:title>الشريحة 1</dc:title>
</cp:coreProperties>
</file>