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E9B-9D3A-473D-9E57-41595521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909-EA8F-421F-846A-9C44DBF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D2A-84F9-43F9-9147-DC5AF547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E9D-2257-4DC3-ACEA-8CC1004C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A14D-2CCA-4C80-967E-153D60B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9B3-EF0E-4594-831F-6108C5C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6D17-4CA7-4153-8B87-F31D8B59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939-D2B4-430A-BC23-BBD7E32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D8A8-683B-4CB9-BAAC-114FBA6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EF14-43DE-46FE-BC84-5E4F42C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292B-8568-4FA3-8158-892A41F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6D3-8550-49A6-B581-D1F8E619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AF6-C8C0-47CF-8734-DAAF638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C30F-E15D-4473-89DE-361A780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C2C2-7543-472E-9389-1A4CC2C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A84-AE5F-46F5-8260-8D1B3EA2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5674-50C2-4735-BF4E-B07FEF59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4B2B-DD2B-47CA-996D-67ACBC82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86E0-E6E6-48B2-8FDE-B2F84746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D045-C02E-4CA0-B23B-89CB6384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AD47-E115-49B9-B926-F5D12A3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8ADD-091B-4357-91A4-0DE37AD6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769-050C-47D7-96B0-0F8B5D00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4BCF-A683-40E5-9863-107D485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FCC3-6FD6-4CAE-AF15-D2BC567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147A-C255-4F1D-AE37-84281E4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58D8-2774-44E3-BC67-CC1083B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6E6A-7DF0-40A4-A428-AA5F51CC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258B-5108-45B0-AF83-58C32304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6197-A113-477D-85B3-22B095DF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0D1-6092-4590-A126-34EAEBA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E0B-7A3C-427A-88A6-2DA20BF0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946-4151-4F16-9EDD-6D009267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E43-122E-495F-980A-C3DA2FD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42F-73F0-403E-961C-62708C3B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DEE-76C6-41EE-BDAE-F07482C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CEC-0DAE-420C-9944-6D8F379EFA7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B8C-0018-4D29-BF7C-523DA5B5BD5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55E6-5EC0-45E0-8CC6-1CCF693B07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5410080"/>
          </a:xfrm>
          <a:prstGeom prst="rect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اين کنفرانس دور نمايی از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نحوه انتخـاب سـازه پل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و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ترکيـب ساختار اصـلی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ين پل جـديد بيان می شود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ين پل يکی از مهمترين دستاوردهای علم مهندسی و ساخت وساز اسـت و باعث ورود شـغل مهندسی پل و صنعت پل سازی برای اولين بار به منطقه 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6633"/>
                </a:solidFill>
                <a:latin typeface="Arial"/>
                <a:cs typeface="Titr"/>
              </a:rPr>
              <a:t>از جمله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ولين پل جديد ماشيـن رو بعد از سـ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80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ر منطقه خليج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اولين پل جديد معلق بعد از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3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ر منطقه خليج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ولين پل معـلق مهم در  آمريکا بعد از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7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آمريکا با عرشه فلزی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Aerodynamic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آمريکا با برج های بتنی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ولين پل معلق در آمريکا با شالـوده استوانه ای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جهان با بـرج های بتنی در ناحيه ای با لرزه خيزی بال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ـل حـمل و نقـل کريـدور بيـن ايـالت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80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را  از ميان رودخانه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Sacrament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ما بين نواحی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rockett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Vallej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ر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انجام می ده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ـل اول در سـال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927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تکمـي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شده  و  بوسـيله شـرکت خصـوصی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</a:t>
            </a:r>
            <a:r>
              <a:rPr b="1" lang="fa-IR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«</a:t>
            </a:r>
            <a:r>
              <a:rPr b="1" lang="en-US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American Toll Bridge</a:t>
            </a:r>
            <a:r>
              <a:rPr b="1" lang="en-US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 »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داره 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گردانده می شد.سپس در سال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94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الت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اين مسئوليت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را بر عهده گرفت .</a:t>
            </a:r>
            <a:r>
              <a:rPr b="1" lang="fa-IR" sz="32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33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267080" cy="3809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ومـين پـل در س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کامل گرديد که بوسيله بخش بزرگراه ها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طراحی شده بو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ل از نظر طراحی  مشابه پل اول بود , اما ترکيبی از سيستم های پيشرفته نظير استفاده از فولاد پر مقاومت با اتصالات جوشی بو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تعويض پل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1927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60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دلايل تامين بودجه سريع برای تعويض پل ساخته شده در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2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عبارتند از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ضافه شدن حجم ترافيک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نامناسب شدن شرايط ساز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 برنامه زمانبندی شده سري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نامه لرزه ای ايالت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وجود هزينه بالای ترميم پل قديم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تعيين نوع سازه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      مطالعـات اوليـه شـرک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نشـان داد که استـفاده از يـک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پل کابـلیِ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ارای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برج در اين منطقه مناسب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سـ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2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ه«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I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سـفارش داد که طـراحی مقدمـاتی و تـخمين هزينه ها را انجام ده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-55440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پل طراحی شده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دهنه ميانی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358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تر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دهنه کناری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15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ج های بتنی و شاهتيره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 بتنی جعب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JMI cable-stay option"/>
          <p:cNvPicPr/>
          <p:nvPr/>
        </p:nvPicPr>
        <p:blipFill>
          <a:blip r:embed="rId1"/>
          <a:stretch/>
        </p:blipFill>
        <p:spPr>
          <a:xfrm>
            <a:off x="152280" y="2971800"/>
            <a:ext cx="4267440" cy="352116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371600" y="426708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5720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2578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1911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 rot="19785000">
            <a:off x="2666880" y="39625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9785000">
            <a:off x="1676520" y="35053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 rot="10800000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9785000">
            <a:off x="1219320" y="32767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72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720"/>
                            </p:stCondLst>
                            <p:childTnLst>
                              <p:par>
                                <p:cTn id="34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72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2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4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40"/>
                            </p:stCondLst>
                            <p:childTnLst>
                              <p:par>
                                <p:cTn id="36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940"/>
                            </p:stCondLst>
                            <p:childTnLst>
                              <p:par>
                                <p:cTn id="3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4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28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72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720"/>
                            </p:stCondLst>
                            <p:childTnLst>
                              <p:par>
                                <p:cTn id="40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72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2001c"/>
                </a:solidFill>
                <a:latin typeface="Arial"/>
                <a:cs typeface="Titr"/>
              </a:rPr>
              <a:t>پروژه درس</a:t>
            </a:r>
            <a:r>
              <a:rPr b="1" lang="fa-IR" sz="3600" spc="-1" strike="noStrike">
                <a:solidFill>
                  <a:srgbClr val="92001c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2001c"/>
                </a:solidFill>
                <a:latin typeface="Arial"/>
                <a:ea typeface="Titr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904760" y="39621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6600"/>
                </a:solidFill>
                <a:latin typeface="Arial"/>
                <a:cs typeface="Titr"/>
              </a:rPr>
              <a:t>اصول مهندسی پل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سـ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شـرکت مهنـدسين مشـاور «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OPAC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پيشنهاد داد که يک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پـل مـعلق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می تواند در اين منطقه مناسب با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85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جديد طراحی شده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 دهنه ميان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716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و دهنه کناری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52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ی بتنی با  پايـه 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خميده و شاهتير جعبه ای فلز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OPAC suspension option"/>
          <p:cNvPicPr/>
          <p:nvPr/>
        </p:nvPicPr>
        <p:blipFill>
          <a:blip r:embed="rId1"/>
          <a:stretch/>
        </p:blipFill>
        <p:spPr>
          <a:xfrm>
            <a:off x="152280" y="2895480"/>
            <a:ext cx="4267440" cy="358164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838080" y="441972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2578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8098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 rot="19785000">
            <a:off x="2666880" y="39625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19785000">
            <a:off x="1218960" y="319968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 rot="10800000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5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طی بهار و تابستان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مراه ب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NC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OPAC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راه حل جديد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پل قوسی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پل خرپاي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قوسی پيشنهادی دارای دهـانه هايی با سـاختار منـظم , مشابه پلهای موجود بود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ه پيکربندی اين پل قوسی 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دسته سبد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گفته شد , زيرا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53280" indent="-5173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تکای انحنای قوس بصورت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      دندانه ای به يکديگر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53280" indent="-5173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دامه داشتن تا بالای عرشه پ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Caltrans arch option"/>
          <p:cNvPicPr/>
          <p:nvPr/>
        </p:nvPicPr>
        <p:blipFill>
          <a:blip r:embed="rId1"/>
          <a:stretch/>
        </p:blipFill>
        <p:spPr>
          <a:xfrm>
            <a:off x="228600" y="2819520"/>
            <a:ext cx="4267080" cy="35812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خرپايی پيـشنهادی بود که از نظـر معـماری مشـابه پـ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بو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ل دارای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58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تکی بر روی پايه مرکز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Caltrans truss option"/>
          <p:cNvPicPr/>
          <p:nvPr/>
        </p:nvPicPr>
        <p:blipFill>
          <a:blip r:embed="rId1"/>
          <a:stretch/>
        </p:blipFill>
        <p:spPr>
          <a:xfrm>
            <a:off x="228600" y="2819520"/>
            <a:ext cx="4419720" cy="36576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838080" y="48006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11480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26708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0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2000"/>
          </a:bodyPr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طی اين دوره , گزينه های پل معلق و کابلی برای ايجاد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عرشه پهن تر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همچنين ايـجاد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تغييرات بنـيادی در بالا بردن بهره وری و عملکرد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, توسعه بيشتری پيدا کردن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اين رو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-4906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پل معلق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Titr"/>
              </a:rPr>
              <a:t>عرشه فلز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Orthotropic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-4906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پل کابل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Titr"/>
              </a:rPr>
              <a:t>عرشه بتن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اواخر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DeLu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OPA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Steim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Joint Ventur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شرکت</a:t>
            </a:r>
            <a:r>
              <a:rPr b="1" lang="fa-IR" sz="4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Joint Venture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طرف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trans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ستور گرفت تا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35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% از محاسبات نهـايی و تخمـين هـزينه ها را برای پل معلق و کابلی انجام ده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تا از اين طريق انتـخاب نـهايی نـوع سـازه پل , توسـط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trans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نجام گير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کابلی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نهايی دارای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رج بتنی لوزی شکل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رشه با شاهتيرهای بتن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 جعبه ا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تصال کابلها بصورت شعاعی و روبه پايين به تکيه گاه عرشه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496040" cy="3809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219320" y="4267080"/>
            <a:ext cx="1447560" cy="152640"/>
          </a:xfrm>
          <a:prstGeom prst="rightArrow">
            <a:avLst>
              <a:gd name="adj1" fmla="val 50000"/>
              <a:gd name="adj2" fmla="val 2370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5053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95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124080"/>
            <a:ext cx="60948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31240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000"/>
                            </p:stCondLst>
                            <p:childTnLst>
                              <p:par>
                                <p:cTn id="7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5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5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معلق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نهايی دارای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رج بتنی با پايه خميد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رش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Orthotrop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ا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شاهتير جعبه ای فلز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يجاد عرشـ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Aerodynamic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ظـريف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وسيله کابلهای مايل و قائ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496040" cy="38862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371600" y="426708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954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9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9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نهايت بر اساس دلايل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19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دارا بودن بالاترين عملکرد لرز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وتاهترين برنامه زمانی ساخت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مترين خطر از لحاظ برخورد کشتی ها با پايه پ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مترين نياز به مراقبت و نگهداری از سيستم کابل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زيبايی بيشت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و کمترين خطر از نظر ساخت و سا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25480" indent="-44784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        برای طراحی نهايی و ساخت انتخاب 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486400"/>
            <a:ext cx="137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292929"/>
                </a:solidFill>
                <a:latin typeface="Times New Roman"/>
                <a:cs typeface="Titr"/>
              </a:rPr>
              <a:t>پل معل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75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موضوع کنفرانس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993300"/>
                </a:solidFill>
                <a:latin typeface="Arial"/>
                <a:cs typeface="Titr"/>
              </a:rPr>
              <a:t>آشنايی با مراحل طراحی و ساخت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tr"/>
              </a:rPr>
              <a:t>«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Carquinez Strait Bridge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 »</a:t>
            </a: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tr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طراحی پل معلق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طراحی پل مـعلق برای دهـانه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اصلی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Nazanin"/>
              </a:rPr>
              <a:t>728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Nazanin"/>
              </a:rPr>
              <a:t> متـری و بر اسـاس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فراهم کردن  فاصله آزاد ناوبری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مورد نياز در شـمال  و  جـنوب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کانال انجام گرفت .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4724280" cy="34290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 بر روی  شـمع های استوانه 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به قطر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تکيه می کنند .</a:t>
            </a:r>
            <a:r>
              <a:rPr b="1" lang="fa-IR" sz="22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حفاری ابتدا يک غلاف فـلزی ر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ميان مصالح رويی تا بالای سنـگها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ه داخل فرستاد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پس صخره سنگی را بوسـيله متـ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وراخ کرده و آنگاه غلاف را به پايي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دايت کرد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اين مرحله حفره سنگی و غلاف را با آرماتور مسلح کرده و بتن ريزی انجام گرفت .</a:t>
            </a:r>
            <a:r>
              <a:rPr b="1" lang="fa-IR" sz="2200" spc="-1" strike="noStrike">
                <a:solidFill>
                  <a:srgbClr val="292929"/>
                </a:solidFill>
                <a:latin typeface="Times New Roman"/>
                <a:ea typeface="Nazanin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ر برج بر رو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شمع که بيشترين طول آن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9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است تکيه می کند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1619280"/>
            <a:ext cx="4648320" cy="349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مع های بتن  مسلح بوسـيله پوشـش 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يش ساخته بتنی , بارهای جانبی و قـائم را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ين شمع و برج منتقل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مچنين يک سکوی  مناسب بـرای سـاخت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وانه های برج نيز فراهم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ر يک از اين سر شـمع ها , دارای  ابعـاد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حدود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8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*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2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و ضخامت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6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ی باشند. 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حفظ پايداری طولی و همچنين مقاومت در برابر زلزله به آرماتور های زيادی احتياج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191120" cy="373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 دارای ساختاری سلولی  از بتن مسل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هستنـد , که بشـکل فريـم های دروازه 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ر آمده ا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حور استـوانه ای مايـل , فضـای بازی بر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 پيوسته عرشه فلزی فراهم می ک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عيـن حـال اجـازه می دهـد که کابله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آويزان , مستقيماً از لبه عرشـه به تکيه گا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تصل شو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يوارهای کششی و ميله های مسلحِ , ستـون های کنـاری , تنها به دلـيل مطابقـت داشتن با معيارهای لرزه ای گسترش پيدا کرده ا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88620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ايه  انتقالی جنـوب پل , انتهای  شاهتير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فلزی را نگهداری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عضـو کشـشی پايين برای منـحرف کرد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ندسه کابـلها بسـمت تکـيه گاه جنـوبی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مچنين ايجاد تکيه گاه لازم برای پل در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فاده می شو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کار از نظر سازه ای و معماری همانند بر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صلی است , که دارای محوری از بتن مسلح سلولی و شالوده شمعی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1480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ِ کابـل های جنـوبی , فشـار وارد ب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 را , به زمين که بوسيله يک بلوک بتن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حجيم مهار شده است , منتقل می کندکه اي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 ترکيبی از شمع خـميده و عـمود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حفره از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8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ـری بالای سـطح زمين ت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زير سطح زمين ادامه پيدا می کند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38480" cy="31240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ِ کابـل های شمالی , فشار کابلها ر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وسيله يک سطـح اتکای مسطح که در زي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نگ قرار گرفته , به زمين منتق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تکيه گاه اغلب بعنوان يـک پايه کنا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عم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لوک های مهاری بتنی و حفره مايل بر رو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ستر سنگی سواره رو قرار می گير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419112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 کليه بارها را از عرشـه به برج ها 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آنجا به زمين منتق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کابلها از متراکم کردن و بهم  فشـرد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يم ها بوجود  مـی آيند که بوسـيله يک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روش تابيدن کنترل شده کامپيوتری انجا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ی گير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ـن  روش تکـامل يافـته ای از سـيستم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ـفاده شـده در پـل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Golden Gate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آهن ريخـته گری شـده بارها را از طـريق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ی معلق قائم به کابلهای اصلی منتق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پس کابلهای اصلی بارها را به بالای برج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نتقل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58164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4419720" cy="32767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روبنای اين پل معـلق دارای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56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طـول است , که به شاهـتير جـعبه ای فلزی محدود  شده است , و از تکيه گاه شـمالی تا پـايه انتـقال جنوبی ادامـه  پيدا می ک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 جعبه ای دارای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عـمق و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29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مـتر پهنا می باشد . صفـحات لبـه ای و کناری به شکلی در آمده اند که يک مقطع پايدار 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Aerodynamic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را بوجود آورند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ارائه دهنده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3300"/>
                </a:solidFill>
                <a:latin typeface="Arial"/>
                <a:cs typeface="Titr"/>
              </a:rPr>
              <a:t>مجتبی رودکی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عرشه 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Orthoropic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, صفـحه ای با ضـخامت يکـسان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16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, و مقطـعی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ذوزنقه شکل به عمق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305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ارد . 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عرشه با دندانه هايی که از يک ورق به ضخامت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8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ساخته شده اند , بسته می شود 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های عرشه از قطعات پيش ساخته در ژاپن , که بوسيله کـشتی به مح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پروژه حمل شدند , تشکيل می شو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انتقال شاهتيرها به موقعيت  نهاي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نصب از جک های کنار دريا استفاده شد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اين مرحلـه برای ايـجاد يک نـوا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فلزی پيوسـته و يکپارچه از جوشـکا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اتصال آنها استفاده گرديد 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6" name="image057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39625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37" name="image059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4572000" cy="4106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نصب شاهتيرها , در واقع سازه کامل شده است . هر چند باز هم بسياری از کـارهای سـاخت و سـاز باقی مانـده است . از آن جـمله عبارتند از 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نقاشی و کشيدن روکش بر روی کابله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نصب سنگفرش و نرده های عرش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ساخت بزرگراهی قابل عبور برای , اتومبي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ساخت پياده رو های وابسته به بزرگراه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0240" cy="35812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مطالعات ويژه مهندسی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طراحی يک پـل با انجام مطالعـات بيـشماری انجـام می گيرد .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مورد از اين مطالعات شايسته بـررسی و بازبينی بيشتری است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-38124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باد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-38124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زلزل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ين پل برای دو حالت از باد و طوفان طراحی شده است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اولاً :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ستحکا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برابر باد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ساعته با سرعت متوسـط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47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/s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ا دوره بازگ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ساله , که در آن تنـش های وارد بر پل نبايد بيشتر از مقدار مجاز باش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4114800" cy="273996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دوماً :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پايدار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بـرابـر بـاد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قيقه ای و سـرعت متوسـط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/s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7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, با دوره بازگ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سـاله که در آن بايد پايـداری پل حفظ گردد .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اين مـطالعات , شامل آزمايـش هايی بـر روی مقـاطع و مـدل کامل پل می باش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4038480" cy="28764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طرح لرزه ای پل , از اطلاعات حالت ارتعاشی و عملکردی سازه پيروی می کن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ناحيه تحت تأثير گسلهای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San And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Haywa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Frankl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دارد , که مطالعات بر اساس جنبـش زمـين در گسل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Franklin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نجام گرف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و حالت برای زلزله مطرح شد :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1</a:t>
            </a: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.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رزيابی اساس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زلـزله با دوره بازگـ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ساله , که در آن هيچ خسارت و جابجايی دائمی بيشتر از حد مجاز در سازه رخ نده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8306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2</a:t>
            </a: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.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رزيابی امنـيت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ـرای زلـزله بـا دوره بازگـ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تا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ساله , که در آن تنها ,خسارتهای قابل جبران و بدون برهم زدن نظم ترافيک اتفاق بيفت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عملـکرد لـرزه ای پل بعد از پخـش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يـدان  امـواج گسـسته , بوسـيل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ـدل کامپـيوتری غـير  ارتـجاع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صـديق شـد ,  و محـدوده دقيـق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غيير  شکلهای  نسبی در بتن , کاب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و فولاد های  سازه ای  مورد باز بين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گرف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114800" cy="33721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منبع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3300"/>
                </a:solidFill>
                <a:latin typeface="Arial"/>
                <a:cs typeface="Titr"/>
              </a:rPr>
              <a:t>سايت اينترنتی :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www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.Ketchum.or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چشم انداز کلی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ين مقاله توسـط آقای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Ketchum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که يکـی از مهندسـين مشـاور شرکـت 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C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»واقع در شهر « سان فرانسيسکو » است , ارائه شده است 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4876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 algn="r" rtl="1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Arial"/>
                <a:cs typeface="Nazanin"/>
              </a:rPr>
              <a:t>خيابان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Carquinez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, در حـدود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20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مايـلی شـمال شـرقی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و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ميان رودخـانه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Sacrament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خليج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دار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خيابان در حال حاضر بوسيله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پل خرپايی که در سالها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27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سـاخته شده اند , پوشـش داده شده است , و ساخـت آن به عنـوان ايـجاد يـک کريدور بين ايالتی , نقش حياتی داش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5972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ترافيک سنگين در</a:t>
            </a:r>
            <a:r>
              <a:rPr b="1" lang="fa-IR" sz="36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I-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غير عملی بودن اضافه کردن تعداد خطوط عبور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609480"/>
            <a:ext cx="42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6633"/>
                </a:solidFill>
                <a:latin typeface="Arial"/>
                <a:cs typeface="Titr"/>
              </a:rPr>
              <a:t>دلايل ساخت پل سوم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Arial"/>
                <a:cs typeface="Nazanin"/>
              </a:rPr>
              <a:t>مـطالعـات منطـقه ای در سـال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1988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در مـنطقه  خلـيج     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نشان داد که, نيـاز به اجـرای يک پـل بزرگتر در اين محل وجود دار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4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سومين پل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Carquinez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ـی ا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جديدترين  و  مهـمترين بنـاها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خـليج </a:t>
            </a:r>
            <a:r>
              <a:rPr b="1" lang="fa-IR" sz="2400" spc="-1" strike="noStrike">
                <a:solidFill>
                  <a:srgbClr val="292929"/>
                </a:solidFill>
                <a:latin typeface="Arial"/>
                <a:ea typeface="Nazanin"/>
              </a:rPr>
              <a:t>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ـود 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که طراحی و ساخت آن با کمترين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جلب توجه برای عموم همراه بو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54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962520" cy="34261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07:25:46Z</dcterms:created>
  <dc:creator>Mojtaba &amp; Sanaz </dc:creator>
  <dc:description/>
  <dc:language>en-US</dc:language>
  <cp:lastModifiedBy>DF 2</cp:lastModifiedBy>
  <dcterms:modified xsi:type="dcterms:W3CDTF">2008-11-19T06:15:48Z</dcterms:modified>
  <cp:revision>59</cp:revision>
  <dc:subject/>
  <dc:title>Slide 1</dc:title>
</cp:coreProperties>
</file>