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78D-4B9E-41D9-9C9F-868B31DD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C1D-AEEB-4397-AA82-F7891E4D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1BF-9E3A-47E6-8881-1551BC70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55B-3EEA-4453-8832-DF0BBEB9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A8D8-D623-4C27-AAFD-80E24DF4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485C-076F-4AD8-B5BF-4086AFC0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C94C-7720-4CE1-9B56-99ACFB7E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1865-2540-4438-B606-CE92CC78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78F1-670D-44A1-BE39-1BFBADB3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4ED2-89C1-466F-A4C6-40C80662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7095-E39A-4E60-B9E5-0F6AE9A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E49-6AF3-46E8-AEB6-C5DD53D9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561C-FF6D-4D90-8F6F-FA25BB36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FD9A-E62C-4EDD-AA66-635F5DE7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8591-12F4-474D-A248-439874B9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9FEB-E601-451E-9273-60466D2F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925C-5CD7-4EB6-827B-4D743714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C65D-7006-4091-B2C5-E7C1BA5A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DE6F-DE20-424F-8FD9-07A85AD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0557-07D6-4D79-A941-BA470767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A4AB-8346-4C5D-8C4E-A5DE70B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6ACBD-D062-497B-A45B-92094849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46F-F43A-4F77-AB8E-6333A734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0F74-15EA-4B9D-9E5E-356F888B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A0E1-0284-4C54-B967-A309954E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DCE8-3B37-420B-8DF4-5E452DFA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10CE8-BF2F-449D-86CB-5E17250E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AFF6D-BD00-4760-B798-26FC3AD6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F987-405C-4625-A1BF-35A513F1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94111-28C3-49CE-9FE2-EE951342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EDB-0125-4828-AF8D-EEBE6393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B0C-CF0C-4E42-971E-7BFB8A77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039-F70E-485A-A5EB-A437AD7D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46F-B990-4C0E-B111-117CC255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230-700C-4FA7-8EC8-54BCB1F9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184-A755-4C36-8724-E0DC7400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D34A-BCEA-4AAE-B34A-5E16A0B8F2F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D481-B349-480C-A1B8-0F5C9886583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7F1D-A68C-4F74-B4EE-953779CE4B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705720" cy="5410080"/>
          </a:xfrm>
          <a:prstGeom prst="rect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اين کنفرانس دور نمايی از </a:t>
            </a:r>
            <a:r>
              <a:rPr b="1" lang="fa-IR" sz="2800" spc="-1" strike="noStrike" u="sng">
                <a:solidFill>
                  <a:srgbClr val="292929"/>
                </a:solidFill>
                <a:uFillTx/>
                <a:latin typeface="Times New Roman"/>
                <a:cs typeface="Nazanin"/>
              </a:rPr>
              <a:t>نحوه انتخـاب سـازه پل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 و </a:t>
            </a:r>
            <a:r>
              <a:rPr b="1" lang="fa-IR" sz="2800" spc="-1" strike="noStrike" u="sng">
                <a:solidFill>
                  <a:srgbClr val="292929"/>
                </a:solidFill>
                <a:uFillTx/>
                <a:latin typeface="Times New Roman"/>
                <a:cs typeface="Nazanin"/>
              </a:rPr>
              <a:t>ترکيـب ساختار اصـلی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اين پل جـديد بيان می شود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 algn="r" rtl="1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اين پل يکی از مهمترين دستاوردهای علم مهندسی و ساخت وساز اسـت و باعث ورود شـغل مهندسی پل و صنعت پل سازی برای اولين بار به منطقه ش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6633"/>
                </a:solidFill>
                <a:latin typeface="Arial"/>
                <a:cs typeface="Titr"/>
              </a:rPr>
              <a:t>از جمله</a:t>
            </a:r>
            <a:r>
              <a:rPr b="1" lang="fa-IR" sz="32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200" spc="-1" strike="noStrike">
                <a:solidFill>
                  <a:srgbClr val="996633"/>
                </a:solidFill>
                <a:latin typeface="Arial"/>
                <a:ea typeface="Titr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اولين پل جديد ماشيـن رو بعد از سـال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1980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در منطقه خليج است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اولين پل جديد معلق بعد از سال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1937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در منطقه خليج است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اولين پل معـلق مهم در  آمريکا بعد از سال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197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است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ولين پل معلق در آمريکا با عرشه فلزی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Aerodynamic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است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ولين پل معلق در آمريکا با برج های بتنی است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اولين پل معلق در آمريکا با شالـوده استوانه ای است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ولين پل معلق در جهان با بـرج های بتنی در ناحيه ای با لرزه خيزی بالاست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پـل حـمل و نقـل کريـدور بيـن ايـالتی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80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را  از ميان رودخانه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Sacrament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ما بين نواحی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rockett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و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Vallej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در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alifornia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انجام می ده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-5788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پـل اول در سـال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927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تکمـيل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شده  و  بوسـيله شـرکت خصـوصی</a:t>
            </a: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</a:t>
            </a:r>
            <a:r>
              <a:rPr b="1" lang="fa-IR" sz="2100" spc="-1" strike="noStrike">
                <a:solidFill>
                  <a:srgbClr val="292929"/>
                </a:solidFill>
                <a:latin typeface="Times New Roman"/>
                <a:ea typeface="Nazanin"/>
              </a:rPr>
              <a:t>«</a:t>
            </a:r>
            <a:r>
              <a:rPr b="1" lang="en-US" sz="2100" spc="-1" strike="noStrike">
                <a:solidFill>
                  <a:srgbClr val="292929"/>
                </a:solidFill>
                <a:latin typeface="Times New Roman"/>
                <a:ea typeface="Nazanin"/>
              </a:rPr>
              <a:t>American Toll Bridge</a:t>
            </a:r>
            <a:r>
              <a:rPr b="1" lang="en-US" sz="21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100" spc="-1" strike="noStrike">
                <a:solidFill>
                  <a:srgbClr val="292929"/>
                </a:solidFill>
                <a:latin typeface="Times New Roman"/>
                <a:ea typeface="Nazanin"/>
              </a:rPr>
              <a:t> »</a:t>
            </a: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 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داره  و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گردانده می شد.سپس در سال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94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الت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alifornia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اين مسئوليت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را بر عهده گرفت .</a:t>
            </a:r>
            <a:r>
              <a:rPr b="1" lang="fa-IR" sz="32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33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267080" cy="38098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ومـين پـل در سا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58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کامل گرديد که بوسيله بخش بزرگراه های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alifornia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طراحی شده بو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 algn="r" rtl="1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پل از نظر طراحی  مشابه پل اول بود , اما ترکيبی از سيستم های پيشرفته نظير استفاده از فولاد پر مقاومت با اتصالات جوشی بو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6633"/>
                </a:solidFill>
                <a:latin typeface="Arial"/>
                <a:cs typeface="Titr"/>
              </a:rPr>
              <a:t>تعويض پل 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1927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43000" y="312372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609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دلايل تامين بودجه سريع برای تعويض پل ساخته شده در سال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1927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عبارتند از 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ضافه شدن حجم ترافيک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نامناسب شدن شرايط سازه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يک برنامه زمانبندی شده سري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نامه لرزه ای ايالتی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وجود هزينه بالای ترميم پل قديم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6633"/>
                </a:solidFill>
                <a:latin typeface="Arial"/>
                <a:cs typeface="Titr"/>
              </a:rPr>
              <a:t>تعيين نوع سازه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3000" y="312372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       مطالعـات اوليـه شـرک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trans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 نشـان داد که استـفاده از يـک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Titr"/>
              </a:rPr>
              <a:t>پل کابـلیِ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دارای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 برج در اين منطقه مناسب است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سـا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92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, «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trans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به«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MI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سـفارش داد که طـراحی مقدمـاتی و تـخمين هزينه ها را انجام ده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544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54400" indent="-55440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پل طراحی شده 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544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94240" indent="-48528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دهنه ميانی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358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متر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94240" indent="-48528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دهنه کناری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152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مت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94240" indent="-48528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برج های بتنی و شاهتيرها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942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       بتنی جعبه 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JMI cable-stay option"/>
          <p:cNvPicPr/>
          <p:nvPr/>
        </p:nvPicPr>
        <p:blipFill>
          <a:blip r:embed="rId1"/>
          <a:stretch/>
        </p:blipFill>
        <p:spPr>
          <a:xfrm>
            <a:off x="152280" y="2971800"/>
            <a:ext cx="4267440" cy="352116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1371600" y="4267080"/>
            <a:ext cx="83808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5720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2578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19112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 rot="19785000">
            <a:off x="2666880" y="3962520"/>
            <a:ext cx="685800" cy="75960"/>
          </a:xfrm>
          <a:prstGeom prst="leftArrow">
            <a:avLst>
              <a:gd name="adj1" fmla="val 50000"/>
              <a:gd name="adj2" fmla="val 22571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 rot="19785000">
            <a:off x="1676520" y="3505320"/>
            <a:ext cx="685800" cy="75960"/>
          </a:xfrm>
          <a:prstGeom prst="leftArrow">
            <a:avLst>
              <a:gd name="adj1" fmla="val 50000"/>
              <a:gd name="adj2" fmla="val 22571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 rot="10800000">
            <a:noAutofit/>
          </a:bodyPr>
          <a:p>
            <a:pPr marL="609480" indent="-609480" algn="ct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9785000">
            <a:off x="1219320" y="3276720"/>
            <a:ext cx="685800" cy="75960"/>
          </a:xfrm>
          <a:prstGeom prst="leftArrow">
            <a:avLst>
              <a:gd name="adj1" fmla="val 50000"/>
              <a:gd name="adj2" fmla="val 22571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72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720"/>
                            </p:stCondLst>
                            <p:childTnLst>
                              <p:par>
                                <p:cTn id="34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3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72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2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4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940"/>
                            </p:stCondLst>
                            <p:childTnLst>
                              <p:par>
                                <p:cTn id="36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940"/>
                            </p:stCondLst>
                            <p:childTnLst>
                              <p:par>
                                <p:cTn id="3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4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28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272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720"/>
                            </p:stCondLst>
                            <p:childTnLst>
                              <p:par>
                                <p:cTn id="40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72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2001c"/>
                </a:solidFill>
                <a:latin typeface="Arial"/>
                <a:cs typeface="Titr"/>
              </a:rPr>
              <a:t>پروژه درس</a:t>
            </a:r>
            <a:r>
              <a:rPr b="1" lang="fa-IR" sz="3600" spc="-1" strike="noStrike">
                <a:solidFill>
                  <a:srgbClr val="92001c"/>
                </a:solidFill>
                <a:latin typeface="Arial"/>
                <a:ea typeface="Titr"/>
              </a:rPr>
              <a:t> </a:t>
            </a:r>
            <a:r>
              <a:rPr b="1" lang="fa-IR" sz="3600" spc="-1" strike="noStrike">
                <a:solidFill>
                  <a:srgbClr val="92001c"/>
                </a:solidFill>
                <a:latin typeface="Arial"/>
                <a:ea typeface="Titr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904760" y="3962160"/>
            <a:ext cx="56386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6600"/>
                </a:solidFill>
                <a:latin typeface="Arial"/>
                <a:cs typeface="Titr"/>
              </a:rPr>
              <a:t>اصول مهندسی پل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سـا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96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شـرکت مهنـدسين مشـاور « </a:t>
            </a: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OPAC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پيشنهاد داد که يک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Titr"/>
              </a:rPr>
              <a:t>پـل مـعلق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3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دهنه می تواند در اين منطقه مناسب باش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85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پل جديد طراحی شده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43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43200" indent="-51192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يک دهنه ميانی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716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43200" indent="-51192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دو دهنه کناری 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52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43200" indent="-51192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ج های بتنی با  پايـه ه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خميده و شاهتير جعبه ای فلز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" descr="OPAC suspension option"/>
          <p:cNvPicPr/>
          <p:nvPr/>
        </p:nvPicPr>
        <p:blipFill>
          <a:blip r:embed="rId1"/>
          <a:stretch/>
        </p:blipFill>
        <p:spPr>
          <a:xfrm>
            <a:off x="152280" y="2895480"/>
            <a:ext cx="4267440" cy="358164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838080" y="441972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52578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8098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 rot="19785000">
            <a:off x="2666880" y="3962520"/>
            <a:ext cx="685800" cy="75960"/>
          </a:xfrm>
          <a:prstGeom prst="leftArrow">
            <a:avLst>
              <a:gd name="adj1" fmla="val 50000"/>
              <a:gd name="adj2" fmla="val 22571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19785000">
            <a:off x="1218960" y="3199680"/>
            <a:ext cx="685800" cy="76320"/>
          </a:xfrm>
          <a:prstGeom prst="leftArrow">
            <a:avLst>
              <a:gd name="adj1" fmla="val 50000"/>
              <a:gd name="adj2" fmla="val 2246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 rot="10800000">
            <a:noAutofit/>
          </a:bodyPr>
          <a:p>
            <a:pPr marL="609480" indent="-609480" algn="ct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5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8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7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47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50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طی بهار و تابستان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96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«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trans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همراه با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NC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OPAC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راه حل جديد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 algn="r" rtl="1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پل قوسی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 algn="r" rtl="1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پل خرپايی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پل قوسی پيشنهادی دارای دهـانه هايی با سـاختار منـظم , مشابه پلهای موجود بود 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به پيکربندی اين پل قوسی 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 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Titr"/>
              </a:rPr>
              <a:t>دسته سبد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 گفته شد , زيرا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53280" indent="-51732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تکای انحنای قوس بصورت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         دندانه ای به يکديگر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53280" indent="-51732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دامه داشتن تا بالای عرشه پل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1" name="" descr="Caltrans arch option"/>
          <p:cNvPicPr/>
          <p:nvPr/>
        </p:nvPicPr>
        <p:blipFill>
          <a:blip r:embed="rId1"/>
          <a:stretch/>
        </p:blipFill>
        <p:spPr>
          <a:xfrm>
            <a:off x="228600" y="2819520"/>
            <a:ext cx="4267080" cy="35812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پل خرپايی پيـشنهادی بود که از نظـر معـماری مشـابه پـ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58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بو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پل دارای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2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دهنه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358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تکی بر روی پايه مرکز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3" name="" descr="Caltrans truss option"/>
          <p:cNvPicPr/>
          <p:nvPr/>
        </p:nvPicPr>
        <p:blipFill>
          <a:blip r:embed="rId1"/>
          <a:stretch/>
        </p:blipFill>
        <p:spPr>
          <a:xfrm>
            <a:off x="228600" y="2819520"/>
            <a:ext cx="4419720" cy="365760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838080" y="48006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11480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426708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60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61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0"/>
                            </p:stCondLst>
                            <p:childTnLst>
                              <p:par>
                                <p:cTn id="6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6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2000"/>
          </a:bodyPr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طی اين دوره , گزينه های پل معلق و کابلی برای ايجاد </a:t>
            </a:r>
            <a:r>
              <a:rPr b="1" lang="fa-IR" sz="2800" spc="-1" strike="noStrike" u="sng">
                <a:solidFill>
                  <a:srgbClr val="292929"/>
                </a:solidFill>
                <a:uFillTx/>
                <a:latin typeface="Times New Roman"/>
                <a:cs typeface="Nazanin"/>
              </a:rPr>
              <a:t>عرشه پهن تر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و همچنين ايـجاد </a:t>
            </a:r>
            <a:r>
              <a:rPr b="1" lang="fa-IR" sz="2800" spc="-1" strike="noStrike" u="sng">
                <a:solidFill>
                  <a:srgbClr val="292929"/>
                </a:solidFill>
                <a:uFillTx/>
                <a:latin typeface="Times New Roman"/>
                <a:cs typeface="Nazanin"/>
              </a:rPr>
              <a:t>تغييرات بنـيادی در بالا بردن بهره وری و عملکرد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, توسعه بيشتری پيدا کردن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05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ز اين رو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05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03960" indent="-49068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پل معلق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Titr"/>
              </a:rPr>
              <a:t>عرشه فلزی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Orthotropic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039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03960" indent="-490680" algn="r" rtl="1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پل کابلی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Titr"/>
              </a:rPr>
              <a:t>عرشه بتنی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اواخر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96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DeLue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OPA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Steim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Joint Ventur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شرکت</a:t>
            </a:r>
            <a:r>
              <a:rPr b="1" lang="fa-IR" sz="40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Joint Venture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ز طرف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altrans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دستور گرفت تا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35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% از محاسبات نهـايی و تخمـين هـزينه ها را برای پل معلق و کابلی انجام ده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تا از اين طريق انتـخاب نـهايی نـوع سـازه پل , توسـط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Caltrans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انجام گير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پ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Titr"/>
              </a:rPr>
              <a:t>کابلی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نهايی دارای 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برج بتنی لوزی شکل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عرشه با شاهتيرهای بتن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       جعبه ای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اتصال کابلها بصورت شعاعی و روبه پايين به تکيه گاه عرشه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496040" cy="38098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219320" y="4267080"/>
            <a:ext cx="1447560" cy="152640"/>
          </a:xfrm>
          <a:prstGeom prst="rightArrow">
            <a:avLst>
              <a:gd name="adj1" fmla="val 50000"/>
              <a:gd name="adj2" fmla="val 2370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50532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895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124080"/>
            <a:ext cx="60948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85640" y="3124080"/>
            <a:ext cx="6858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72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72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73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6000"/>
                            </p:stCondLst>
                            <p:childTnLst>
                              <p:par>
                                <p:cTn id="7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5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85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پل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Titr"/>
              </a:rPr>
              <a:t>معلق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نهايی دارای 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برج بتنی با پايه خميده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عرش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Orthotrop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با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      شاهتير جعبه ای فلز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ايجاد عرشـه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Aerodynamic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ظـريف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بوسيله کابلهای مايل و قائ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496040" cy="388620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371600" y="426708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8954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7000"/>
                            </p:stCondLst>
                            <p:childTnLst>
                              <p:par>
                                <p:cTn id="79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7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cc99"/>
                                      </p:to>
                                    </p:animClr>
                                    <p:set>
                                      <p:cBhvr>
                                        <p:cTn id="79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9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نهايت بر اساس دلايل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119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دارا بودن بالاترين عملکرد لرزه 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کوتاهترين برنامه زمانی ساخت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کمترين خطر از لحاظ برخورد کشتی ها با پايه پل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کمترين نياز به مراقبت و نگهداری از سيستم کابل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زيبايی بيشتر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-324000" algn="r" rtl="1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و کمترين خطر از نظر ساخت و ساز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4119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25480" indent="-447840" algn="r" rtl="1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           برای طراحی نهايی و ساخت انتخاب ش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31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5486400"/>
            <a:ext cx="137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292929"/>
                </a:solidFill>
                <a:latin typeface="Times New Roman"/>
                <a:cs typeface="Titr"/>
              </a:rPr>
              <a:t>پل معل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75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6633"/>
                </a:solidFill>
                <a:latin typeface="Arial"/>
                <a:cs typeface="Titr"/>
              </a:rPr>
              <a:t>موضوع کنفرانس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993300"/>
                </a:solidFill>
                <a:latin typeface="Arial"/>
                <a:cs typeface="Titr"/>
              </a:rPr>
              <a:t>آشنايی با مراحل طراحی و ساخت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4d4d4d"/>
                </a:solidFill>
                <a:latin typeface="Arial"/>
                <a:ea typeface="Titr"/>
              </a:rPr>
              <a:t>«</a:t>
            </a:r>
            <a:r>
              <a:rPr b="1" lang="en-US" sz="4000" spc="-1" strike="noStrike">
                <a:solidFill>
                  <a:srgbClr val="4d4d4d"/>
                </a:solidFill>
                <a:latin typeface="Arial"/>
                <a:ea typeface="Times New Roman"/>
              </a:rPr>
              <a:t>Carquinez Strait Bridge</a:t>
            </a:r>
            <a:r>
              <a:rPr b="1" lang="en-US" sz="40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4d4d4d"/>
                </a:solidFill>
                <a:latin typeface="Arial"/>
                <a:ea typeface="Times New Roman"/>
              </a:rPr>
              <a:t> »</a:t>
            </a:r>
            <a:r>
              <a:rPr b="1" lang="fa-IR" sz="4000" spc="-1" strike="noStrike">
                <a:solidFill>
                  <a:srgbClr val="4d4d4d"/>
                </a:solidFill>
                <a:latin typeface="Arial"/>
                <a:ea typeface="Titr"/>
              </a:rPr>
              <a:t>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6633"/>
                </a:solidFill>
                <a:latin typeface="Arial"/>
                <a:cs typeface="Titr"/>
              </a:rPr>
              <a:t>طراحی پل معلق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2640" y="312372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Nazanin"/>
              </a:rPr>
              <a:t>طراحی پل مـعلق برای دهـانه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Nazanin"/>
              </a:rPr>
              <a:t>اصلی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Nazanin"/>
              </a:rPr>
              <a:t>728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Nazanin"/>
              </a:rPr>
              <a:t> متـری و بر اسـاس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Nazanin"/>
              </a:rPr>
              <a:t>فراهم کردن  فاصله آزاد ناوبری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Nazanin"/>
              </a:rPr>
              <a:t>مورد نياز در شـمال  و  جـنوب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Nazanin"/>
              </a:rPr>
              <a:t>کانال انجام گرفت .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4800600" cy="3657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4724280" cy="342900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ج ها بر روی  شـمع های استوانه ا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به قطر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3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 تکيه می کنند .</a:t>
            </a:r>
            <a:r>
              <a:rPr b="1" lang="fa-IR" sz="22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حفاری ابتدا يک غلاف فـلزی را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ز ميان مصالح رويی تا بالای سنـگها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ه داخل فرستاد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سپس صخره سنگی را بوسـيله متـه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سوراخ کرده و آنگاه غلاف را به پايين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دايت کرد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عد از اين مرحله حفره سنگی و غلاف را با آرماتور مسلح کرده و بتن ريزی انجام گرفت .</a:t>
            </a:r>
            <a:r>
              <a:rPr b="1" lang="fa-IR" sz="2200" spc="-1" strike="noStrike">
                <a:solidFill>
                  <a:srgbClr val="292929"/>
                </a:solidFill>
                <a:latin typeface="Times New Roman"/>
                <a:ea typeface="Nazanin"/>
              </a:rPr>
              <a:t> 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ر برج بر روی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2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شمع که بيشترين طول آن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9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 است تکيه می کند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2280" y="1619280"/>
            <a:ext cx="4648320" cy="349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4572000" cy="342900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000"/>
                            </p:stCondLst>
                            <p:childTnLst>
                              <p:par>
                                <p:cTn id="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شمع های بتن  مسلح بوسـيله پوشـش ه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پيش ساخته بتنی , بارهای جانبی و قـائم را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ين شمع و برج منتقل می کن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مچنين يک سکوی  مناسب بـرای سـاخت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ستوانه های برج نيز فراهم می کن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ر يک از اين سر شـمع ها , دارای  ابعـاد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حدود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8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*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22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و ضخامت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6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ی باشند. 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حفظ پايداری طولی و همچنين مقاومت در برابر زلزله به آرماتور های زيادی احتياج است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191120" cy="3733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038480" cy="37339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ج ها دارای ساختاری سلولی  از بتن مسل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هستنـد , که بشـکل فريـم های دروازه ا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در آمده ان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حور استـوانه ای مايـل , فضـای بازی بر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شاهتير پيوسته عرشه فلزی فراهم می کن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عيـن حـال اجـازه می دهـد که کابلها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آويزان , مستقيماً از لبه عرشـه به تکيه گاه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تصل شون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78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ديوارهای کششی و ميله های مسلحِ , ستـون های کنـاری , تنها به دلـيل مطابقـت داشتن با معيارهای لرزه ای گسترش پيدا کرده ان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038480" cy="3733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886200" cy="37339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پايه  انتقالی جنـوب پل , انتهای  شاهتيره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فلزی را نگهداری می ک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ز عضـو کشـشی پايين برای منـحرف کردن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ندسه کابـلها بسـمت تکـيه گاه جنـوبی و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همچنين ايجاد تکيه گاه لازم برای پل دره ا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ستفاده می شو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کار از نظر سازه ای و معماری همانند برج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اصلی است , که دارای محوری از بتن مسلح سلولی و شالوده شمعی است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114800" cy="3733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038480" cy="37339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0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تکيه گاهِ کابـل های جنـوبی , فشـار وارد بر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کابلها را , به زمين که بوسيله يک بلوک بتن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حجيم مهار شده است , منتقل می کندکه اين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تکيه گاه ترکيبی از شمع خـميده و عـمود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است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حفره از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8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ـری بالای سـطح زمين تا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ی زير سطح زمين ادامه پيدا می کند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114800" cy="3581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038480" cy="31240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4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تکيه گاهِ کابـل های شمالی , فشار کابلها را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وسيله يک سطـح اتکای مسطح که در زير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سنگ قرار گرفته , به زمين منتقل می ک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تکيه گاه اغلب بعنوان يـک پايه کنا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عمل می ک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لوک های مهاری بتنی و حفره مايل بر رو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ستر سنگی سواره رو قرار می گير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191120" cy="3504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4191120" cy="37339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2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کابلها کليه بارها را از عرشـه به برج ها  و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آنجا به زمين منتقل می ک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کابلها از متراکم کردن و بهم  فشـردن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سيم ها بوجود  مـی آيند که بوسـيله يک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روش تابيدن کنترل شده کامپيوتری انجا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ی گير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ـن  روش تکـامل يافـته ای از سـيستم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ستـفاده شـده در پـل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Golden Gate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»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ست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7339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2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آهن ريخـته گری شـده بارها را از طـريق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کابلهای معلق قائم به کابلهای اصلی منتقل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ی ک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سپس کابلهای اصلی بارها را به بالای برج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نتقل می کنن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58164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4419720" cy="32767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روبنای اين پل معـلق دارای 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56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طـول است , که به شاهـتير جـعبه ای فلزی محدود  شده است , و از تکيه گاه شـمالی تا پـايه انتـقال جنوبی ادامـه  پيدا می کن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292929"/>
                </a:solidFill>
                <a:latin typeface="Times New Roman"/>
                <a:cs typeface="Nazanin"/>
              </a:rPr>
              <a:t>شاهتير جعبه ای دارای 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3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متر عـمق و 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29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مـتر پهنا می باشد . صفـحات لبـه ای و کناری به شکلی در آمده اند که يک مقطع پايدار </a:t>
            </a:r>
            <a:r>
              <a:rPr b="1" lang="en-US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Aerodynamic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را بوجود آورند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10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0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6633"/>
                </a:solidFill>
                <a:latin typeface="Arial"/>
                <a:cs typeface="Titr"/>
              </a:rPr>
              <a:t>ارائه دهنده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993300"/>
                </a:solidFill>
                <a:latin typeface="Arial"/>
                <a:cs typeface="Titr"/>
              </a:rPr>
              <a:t>مجتبی رودکی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292929"/>
                </a:solidFill>
                <a:latin typeface="Times New Roman"/>
                <a:cs typeface="Nazanin"/>
              </a:rPr>
              <a:t>عرشه </a:t>
            </a:r>
            <a:r>
              <a:rPr b="1" lang="en-US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Orthoropic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, صفـحه ای با ضـخامت يکـسان 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m</a:t>
            </a:r>
            <a:r>
              <a:rPr b="1" lang="en-US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16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است , و مقطـعی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   ذوزنقه شکل به عمق 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m</a:t>
            </a:r>
            <a:r>
              <a:rPr b="1" lang="en-US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305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دارد . 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عرشه با دندانه هايی که از يک ورق به ضخامت </a:t>
            </a:r>
            <a:r>
              <a:rPr b="0" lang="en-US" sz="2000" spc="-1" strike="noStrike">
                <a:solidFill>
                  <a:srgbClr val="292929"/>
                </a:solidFill>
                <a:latin typeface="Times New Roman"/>
                <a:ea typeface="Nazanin"/>
              </a:rPr>
              <a:t>mm</a:t>
            </a:r>
            <a:r>
              <a:rPr b="1" lang="en-US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8</a:t>
            </a:r>
            <a:r>
              <a:rPr b="1" lang="fa-IR" sz="2300" spc="-1" strike="noStrike">
                <a:solidFill>
                  <a:srgbClr val="292929"/>
                </a:solidFill>
                <a:latin typeface="Times New Roman"/>
                <a:ea typeface="Nazanin"/>
              </a:rPr>
              <a:t> ساخته شده اند , بسته می شود .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10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0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شاهتيرهای عرشه از قطعات پيش ساخته در ژاپن , که بوسيله کـشتی به محل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پروژه حمل شدند , تشکيل می شو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انتقال شاهتيرها به موقعيت  نهاي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نصب از جک های کنار دريا استفاده شد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عد از اين مرحلـه برای ايـجاد يک نـوار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فلزی پيوسـته و يکپارچه از جوشـکار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اتصال آنها استفاده گرديد 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6" name="image057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572000" cy="39625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  <p:pic>
        <p:nvPicPr>
          <p:cNvPr id="237" name="image059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4572000" cy="41068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6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عد از نصب شاهتيرها , در واقع سازه کامل شده است . هر چند باز هم بسياری از کـارهای سـاخت و سـاز باقی مانـده است . از آن جـمله عبارتند از 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نقاشی و کشيدن روکش بر روی کابلها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نصب سنگفرش و نرده های عرشه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ساخت بزرگراهی قابل عبور برای , اتومبيل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9900"/>
                </a:solidFill>
                <a:latin typeface="Times New Roman"/>
                <a:cs typeface="Nazanin"/>
              </a:rPr>
              <a:t>ساخت پياده رو های وابسته به بزرگراه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810240" cy="35812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20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6633"/>
                </a:solidFill>
                <a:latin typeface="Arial"/>
                <a:cs typeface="Titr"/>
              </a:rPr>
              <a:t>مطالعات ويژه مهندسی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4000" spc="-1" strike="noStrike">
                <a:solidFill>
                  <a:srgbClr val="996633"/>
                </a:solidFill>
                <a:latin typeface="Arial"/>
                <a:ea typeface="Titr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42640" y="312372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طراحی يک پـل با انجام مطالعـات بيـشماری انجـام می گيرد .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مورد از اين مطالعات شايسته بـررسی و بازبينی بيشتری است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63880" indent="-381240" algn="r" rtl="1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باد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63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63880" indent="-381240" algn="r" rtl="1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زلزله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اين پل برای دو حالت از باد و طوفان طراحی شده است 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tr"/>
              </a:rPr>
              <a:t>اولاً :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  <a:cs typeface="Nazanin"/>
              </a:rPr>
              <a:t>استحکا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برابر باد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1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Nazanin"/>
              </a:rPr>
              <a:t> ساعته با سرعت متوسـط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47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m/s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,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ا دوره بازگشت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ساله , که در آن تنـش های وارد بر پل نبايد بيشتر از مقدار مجاز باش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4114800" cy="273996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Titr"/>
              </a:rPr>
              <a:t>دوماً :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  <a:cs typeface="Nazanin"/>
              </a:rPr>
              <a:t>پايداری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بـرابـر بـاد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دقيقه ای و سـرعت متوسـط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m/s</a:t>
            </a:r>
            <a:r>
              <a:rPr b="0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7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, با دوره بازگشت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0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سـاله که در آن بايد پايـداری پل حفظ گردد .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666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        اين مـطالعات , شامل آزمايـش هايی بـر روی مقـاطع و مـدل کامل پل می باش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4038480" cy="287640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0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طرح لرزه ای پل , از اطلاعات حالت ارتعاشی و عملکردی سازه پيروی می کن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ناحيه تحت تأثير گسلهای 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Nazanin"/>
              </a:rPr>
              <a:t>San Andre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Nazanin"/>
              </a:rPr>
              <a:t>Haywar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  <a:ea typeface="Nazanin"/>
              </a:rPr>
              <a:t>Frankli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قرار دارد , که مطالعات بر اساس جنبـش زمـين در گسل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Franklin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انجام گرفت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و حالت برای زلزله مطرح شد :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9900"/>
                </a:solidFill>
                <a:latin typeface="Times New Roman"/>
                <a:ea typeface="Titr"/>
              </a:rPr>
              <a:t>1</a:t>
            </a:r>
            <a:r>
              <a:rPr b="1" lang="fa-IR" sz="2800" spc="-1" strike="noStrike">
                <a:solidFill>
                  <a:srgbClr val="cc9900"/>
                </a:solidFill>
                <a:latin typeface="Times New Roman"/>
                <a:ea typeface="Titr"/>
              </a:rPr>
              <a:t>.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tr"/>
              </a:rPr>
              <a:t> 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  <a:cs typeface="Nazanin"/>
              </a:rPr>
              <a:t>ارزيابی اساسی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,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رای زلـزله با دوره بازگـشت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30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ساله , که در آن هيچ خسارت و جابجايی دائمی بيشتر از حد مجاز در سازه رخ ندهد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83068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0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9900"/>
                </a:solidFill>
                <a:latin typeface="Times New Roman"/>
                <a:ea typeface="Titr"/>
              </a:rPr>
              <a:t>2</a:t>
            </a:r>
            <a:r>
              <a:rPr b="1" lang="fa-IR" sz="2800" spc="-1" strike="noStrike">
                <a:solidFill>
                  <a:srgbClr val="cc9900"/>
                </a:solidFill>
                <a:latin typeface="Times New Roman"/>
                <a:ea typeface="Titr"/>
              </a:rPr>
              <a:t>.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tr"/>
              </a:rPr>
              <a:t> </a:t>
            </a:r>
            <a:r>
              <a:rPr b="1" lang="fa-IR" sz="2800" spc="-1" strike="noStrike">
                <a:solidFill>
                  <a:srgbClr val="990000"/>
                </a:solidFill>
                <a:latin typeface="Times New Roman"/>
                <a:cs typeface="Nazanin"/>
              </a:rPr>
              <a:t>ارزيابی امنـيتی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,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بـرای زلـزله بـا دوره بازگـشت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100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تا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2000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 ساله , که در آن تنها ,خسارتهای قابل جبران و بدون برهم زدن نظم ترافيک اتفاق بيفتد 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عملـکرد لـرزه ای پل بعد از پخـش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يـدان  امـواج گسـسته , بوسـيله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مـدل کامپـيوتری غـير  ارتـجاع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تصـديق شـد ,  و محـدوده دقيـق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تغيير  شکلهای  نسبی در بتن , کابل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و فولاد های  سازه ای  مورد باز بينی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قرار گرفت 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4114800" cy="33721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6633"/>
                </a:solidFill>
                <a:latin typeface="Arial"/>
                <a:cs typeface="Titr"/>
              </a:rPr>
              <a:t>منبع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993300"/>
                </a:solidFill>
                <a:latin typeface="Arial"/>
                <a:cs typeface="Titr"/>
              </a:rPr>
              <a:t>سايت اينترنتی :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www</a:t>
            </a:r>
            <a:r>
              <a:rPr b="1" lang="en-US" sz="3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.Ketchum.or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6633"/>
                </a:solidFill>
                <a:latin typeface="Arial"/>
                <a:cs typeface="Titr"/>
              </a:rPr>
              <a:t>چشم انداز کلی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6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Nazanin"/>
              </a:rPr>
              <a:t>اين مقاله توسـط آقای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Ketchum</a:t>
            </a:r>
            <a:r>
              <a:rPr b="0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که يکـی از مهندسـين مشـاور شرکـت «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AC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Nazanin"/>
              </a:rPr>
              <a:t> »واقع در شهر « سان فرانسيسکو » است , ارائه شده است .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4876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 algn="r" rtl="1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Arial"/>
                <a:cs typeface="Nazanin"/>
              </a:rPr>
              <a:t>خيابان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Carquinez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 , در حـدود 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20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 مايـلی شـمال شـرقی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an Francisc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»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, و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 ميان رودخـانه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Sacrament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»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در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خليج 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an Francisc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»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قرار دار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-412920" algn="r" rtl="1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cs typeface="Nazanin"/>
              </a:rPr>
              <a:t>اين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خيابان در حال حاضر بوسيله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2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دهنه پل خرپايی که در سالهای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27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و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1958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سـاخته شده اند , پوشـش داده شده است , و ساخـت آن به عنـوان ايـجاد يـک کريدور بين ايالتی , نقش حياتی داشت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16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59724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9724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ترافيک سنگين در</a:t>
            </a:r>
            <a:r>
              <a:rPr b="1" lang="fa-IR" sz="36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en-US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I-8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-597240" algn="r" rtl="1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غير عملی بودن اضافه کردن تعداد خطوط عبور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9724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609480"/>
            <a:ext cx="42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6633"/>
                </a:solidFill>
                <a:latin typeface="Arial"/>
                <a:cs typeface="Titr"/>
              </a:rPr>
              <a:t>دلايل ساخت پل سوم</a:t>
            </a:r>
            <a:r>
              <a:rPr b="1" lang="fa-IR" sz="3200" spc="-1" strike="noStrike">
                <a:solidFill>
                  <a:srgbClr val="996633"/>
                </a:solidFill>
                <a:latin typeface="Arial"/>
                <a:ea typeface="Titr"/>
              </a:rPr>
              <a:t> </a:t>
            </a:r>
            <a:r>
              <a:rPr b="1" lang="fa-IR" sz="3200" spc="-1" strike="noStrike">
                <a:solidFill>
                  <a:srgbClr val="996633"/>
                </a:solidFill>
                <a:latin typeface="Arial"/>
                <a:ea typeface="Titr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 algn="r" rtl="1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Arial"/>
                <a:cs typeface="Nazanin"/>
              </a:rPr>
              <a:t>مـطالعـات منطـقه ای در سـال 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1988</a:t>
            </a:r>
            <a:r>
              <a:rPr b="1" lang="fa-IR" sz="2800" spc="-1" strike="noStrike">
                <a:solidFill>
                  <a:srgbClr val="292929"/>
                </a:solidFill>
                <a:latin typeface="Arial"/>
                <a:ea typeface="Nazanin"/>
              </a:rPr>
              <a:t> در مـنطقه  خلـيج      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an Francisc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» 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نشان داد که, نيـاز به اجـرای يک پـل بزرگتر در اين محل وجود دارد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341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Nazani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سومين پل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Carquinez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يکـی از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جديدترين  و  مهـمترين بنـاها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خـليج </a:t>
            </a:r>
            <a:r>
              <a:rPr b="1" lang="fa-IR" sz="2400" spc="-1" strike="noStrike">
                <a:solidFill>
                  <a:srgbClr val="292929"/>
                </a:solidFill>
                <a:latin typeface="Arial"/>
                <a:ea typeface="Nazanin"/>
              </a:rPr>
              <a:t>«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San Francisco</a:t>
            </a:r>
            <a:r>
              <a:rPr b="1" lang="fa-IR" sz="24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»</a:t>
            </a:r>
            <a:r>
              <a:rPr b="1" lang="fa-IR" sz="20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292929"/>
                </a:solidFill>
                <a:latin typeface="Times New Roman"/>
                <a:cs typeface="Nazanin"/>
              </a:rPr>
              <a:t>بـود 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که طراحی و ساخت آن با کمترين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92929"/>
                </a:solidFill>
                <a:latin typeface="Times New Roman"/>
                <a:ea typeface="Nazanin"/>
              </a:rPr>
              <a:t> جلب توجه برای عموم همراه بود 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549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962520" cy="3426120"/>
          </a:xfrm>
          <a:prstGeom prst="rect">
            <a:avLst/>
          </a:prstGeom>
          <a:ln w="31680">
            <a:solidFill>
              <a:srgbClr val="2929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07:25:46Z</dcterms:created>
  <dc:creator>Mojtaba &amp; Sanaz </dc:creator>
  <dc:description/>
  <dc:language>en-US</dc:language>
  <cp:lastModifiedBy>DF 2</cp:lastModifiedBy>
  <dcterms:modified xsi:type="dcterms:W3CDTF">2008-11-19T06:15:48Z</dcterms:modified>
  <cp:revision>59</cp:revision>
  <dc:subject/>
  <dc:title>Slide 1</dc:title>
</cp:coreProperties>
</file>