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1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7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27.jpeg" ContentType="image/jpeg"/>
  <Override PartName="/ppt/media/applause.wav" ContentType="audio/x-wav"/>
  <Override PartName="/ppt/media/image28.gif" ContentType="image/gif"/>
  <Override PartName="/ppt/media/image14.jpeg" ContentType="image/jpeg"/>
  <Override PartName="/ppt/media/image6.jpeg" ContentType="image/jpeg"/>
  <Override PartName="/ppt/media/type.wav" ContentType="audio/x-wav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cashreg.wav" ContentType="audio/x-wav"/>
  <Override PartName="/ppt/media/BennyHill.wav" ContentType="audio/x-wav"/>
  <Override PartName="/ppt/media/image13.jpeg" ContentType="image/jpeg"/>
  <Override PartName="/ppt/media/image15.jpeg" ContentType="image/jpeg"/>
  <Override PartName="/ppt/media/image16.png" ContentType="image/png"/>
  <Override PartName="/ppt/media/image12.gif" ContentType="image/gif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il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7FF5-7E5A-4DBB-A8B8-CE76B6FD86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3E86-C4C4-4C98-BDDD-17276F19AA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ce réservé de l'en-têt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il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A417-E77B-4002-88CF-C7ACDE5853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ce réservé de l'en-têt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il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93E-AAAF-4BC9-956B-A2DAC380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D16-B095-4658-B3F2-9A446385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D14F-6E95-4441-95B9-4DB99117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BB4-3890-4CD3-AD0B-AEF9498B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BE2-CF48-46FC-B200-B19E033D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6AC-55E0-4EC5-968D-DFAAC9D4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4DC-2361-4BDB-A4E6-3A97ECC0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AFD-E8EE-45B7-A7F8-1CE65630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D8D-798D-45E9-A8E6-DBA02F6F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730-953F-4C73-AB46-A1CAFDC7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902-E4CE-4404-A5C6-585B0051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5D6B-F834-43C3-A6D8-A9C31E2C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8F8B-EB8B-458C-91CF-C1CAD80AEC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il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7857-FC40-4219-9440-8587C8AE3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mailto:contact@ohcb.org" TargetMode="External"/><Relationship Id="rId5" Type="http://schemas.openxmlformats.org/officeDocument/2006/relationships/image" Target="../media/image16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BennyHill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01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Calibri"/>
              </a:rPr>
              <a:t>Por favor no enviar más mensaj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levidepoches.fr/.a/6a00d8341c609053ef0120a626179c970c-800wi"/>
          <p:cNvPicPr/>
          <p:nvPr/>
        </p:nvPicPr>
        <p:blipFill>
          <a:blip r:embed="rId2"/>
          <a:stretch/>
        </p:blipFill>
        <p:spPr>
          <a:xfrm>
            <a:off x="2556000" y="1916280"/>
            <a:ext cx="3671640" cy="2871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0" y="62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c0000"/>
                </a:solidFill>
                <a:latin typeface="Arial"/>
              </a:rPr>
              <a:t>¡Mensaje importante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801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I CORREOS PARA GANAR DINERO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gagner-argent-methode-1.com/lingots.jpg"/>
          <p:cNvPicPr/>
          <p:nvPr/>
        </p:nvPicPr>
        <p:blipFill>
          <a:blip r:embed="rId2"/>
          <a:stretch/>
        </p:blipFill>
        <p:spPr>
          <a:xfrm>
            <a:off x="2340000" y="1773360"/>
            <a:ext cx="4441680" cy="444168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u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70c0"/>
                </a:solidFill>
                <a:latin typeface="Calibri"/>
              </a:rPr>
              <a:t>El correo electrónico no fue creado para eso, queridos amigos/a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No olvides su función primer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ww.saintlouis-rome.net/ressources/mail.jpg"/>
          <p:cNvPicPr/>
          <p:nvPr/>
        </p:nvPicPr>
        <p:blipFill>
          <a:blip r:embed="rId2"/>
          <a:stretch/>
        </p:blipFill>
        <p:spPr>
          <a:xfrm>
            <a:off x="0" y="0"/>
            <a:ext cx="2160720" cy="1773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idfcentre.le-rsi.fr/images/medium_e-mail.jpg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1773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www.ohcb.org/imagees/mail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08360" y="5084640"/>
            <a:ext cx="1754280" cy="131292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63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9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9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9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Image1"/>
          <p:cNvPicPr/>
          <p:nvPr/>
        </p:nvPicPr>
        <p:blipFill>
          <a:blip r:embed="rId2"/>
          <a:stretch/>
        </p:blipFill>
        <p:spPr>
          <a:xfrm>
            <a:off x="2340000" y="189000"/>
            <a:ext cx="4405320" cy="6480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  <p:sndAc>
      <p:stSnd>
        <p:snd r:embed="rId3" name="BennyHill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Philou\Desktop\image0019.jpg"/>
          <p:cNvPicPr/>
          <p:nvPr/>
        </p:nvPicPr>
        <p:blipFill>
          <a:blip r:embed="rId2"/>
          <a:stretch/>
        </p:blipFill>
        <p:spPr>
          <a:xfrm>
            <a:off x="190440" y="519120"/>
            <a:ext cx="8763120" cy="581976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Philou\Desktop\image0037.jpg"/>
          <p:cNvPicPr/>
          <p:nvPr/>
        </p:nvPicPr>
        <p:blipFill>
          <a:blip r:embed="rId2"/>
          <a:stretch/>
        </p:blipFill>
        <p:spPr>
          <a:xfrm>
            <a:off x="2058840" y="260280"/>
            <a:ext cx="4970520" cy="640872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Image3"/>
          <p:cNvPicPr/>
          <p:nvPr/>
        </p:nvPicPr>
        <p:blipFill>
          <a:blip r:embed="rId2"/>
          <a:stretch/>
        </p:blipFill>
        <p:spPr>
          <a:xfrm>
            <a:off x="250920" y="547560"/>
            <a:ext cx="8642160" cy="576288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Image1"/>
          <p:cNvPicPr/>
          <p:nvPr/>
        </p:nvPicPr>
        <p:blipFill>
          <a:blip r:embed="rId2"/>
          <a:stretch/>
        </p:blipFill>
        <p:spPr>
          <a:xfrm>
            <a:off x="2268360" y="260280"/>
            <a:ext cx="4175280" cy="63374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Philou\Desktop\image0046.jpg"/>
          <p:cNvPicPr/>
          <p:nvPr/>
        </p:nvPicPr>
        <p:blipFill>
          <a:blip r:embed="rId2"/>
          <a:stretch/>
        </p:blipFill>
        <p:spPr>
          <a:xfrm>
            <a:off x="190440" y="519120"/>
            <a:ext cx="8763120" cy="581976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Image2"/>
          <p:cNvPicPr/>
          <p:nvPr/>
        </p:nvPicPr>
        <p:blipFill>
          <a:blip r:embed="rId2"/>
          <a:stretch/>
        </p:blipFill>
        <p:spPr>
          <a:xfrm>
            <a:off x="1979640" y="260280"/>
            <a:ext cx="5122800" cy="640872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Philou\Desktop\image0073.jpg"/>
          <p:cNvPicPr/>
          <p:nvPr/>
        </p:nvPicPr>
        <p:blipFill>
          <a:blip r:embed="rId2"/>
          <a:stretch/>
        </p:blipFill>
        <p:spPr>
          <a:xfrm>
            <a:off x="190440" y="743040"/>
            <a:ext cx="8763120" cy="537192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¡CUANDO PIERDA o GANE EL R.MADRID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C:\Users\Philou\Desktop\psg.jpg"/>
          <p:cNvPicPr/>
          <p:nvPr/>
        </p:nvPicPr>
        <p:blipFill>
          <a:blip r:embed="rId2"/>
          <a:stretch/>
        </p:blipFill>
        <p:spPr>
          <a:xfrm>
            <a:off x="1619280" y="1547640"/>
            <a:ext cx="5905440" cy="4305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ttp://t1.gstatic.com/images?q=tbn:ANd9GcQO151o23bhn5y4gmVOYWE2IOIep1PVwylFObTkGqeCYs7IKvvkGw"/>
          <p:cNvPicPr/>
          <p:nvPr/>
        </p:nvPicPr>
        <p:blipFill>
          <a:blip r:embed="rId3"/>
          <a:stretch/>
        </p:blipFill>
        <p:spPr>
          <a:xfrm>
            <a:off x="1619280" y="1557360"/>
            <a:ext cx="5905440" cy="439272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u"/>
    <p:sndAc>
      <p:stSnd>
        <p:snd r:embed="rId4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44600" y="260280"/>
            <a:ext cx="4714920" cy="63374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VÍAME TETAS, ÚNICAMENTE ….</a:t>
            </a:r>
            <a:br>
              <a:rPr sz="3600"/>
            </a:b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¡¡¡TETAS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Strip"/>
          <p:cNvPicPr/>
          <p:nvPr/>
        </p:nvPicPr>
        <p:blipFill>
          <a:blip r:embed="rId2"/>
          <a:stretch/>
        </p:blipFill>
        <p:spPr>
          <a:xfrm>
            <a:off x="3348000" y="2708280"/>
            <a:ext cx="2211480" cy="338472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 NO TRANSFIERES ESTE CORRE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7 AMIGO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S QUE ERES UN/A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2.bp.blogspot.com/_q6GXjsy7QfU/TNRXYDC5aQI/AAAAAAAADfs/tbAi7ifxPUE/s1600/Egoiste.jpg"/>
          <p:cNvPicPr/>
          <p:nvPr/>
        </p:nvPicPr>
        <p:blipFill>
          <a:blip r:embed="rId2"/>
          <a:stretch/>
        </p:blipFill>
        <p:spPr>
          <a:xfrm>
            <a:off x="2124000" y="2924280"/>
            <a:ext cx="4969080" cy="324468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u"/>
    <p:sndAc>
      <p:stSnd>
        <p:snd r:embed="rId3" name="applaus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57760" y="271476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¡CUANDO EL BARCELONA GANE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e-fotbal.ro/soccer-wallpapers/clubs/marseille/marseille1.jpg"/>
          <p:cNvPicPr/>
          <p:nvPr/>
        </p:nvPicPr>
        <p:blipFill>
          <a:blip r:embed="rId2"/>
          <a:stretch/>
        </p:blipFill>
        <p:spPr>
          <a:xfrm>
            <a:off x="1619280" y="1557360"/>
            <a:ext cx="5997600" cy="44989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5"/>
          <p:cNvSpPr/>
          <p:nvPr/>
        </p:nvSpPr>
        <p:spPr>
          <a:xfrm>
            <a:off x="63360" y="-41112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63360" y="-41112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http://t1.gstatic.com/images?q=tbn:ANd9GcSxQGbhBHNrheOJdbNdZoKzWj1neIHAYf0SDnmBmy_ScuifX5P3"/>
          <p:cNvPicPr/>
          <p:nvPr/>
        </p:nvPicPr>
        <p:blipFill>
          <a:blip r:embed="rId3"/>
          <a:stretch/>
        </p:blipFill>
        <p:spPr>
          <a:xfrm>
            <a:off x="1547640" y="1484280"/>
            <a:ext cx="6120000" cy="458460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u"/>
    <p:sndAc>
      <p:stSnd>
        <p:snd r:embed="rId4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I CORREOS POLÍTICOS NO FAVORABL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MI CANDIDATO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bruxelles.blogs.liberation.fr/coulisses/images/file_202455_51548.jpg"/>
          <p:cNvPicPr/>
          <p:nvPr/>
        </p:nvPicPr>
        <p:blipFill>
          <a:blip r:embed="rId2"/>
          <a:stretch/>
        </p:blipFill>
        <p:spPr>
          <a:xfrm>
            <a:off x="2916360" y="184464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  <p:sndAc>
      <p:stSnd>
        <p:snd r:embed="rId3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I CORREOS RELIGIOSO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rmc.fr/blogs/public/images/Brigitte_Lahaie/.symboles-religieux_m.jpg"/>
          <p:cNvPicPr/>
          <p:nvPr/>
        </p:nvPicPr>
        <p:blipFill>
          <a:blip r:embed="rId2"/>
          <a:stretch/>
        </p:blipFill>
        <p:spPr>
          <a:xfrm>
            <a:off x="2195640" y="1484280"/>
            <a:ext cx="4805280" cy="480708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u"/>
    <p:sndAc>
      <p:stSnd>
        <p:snd r:embed="rId3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I CORREOS RACISTA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C:\Users\Philou\Desktop\sos-racisme-1.jpg"/>
          <p:cNvPicPr/>
          <p:nvPr/>
        </p:nvPicPr>
        <p:blipFill>
          <a:blip r:embed="rId2"/>
          <a:stretch/>
        </p:blipFill>
        <p:spPr>
          <a:xfrm>
            <a:off x="2700360" y="1413000"/>
            <a:ext cx="3600360" cy="498780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u"/>
    <p:sndAc>
      <p:stSnd>
        <p:snd r:embed="rId3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I MÁS CADENA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www.navi-mag.com/site_img/ARTICLES/large/transfert-de-fichier-volumineux-id672.jpg"/>
          <p:cNvPicPr/>
          <p:nvPr/>
        </p:nvPicPr>
        <p:blipFill>
          <a:blip r:embed="rId2"/>
          <a:stretch/>
        </p:blipFill>
        <p:spPr>
          <a:xfrm>
            <a:off x="2124000" y="1413000"/>
            <a:ext cx="4907160" cy="490536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u"/>
    <p:sndAc>
      <p:stSnd>
        <p:snd r:embed="rId3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I CORREOS PARA TENER BUENA SUERTE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france-horoscope.com/astro-chance/trefle.jpg"/>
          <p:cNvPicPr/>
          <p:nvPr/>
        </p:nvPicPr>
        <p:blipFill>
          <a:blip r:embed="rId2"/>
          <a:stretch/>
        </p:blipFill>
        <p:spPr>
          <a:xfrm>
            <a:off x="2484360" y="1844640"/>
            <a:ext cx="4438800" cy="443880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u"/>
    <p:sndAc>
      <p:stSnd>
        <p:snd r:embed="rId3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 COLECTAS DE FONDOS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C:\Users\Philou\Desktop\CollecteFONDS.gif"/>
          <p:cNvPicPr/>
          <p:nvPr/>
        </p:nvPicPr>
        <p:blipFill>
          <a:blip r:embed="rId2"/>
          <a:stretch/>
        </p:blipFill>
        <p:spPr>
          <a:xfrm>
            <a:off x="2411280" y="1484280"/>
            <a:ext cx="4286520" cy="476244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u"/>
    <p:sndAc>
      <p:stSnd>
        <p:snd r:embed="rId3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08:37:38Z</dcterms:created>
  <dc:creator>Philou</dc:creator>
  <dc:description/>
  <dc:language>en-US</dc:language>
  <cp:lastModifiedBy>.</cp:lastModifiedBy>
  <dcterms:modified xsi:type="dcterms:W3CDTF">2013-09-30T14:58:24Z</dcterms:modified>
  <cp:revision>19</cp:revision>
  <dc:subject/>
  <dc:title>Message important ! Priorité haute 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sunto">
    <vt:lpwstr>norberP</vt:lpwstr>
  </property>
</Properties>
</file>