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3A1-175A-4DCD-AD49-DA7C4189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75E-A1FD-43B9-931B-59DDDE1A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043-AAD6-463F-8211-18F90AC0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556-3E73-4C60-A509-3E525845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384B-0A99-41C7-8A73-A65A2AE4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9F74-4B94-4731-8024-95FE8B5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E6E2-7457-4647-83A9-ECDC83A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9A05-D078-47A0-A81A-6C968FE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28D-65FF-4CEB-BD44-86492463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2EB3-9DF9-4EDB-9EC3-2B18D8BF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DEB5-67E0-47A6-B944-0EEDC04B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25F-B73B-4C2D-951B-7E7D8086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F558-20B0-4580-A7A0-77D55C79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4410-B9F0-47CB-8A0A-0CE5792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3F80-C5B3-4A06-9204-AB495724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EA91-A3BF-40F5-81B9-4BB45741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0929-E87D-4177-B038-5F124E2C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294-4E6B-4543-941E-9D7B5F78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D60-65A5-4FC2-A900-577EE969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16F-3486-4D62-8762-7B2145F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41B-099B-485C-9513-239FDC15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26E-1515-45E9-9F5B-FBDD287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CCE-B652-4461-AEB2-02DB559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B17-6C5E-4FB3-84BF-F887423E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968D-80B2-42C9-A550-53CE070863D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A4B3-F405-48D7-BE9B-5FA30FA8485F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cc"/>
                </a:solidFill>
                <a:latin typeface="Tahoma"/>
              </a:rPr>
              <a:t>الادوية المضادة للميكروبات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ahoma"/>
              </a:rPr>
              <a:t>الاستاذ الدكتور عبد الناصر عمرين</a:t>
            </a:r>
            <a:r>
              <a:rPr b="1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كلية  الصيدلة – قسم السموم وعلم تأثير الادو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جامعة دمشق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تحدث التفاعلات الفور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خلال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ثانية بعد الاعطاء حقناً و تتكون من الحك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rit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ch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خدرا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nes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أزي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ez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حم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ver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وذ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e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ر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tica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. قد تقود إلى هبوط الضغط و الصد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ck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فقد الوعي والموت . و يبدو أن تفاعل فرط التحسس للبنسلينات متواسطاً بأضداد الغلوبولينات المناعي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gE antibodies )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ظه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التفاعلات المعجل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عد ساعة واحدة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من إعطاء الدواء و تتكون على نحو رئيسي من الشرى ( الانتبار )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أما التفاعلات المتأخرة فهي أكثر شيوعاً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البنسلينات نصف التخليقية و تظهر بع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إلى عدة أسابيع من إعطاء الدواء و تتكون على نحو رئيسي من أطفاح جلد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 rash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أو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زو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zo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ل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phalex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طيف الضيق مشابه للطيف الواسع للبنسلينات ؛ حساس للبيتا - لاكتام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ن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كلو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c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مندو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mand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كيست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xit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متزايدة تجاه الجراثيم سالبة الغرام ؛ ثبات متزايد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لث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تاكس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tax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ازيد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azid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رياكسو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riax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سع في الطيف و أكثر مقاومة للبيتا - لاكتاماز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رابع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يبي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ep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بيرو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pir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تجاه (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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) غرام و خاصة تجاه الزائفة الزنجار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seudomanas aeroginosa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و الجراثيم سلبية الغرام المقاومة لتعدد الأدو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إعطاء بعض هذه الأدوية عن طريق الفم ( مثل السيفالكسين و السيفاكلور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فذ سيفالوسبورينات الجيل الثالث ( و بعض سيفالوسبورينات الجيل الثاني ) عبر الجهاز العصبي المركزي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استعمالها لمعالجة التهاب السحايا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ingiti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عمل سيفالوسبورينات الجيل الثالث على نحو كبير في معالجة و اتقاء عداوى مرضى المستشفيات . أما سيفالوسبورينات الجيل الرابع فهي حديثة جداً وهي مصممة لاستهداف الجراثيم المقاومة للأدوية المتعدد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هي عادةً غير سامة نسبي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يوجد بعض الأرجية المتصالب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 - allerg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البنس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إن لبعض السيفالوسبورينات تأثيرات مضادة للفيت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 نزف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تسبب بعض السيفالوسبورينات استجابة مشابهة للتي يحدثها ثنائي السلفير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ulfira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سبب أنها تقيِّد أكسدة الكحول ، مما يؤدي إلى تراكم الأسيتالده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bapenems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اربابينمات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ي أحدث صنف من المضادات الحيوية من مجموعة البيتا - لاكتام تحوي الايميبي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i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ميروبين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o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عطى كلاً منهما عن طريق الحقن داخل الوريد فقط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عدّ الايميبينم مع السيلاستا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asta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د حيوي من مجموعة البيتا - لاكتام ذو طيف عريض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يميبينم مضاد حيوي يتحمله بالديببتيداز الكل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al dipept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ارة الأنبوب الدان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ximal Renal epitheli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في الكلية إلى مستقلب سام نوعاً ما و غير فعال كمضاد للمكروبات . يثبط السيلاستاتين الديببتيداز الكلوي ، و لهذا فإن المركبين الاثنين يعطيان دائماً مع بعضهما . أما الميروبينم فهو أكثر ثباتاً تجاه الببتيداز الكلوي و لا يحتاج إلى مشاركة إعطاؤه مع السيلاستات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nobactams </a:t>
            </a:r>
            <a:r>
              <a:rPr b="1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أحاديات الحلقة البيتالاكتامية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أزتريونام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ztreon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ركب الوحيد المتوافر حالياً هو الأزتريونا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زتريونام دواء ممتاز للجراثيم سالبة الغرام الهوائ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gram - negativ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؛ بما في فيها الزوائ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، لكنه غير فعال ضد الجراثيم إيجابية الغر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عد الأزتريونام مثالاً للطيف الضيق عالي المقاومة لفعل البيتالاكتاماز . إن التيجيمون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gemonam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هو أحد الأدوية التجريبية في هذا الصنف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عديدات الببتيد</a:t>
            </a: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Polypeptides</a:t>
            </a: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ancomycin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انكوميس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فانكوميسين و مشابهه القريب الأحدث ، التيكوبل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coplam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ما من الببتيدات السكر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ycopetide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ي تثبط تخليق الجدار الخلوي بمنع بلمرة الببتيدوغليكان الحلق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فانكوميسين فعالاً فقط ضد الجراثيم إيجابية الغرام يمتص على نحو ضعيف جداً عن طريق الف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ان الفانكوميسين يعتبر " الرصاصة الفضيه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ver bull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مكوّرات العنقودية المقاومة للميثيسلين . أما الان فقد أصبحت العنقوديات مقاومة للفانكومي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سبب الفانكوميسين تسمماً أذن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etoxic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تمداً على الجرعة ، و الذي يؤدي إلى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َمَمْ للتوترات العالية ، و فقد السمع ومن المحتمل الصَممْ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** </a:t>
            </a:r>
            <a:r>
              <a:rPr b="1" lang="ar-SA" sz="3200" spc="-1" strike="noStrike" u="sng">
                <a:solidFill>
                  <a:srgbClr val="ffffcc"/>
                </a:solidFill>
                <a:uFillTx/>
                <a:latin typeface="Tahoma"/>
              </a:rPr>
              <a:t>الباسيتراسين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Bacitracin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lang="ar-SY" sz="2800" spc="-1" strike="noStrike" u="sng">
                <a:solidFill>
                  <a:srgbClr val="ffffcc"/>
                </a:solidFill>
                <a:uFillTx/>
                <a:latin typeface="Tahoma"/>
              </a:rPr>
              <a:t>        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هو مزيج من عديدات الببتيد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 هو مزيج من عديدات الببتيد يثبط تخليق الجدار الخلوي و يستعمل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رتبط الباسيتراسين مع الحامل الشحمي الذي ينقل طلائ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جدار الخلية إلى جدار خلية نامي . و لهذا يمكن أن يصنف كمثبط لتخليق جدار الخلية . و بسبب أن للباسيتراسين سمية كلو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hrotoxicit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 فإنه يستعمل يستعمل فقط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مثبطات تخليق البروتين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tein Synthesis inhibit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لامح العا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أمينوغليكوز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تتراسيكلين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اكرول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ورامفينيكو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يندا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ملامح العام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مثبطات تخليق البروتين إما مع الوحيدات الريبوسومية ( الريباس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تتداخل مع انتساخ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criptio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رنا المرسا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N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بروت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ختلف الوحيدات الريبوسومية الجرثومية عن تلك الثديية . وهذا يؤخذ بعين الاعتبار لانتقائية الأدوية تجاه الجراثي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أسماء أصناف مثبطات تخليق البروتين بالبنية الكيميائية للمركبات في كل مجموعة و تعد الأمينوغليكوزيدات فقط كمبيدة لل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terisid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بقية هي كابحات 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deriosta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مقاومة لهذه الأدوية بإنقاص قب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tak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أدوية أو تعديل الوحيدات الريبوس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طلب هذه الأدوية الارتباط مع بروتين داخل الخلايا الوحيدات الريبوسومية ، ولهذا تحتاج الأدوية لأن تدخل إلى داخل الخلية . و الطريق الرئيسي للمقاومة للجراثيم هو حصر حركة الأدوية إلى داخل الخل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أدوية المضادة للميكرو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جدار ال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البروت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ناهضات الفو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كينولات و مطهرات المسلك البول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أدوية المستخدمة في السلّ و الجذ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inoglycoside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جنت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وبر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br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ميك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ik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ن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تل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ilmi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تربت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أن أسماء هذه الأدوية تنتهي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باستثناء الأميكا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ika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لكن دواء الكليندا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da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كل الماكروليدات ( إريثروميسين ، كلاريثروميسين ) تنتهي أيضاً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فلا بد من تمييز هذه الأصناف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عد الأمينوغليكوزيدات مضادات مكروبية عريضة الطيف ومع ذلك فإن الجراثيم اللاهوائ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erob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هي بشكل عام مقاومة ل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خدم بعض الجراثيم نظام نقل يعتمد على الأكسجين لجلب الأمينوغليكوزيدات إلى داخل الخلية . الجراثيم اللاهوائية ( التي لا يكون الاستقلاب لديها معتمداً على الأكسجين ) لا تملك مثل هذا النظام . و لهذا فإنها مقاومة للأمينوغليكوزيدات بشكل عا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متص الأمينوغليكوزيدات على نحو ضعيف في السبيل المعدي المعو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بغي إعطاء معظم الأمينوغليكوزيدات عن طريق الحقن . فهي مركبات عالية القطبية ولا ذوابة نسبياً في الدهن وهي لا تنفذ فورياً إلى معظم الخلايا دون مساعدة من البنسلينات أو من أي نظام للنقل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ستخدم التآز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ergi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ين البنسلينات و الأمينوغليكوزيدات في المعالجة الكيميائية . تسبب البنسلينات شذوذات في جدار الخلية مما يسمح بدخول الأمينوغيليكوزيدات إلى داخل الجرثومة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بب الأمينوغليكوزيدات سمية أذنية و سمية كلوية و سمية عصبية عضل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هامش المأمون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هذه الأدوية صغير . و هذا يعني أن التركيز السام هو أعلى بقليل فقط من التركيز العلاج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كون الانسمام الأذني سمع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ditor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دهليز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stibular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اً . تشمل الأعراض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مم و الدوا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tigo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عدم الاستقرار في المشية ، و فقد السمع للتواترات العالية . تنتج السمية السمعية من تخرب انتقائي للخلايا المشعرة الخارجية القوقع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سمية الكلوية بالقبط السريع للدواء من قبل خلايا الأنبوب الداني .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 عندها تموت خلايا الأنبوب الداني . و إن السمية الكلوية الحادة قابلة للإصلاح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تج السمية العصبية من إحصار الاطلاق السابق ل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أسيتيل كولين في الموصل العصبي العضلي . يوجد بعض الإحصار خلف ا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هذا يقود إلى الضعف و يمكن أن يقود إلى خمود تنفس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tracyc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ورتتراسيكلين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يميكلوسيكلين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eclu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وكسي سيكلين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xy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ينوسيكلين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o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كسي 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xy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السهل تمييز هذه الأدوية بسبب أنها تنتهي بـ " سيكل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c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بالمشابهة مع الأمينو غليكوزيدات ، فإن التتراسيكلينات تتراكم في الهيو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وساطة نظام نقل معتمد على الطاقة . و لا يتواجد نظام النقل هذا في الخلايا الثدي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دث المقاومة للتتراسيكلينات عندما تتحول الجراثيم بطفرة تحدث عليها مما يجعلها غير قادرة على مراكمة الدواء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تراسيكلينات مضادات حيوية واسعة الطيف . تعد التتراسيكلينات مفيدة في معالجة الكائنات الحية سالبة الغرام و إيجابية الغرام و اللاهوائيات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جد للتتراسيكلينات أيضاً استعمال في الأمراض الريكتسية ( حمى الجبال الصخرية المبقعة )  و أمراض المتدث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amydi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كوليرا و داء لا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Lyme’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[ الملتوي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rochet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] و الالتهاب الرئوي بالمفطو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oplasma pneumoni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خل الطعام بامتصاص التتراسيكلينات باستثناء الدوكسي سيكلين و المينوسيكلين . تكوِّن التتراسيكلينات خلاب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lat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ا ذوابة مع الكالسيوم ، و المغنزيوم و غيرها .. و لهذا لا ينصح باستعمال مضادات الحموض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acid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د تناول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رابط التتراسسيكلينات بظهور تلوين في الأسنان . وتأخر نمو العظم و التحسس الضو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tosensitivit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علق التأثيرات الثانوية الرئيسية للتتراسيكلينات بتضمينها داخل الأسنان و العظم . و تسبب تبدل لون الأسنان و تستطيع تأخير نمو العظم . و لهذه الأسباب ، فإنه لا ينصح بها للاستعمال عند الأطفال أو النساء الحوامل و توجد إصابات متزايدة بتفاعل حَرْق شمسي غير طبيعي عند الذين يأخذون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acrolid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ماكروليدات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y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ز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لا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متص الاريثروميسين عموماً و أقربائه عن طريق الفم رغم تداخل الطعام و إنها تنفرغ في الصفراء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اريثروميسين و أقربائه ذوي استخدام خاص في معالجة المرضى المصابين بعداوى المفطور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plas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لتهاب الرئ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eumon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عداوى المتدثرات و الدفتري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hthe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اهوق ( السعال الديكي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us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مكروليدات تأثيرات جانبية قليلة و الشائع منها الانزعاج المعدي المعو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loramphenicol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ورامفينيكول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لورامفينيكول هو مضاد حيوي عريض الطيف ، و فعال ضد معظم الجراثيم الهوائية و اللاهوائية ، باستثناء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ابط استخدام الكلورامفينيكول مع خمود نقي العظم و فقر الدم اللاتنسج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ast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ذي يكون مميتاً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ك استعمال الكلورامفينيكول لمعالجة العداوى المهددة للحياة بسبب تأثيراته الضائرة الخطيرة و المهددة للحياة . لقد تم التبليغ عن الجرعة المرتبطة بإحداث خمود نقي العظم و فقر دم لا تنسجي ذاتي التحساس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osyncratic aplastic anaem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هو مميت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بب الكلورامفينيكول إحداث متلازمة الطفل السنجا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y baby syndrom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تي هي غالباً مميت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متص الكلورامفينيكول فموياً ، وينفذ إلى السائل النخاع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F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عطِّل في الكبد بوساطة الاقتران . و إن الأطفال الذين تكون لديهم مقدرة منخفضة لاقتران الكلورامفينيكول ، ترتفع مستوياته في الدم ، و يحدث لديهم قياء و زرا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an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نخفاض حرارة و تنفس متناقص وانخماص مغيِّر للقطر الوعا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omotor colla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ndamycin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ينداميسين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دعى هذه الأدوية ( الكلينداميسين و اللينكوسين ) أحياناً اللينكوزاميدات [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cosamid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] اعتماداً على بنيتها الكيميائي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إن الفعالية المضادة للمكروبات للكلينداميسين مشابهة لتلك التي للإريثروميس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نفذ الكلينداميسين إلى معظم الأنسجة ، بما فيها العظم ، و له فعالية ضد الجراثيم اللاهوائ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ُدرجَ الكلينداميسين كدواء الاختيار لعداوى السبيل المعدي المعوي اللاهوائية . يترابط استخدام الكلينداميسين مع التهاب القولون الغشائي الكاذب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embranou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بسبب مقاومة المطثية العسير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tridium diffici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كلينداميس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ضواد 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واد الفو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اميث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meth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ريميثوبري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methop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و - تريم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 - trim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يس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is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دي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di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بيريد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pyrid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ال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sal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يتام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cet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خدم السلفاسالازين أيضاً لمعالجة أمراض الأمعاء الالتهاب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يتالاكتا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نسل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يفالوسبور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ربابين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حاديات الحلقة البيالاكتامية ( أزتريونام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يدات الببت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فانكو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لضواد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آلية الفعل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لا تستطيع الجراثيم أن تمتص حمض الفوليك . بل يجب صنعه اعتباراً من الـ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حمض البارا-أمينوبنزويك و البتيريدين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teridin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غلوتام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lutam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و بالنسبة للبشر ، يعد حمض الفوليك فيتاميناً ، و لا نستطيع تخليقه . وهذا مما يجعل مسلك الاستقلاب هدفاً جيداً و انتقائياً للعوامل المضادة للمكروب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lfonamides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تريميثوبريم يثبطان تخليق الفولات في مقرين مختلفي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مشابهة بنيوياً لحمض البارا - أمينوبنزو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تقيِّد تضمين حمض البارا - أمينوبنزويك في حمض ثنائي هيدروالبيتروئ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pteroir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يمنع التريميثوبريم اختزال ثنائ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إلى رباع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tra 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من خلال تثبيط مختزلة إنزيم ثنائي هيدروفول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وجد هذا الانزيم عند البشر ، و لكن التريميثوبريم له إلفة منخفضة للانزيم البشري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إن مشاركة السلفوناميدات مع التريميثوبريم لها فعل تآزري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ynergistic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نادراً ما يستخدمان كلاً بمفرده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اميثوكسازول هو سلفاناميد يستخدم بالمشاركة مع التريميثيوم بريم بسبب أن لهما عمري نصف متوافقين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ملامح المنتق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ن مضادات الفولات هذه هي عوامل عريضة الطيف فعالة ضد الكائنات الحية إيجابية الغرام و سلبيتها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دعى مشاركة السلفاميثوكسازول مع التريميثوبريم كو-تريموكسازول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-trimoxazol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من المحتمل أنها الأكثر استخداماً من هذه المجموعة . تستخدم لمعالجة عداوى المسلك البولي والرئ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دّ الكينولونات مجموعة مضادة للجراثيم جديدة نسبياً حيث كانت بالأصل مستخدمة لمعالجة المرضى المصابين بعداوى المسلك البولي على نحو أ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ين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فوفلوكس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ور 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floxaci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بار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rfloxac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روفا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va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مت دراسة هذه الأدوية في فئة منفصلة لأن لها بنية مختلفة و آلية فعل مختلفة ، فهي تثبط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و بالتالي ،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جيراز الدنا هو إنزيم جرثومي مسؤول عن انفكاك و فرط التفا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coil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نا 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و هذا هو الصنف الوحيد من ضمادات الجراثيم الذي يثبط تكرّر ( تنسُّخ )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replic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هذا الأسلوب أكثر شيوعاً لمضادات الفيروسات و الأدوية المضادة للسرطا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ثبط الكينولونات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خلال فعل نوعي على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ذه الأدوية عريضة الطيف . لقد كان حمض الناليديكسيك الدواء الأول المتوافر بكونه مطهراً فعالاً للمسك البولي ( حيث يعقم البول ) . إن الأدوية الأحدث في هذه المجموعة مفيدة لمجال واسع من العداوى الجرثومية ، بما فيها عداوى المسلك التنفسي السفلي و عدامة العظام و المفاصل ، و التهاب البروستاتة . و بعضها فعال ضد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فعالة عن طريق الف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ستعمال الأكثر شيوعاً لهذه الأدوية هو عداوى المسلك البو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قد وجد أن للعديد من هذه العوامل استعمالاً في التوقية و المعالجة للمرضى المصابين بإسهال المساف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نظراً لأن هذه الأدوية جديدة نسبياً فإن الاستطبابات لاستخدامها يمكن أن تتبدل مع السنين إذ سيستمر ظهور عوامل جديد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thenamine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ميثينام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حمله الميثينامين في الوسط الحامضي إلى الفورمالدهيد و الأمونيا . يعد الفورمالدهيد مميتاً للجراثيم . و يستخدم في عداوى المسلك الب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ا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زونياز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ريفامب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بيرازينام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ثامبوتو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دابس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تفطرا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cobacteria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تي تسبب التدرن ( السل ) ذات نمو بطيئ جداً ، و لهذا يتوجب الاستمرار بالمعالجة لمدة طويلة من الزمن نسبياً . وبغية منع صَحْو الذراري المقاومة فإنه من الحيوي استخدام معالجة توليفية مع عاملين اثنين ( و حتى أربعة ) على الأقل و التي يكون الجرثوم حساساً تجاه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سم هذه الأدوية غالباً إلى مجموعتين : أدوية الخط ألأول و أدوية الخط الثاني ، و لأجل معظم الغايات ، فإن معرفة أدوية الخط الأول تُعدّ كاف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أول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زونياز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niaz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يرازينام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razinam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ريفامب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ثامبيوتول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ambutol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تربتوميسين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ثاني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مض أمينوساليسيل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inosalicy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بريوميسين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re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يثيونامي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on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ا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ينولونا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ol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يفابوت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يو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دة المعالجة المختارة حالياً ( خاضعة للتبديل ) هي شهرين اثنين من الايزونيازيد و الريفامبين و البيرازيناميد ، تُتبَع بالايزونيازيد و الريفامبين لمدة أربعة أشهر . و أحياناً يضاف الايثامبيوتول إلى نظام الشهرين البدئيي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مل البنسلينات و السيفالوسبورينات و الفانكوميسين و الأزتريونام من خلال تثبيط تخليق جدار الخلية الجرثوم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خطوة النهائية في تخليق الجدار الخلوي هي الارتباط المتصالب لطيقان الببتيدو غليكان المتجاورة بعملية تدعى نقل الببت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eptid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تعد البنسلينات و السيفالوسبورينات متشابهة بنيوياً مع القسم الانتهائي لطيقان الببتيدوغليكان ، و تستطيع التنافس عليها و ترتبط مع الانزيمات التي تحفز ناقلة الببتيد و الارتباط المتصالب . تدعى هذه الانزيمات بروتينات ربط البنسلين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icillin - binding protein PB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ؤدي التداخل مع هذه الانزيمات إلى تكوّن جدار خلية ضعيف بنيوياً ، و جراثيم ذات أشكال غير طبيعية و بالنهاية موت الجراثي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oniazid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ايزونيازيد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ثبط الايزونيازيد تخليق الأحماض الميكوليك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لك الايزونيازيد بنية بسيطة جداً و يعمل على المتفطرات من خلال تثبيط تخليق الأحماض الميكوليكية الموجودة على نحو فريد في المتفطرات . إن الأحماض الميكوليكية هي مكونات غلاف الخلية الجرث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من هم سريعي و بطيئي الأستلة للايزونياز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ذه السمة محدَّدة وراثياً . فالأستلة هي مسلك استقلابي للعديد من الأدوية ، و لكن هذا المسلك هو من الأهمية بمكان لللايزونيازيد . فالايزونيازيد له عمر نصف أقصر لدى سريعي الأستل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ترابط استعمال الايزونيازيد مع سمية كبدية و اعتلال عصبي محيط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ن التهاب الكبد هو التأثير الجانبي الأكثر وخامة للايزونيازيد . يحدث الخلل الوظيفي للكبد بالايزونيازيد ( حسب قياسه باختبارات وظائف الكبد ) عن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ن المرضى و يزداد وقوع ذلك مع العمر . و الخلل الوظيفي للكبد قابل للعك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ibl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دى معظم المرضى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تج الاعتلال العصبي المحيطي من عوز البيريدو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idox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تصحيحه بإضافة البيريدوك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ifampin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يثبط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ريفامب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خليق الدنا بتكوين مركب ثابت مع بوليميراز الرنا المعتمد على الدنا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تبط الريفامبين مع الوحيدات بيتا للانزيم بوليميراز الرنا المعتمد على الدنا . و المركب الريبي الذي يتكون غير فعال ، و لهذا يُحصر تخليق الرنا ( الحمض النووي الري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تنتج المقاومة للريفامبين من طفرة ذات خطوة واحدة تؤدي إلى تبدّل في الوحيدات بيتا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الريفامبين غير فعال فقط ضد التدرن ، إنما أيضاً فعال ضد الجراثيم إيجابية الجرام و سلب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قلب الريفامبين في الكبد وهو محرِّض فعال لانزيم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سبب التهاب الكبد و يلون الافرازات باللون الأحمر البرتقا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م نزع الأسيتيل للريفامبين في الكبد ليتحول إلى مستقلب فعال . ويمكن أن يحدث التهاب الكبد المحرَّض بالدواء الذي يؤدي إلى اليرقا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undic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ضافةً لذلك ، يحرِّض الريفامبين إنزيمات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صفرو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mal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ؤدي هذا إلى استقلاب متزايد لأي دواء آخر يستقلب أيضاً بهذا النظ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مكن للريفامبين أن يلوِّن البول ، و البراز ، و اللعاب و العرق و الدموع باللون الأحمر البرتقالي . قد يدخل إلى العدسات اللاصق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lens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بو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هئاً للريفامبين و له بعض الفعالية ضد المتفطرة السل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bacterium tubercul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قاومة للريفامبين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yrazinamid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بيرازيناميد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فقط ضد المتفطرات السلية . إنه يزيد مستويات حمض اليوريك المص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دخل البيرازينام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فطرة السلية بالانتشار المنفعل و يتحول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zinoic acid ( POA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وساط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otinamidase / pyrazinam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ن المستقلب الناتج فعال يعمل على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ty acid synth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حطم أغشية المتفطرات . تتشارك الطفرات الانتقائية في المورث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segen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مقاوم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متفطرة الس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على نحو خاص ضد الجراثيم داخل الخلايا . يحدث فرط حمض يوريك الدم لدى كل المرضى ، و لكن الاصابة بالنقرس السريري نادرة . يترابط استخدام البيرازيناميد أيضاً مع سمية كبد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thambutol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ايثامبيوتو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كن أن يسبب الايثامبيوتول التهاب العصب العيني مما يؤدي إلى فقد الابصار المركزي و يُخل بالمقدرة على التمييز بين اللونين الأحمر و الأخضر . يمكن للايثامبيوتول أن يزيد مستويات حمض اليوريك المصلية كنتيجة للتصفية الكلوية الناقصة لليودات . يمكن أن تؤدي مستويات المصل الزائدة من حمض اليوريك إلى الإصابة بالنقر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apson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دابسو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عالجة الجذام هي باحة متخصصة جدا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دابسون الدعامة الأساسية في معالجة الجُذ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pros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 الدابسون و لسنوات عديدة الدعامة الرئيسية في معالجة المرضى المصابين بالجذام ، ومع ذلك ، فإن التوصيات الحالية ( خاضعة للتبدل ) هي إمكانية معالجة كل أشكال الجذام بتوليفة من الأدو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دابسون هو مضاهئ بنيوي لتخليق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حمض بارا امينو بنزوي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مبين دواء فعال ضد الجذام و كذلك دواء فعال ضد التدرن . إن الثاليدوما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idomid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الدواء الماسخ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atogen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و الدواء الأكثر فعالية لمعالجة الجذام العقدي الحمام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ythema nodosum lepros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( حالة تفاعل التهابي مترابطة مع الجذام 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تقسم مثبطات تخليق جدار الخلية إلى مجموعتين اعتماداً على البنية الكيميائية : البيتا - لاكتامات و عديدات الببتيد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بيتالاكتامات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Lact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ُعطِّل بعض الجراثيم المضادات الحيوية من مجموعة البيتا - لاكتام عن طريق إنزيم يفتح حلقة البيتا - لاكت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حوي بعض الجراثيم إنزيم البيتا- لاكتاماز ، يستطيع فتح حلقة البيتا - لاكتام مما يعطل المضاد الحيوي . النمط الأكثر شيوعاً في مقاومة الدواء هو نقل بلازميد الراموز الجيني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etic code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لإنزيم البيتا - 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إنزيمات بيتا - لاكتاماز نوعية للبنسلينات - تدعى البسليناز 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بيتالاكتاماز نوعية للسيفالوسبورينات - تدعى سيفالوسبورين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إن تعطيل هذه الأدوية بالبيتا-لاكتاماز يمكن أن يعالج حسب أسلوبي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إعطاء مثبط للبيتا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بالتعديلات الكيميائية في بنية الدواء ، بحيث يصبح أكثر مقاومة للتعطي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ثبطان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لبيتا - لاكتاماز و اللذين يعطيان مع أدوية البيتالاكتام لزيادة فعال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ثبطان للبيتا - لاكتاماز و اللذين يعطيان مع أدوية البيتالاكتام لزيادة فعاليت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الطبيعي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،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 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 ،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V</a:t>
            </a:r>
            <a:r>
              <a:rPr b="0" lang="ar-SY" sz="2000" spc="-1" strike="noStrike">
                <a:solidFill>
                  <a:srgbClr val="ffffff"/>
                </a:solidFill>
                <a:latin typeface="Tahoma"/>
              </a:rPr>
              <a:t> ،         </a:t>
            </a:r>
            <a:r>
              <a:rPr b="0" i="1" lang="ar-SA" sz="2000" spc="-1" strike="noStrike">
                <a:solidFill>
                  <a:srgbClr val="ffffff"/>
                </a:solidFill>
                <a:latin typeface="Tahoma"/>
              </a:rPr>
              <a:t>طيف ضيق ( إيجابية الغرام ) ؛ حساسة للبنسلين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مقاوم للبنسلينا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ميثيس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th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دي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i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ناف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af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ك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ضيق ( إيجابية الغرام ) ؛ مخلّقة لكي تكون مقاومة للبنسلينا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ينوبنسللين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وكس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ox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ب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pi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متد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teded spectrum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دي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أزلو 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كاربن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rben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مزلو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بيبراسي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iper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تيكار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ica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عريض ( لها فعالية تجاه بعض سلبية الغرام ) ؛ حساسة للبنسليناز . فعالة ضد الزائفة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؛ غير فعالة نسبياً ضد الكائنات الحية إيجابية الجرام 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استعراف البنسلينات من خلال النهاية س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l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امتصاص الفموي لمعظم البنسلينات ضعيفاً ؛ معظم البنسلينات تعبر الحائل الدموي الدماغي فقط إذا كان ملتهب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ُفرَغ البنسلينات بالافرازات النبيبية التي يمكن أن تحصر بالبروبنسي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en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فرغ البنسلينات ، القسم الأعظم منها ، بالإفراز النبيبي الفعال و إن إحصار الافراز النبيبي هو أسلوب بسيط نسبياً لاطالة فعل الدواء . يمكن إعطاء البروبنسيد بالمشاركة مع البنسلينات ، فيحصر الافراز النبيب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تفاعل فرط التحس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sensitiv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أثير الضائر الأكثر أهمية للبنسلينات ، و قد يكون مميت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لكل البنسلينات أن تبدي تفاعلات أرجية . وقد قسمت هذه التفاعلات إلى ثلاثة أنماط : فورية ( مباشرة 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معجل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ler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متأخر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وإن الفورية هي الأكثر وخام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04:56:46Z</dcterms:created>
  <dc:creator>Rashad Murad</dc:creator>
  <dc:description/>
  <dc:language>en-US</dc:language>
  <cp:lastModifiedBy>tar</cp:lastModifiedBy>
  <dcterms:modified xsi:type="dcterms:W3CDTF">2007-03-25T17:23:59Z</dcterms:modified>
  <cp:revision>6</cp:revision>
  <dc:subject/>
  <dc:title>الادوية المضادجة للميكروبات  </dc:title>
</cp:coreProperties>
</file>