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65A-8907-4808-967B-A2677208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226-83D3-41AA-B0A3-AA3F4E90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0D9-02D1-4277-A5B7-CE9C8227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E73-33A5-4325-AFF6-EAA6FEAB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1346-4119-48A8-A0C2-C4EA67E9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4DC6-FA59-45DB-B136-EF8546C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0730-E5E2-418C-9D94-88FA6CBA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DD0A-A2BC-4B5A-8852-1311A3D7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42E1-83AB-417A-91C9-63FF070C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9C17-61D1-4A7F-9644-FD8CA1DB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A3AF-60BF-414C-A539-D9196FE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CD2-D3C6-42C6-BF0B-5F0F8B5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DB95-683F-4914-8D55-835E6CF4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6036-B9F7-4548-A3B8-BCC0F2CB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8B08-61D9-492B-ADF8-1D81BBA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7648-8D3E-4D78-B264-10B2E044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50C5-1DED-48DE-96B5-9ADC4854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CEB-3CB0-4EDA-AA2B-F22FD048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C25-7CD2-4348-B046-964CD1E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0FA-A9F7-408D-A62F-CCC52963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24B-8096-497D-86B7-AB854A60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217-5829-443B-853E-9CA841BE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42F-0043-4E4D-A172-1BB885D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9A1-31F0-4306-9528-3364CA1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75E6-E16B-4163-9882-111FD459DFE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99ED-778A-44D1-8C24-A96D5A1BC4C1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cc"/>
                </a:solidFill>
                <a:latin typeface="Tahoma"/>
              </a:rPr>
              <a:t>الادوية المضادة للميكروبات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ahoma"/>
              </a:rPr>
              <a:t>الاستاذ الدكتور عبد الناصر عمرين</a:t>
            </a:r>
            <a:r>
              <a:rPr b="1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كلية  الصيدلة – قسم السموم وعلم تأثير الادو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جامعة دمشق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تحدث التفاعلات الفور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خلال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ثانية بعد الاعطاء حقناً و تتكون من الحك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urit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ch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اخدرار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nes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أزي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ez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حم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ver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وذم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em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شر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ticar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. قد تقود إلى هبوط الضغط و الصدم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ck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فقد الوعي والموت . و يبدو أن تفاعل فرط التحسس للبنسلينات متواسطاً بأضداد الغلوبولينات المناعي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gE antibodies )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ظهر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التفاعلات المعجل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عد ساعة واحدة إل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اعة من إعطاء الدواء و تتكون على نحو رئيسي من الشرى ( الانتبار )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أما التفاعلات المتأخرة فهي أكثر شيوعاً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البنسلينات نصف التخليقية و تظهر بع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اعة إلى عدة أسابيع من إعطاء الدواء و تتكون على نحو رئيسي من أطفاح جلد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 rash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أو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زو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zo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لك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phalex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الطيف الضيق مشابه للطيف الواسع للبنسلينات ؛ حساس للبيتا - لاكتاماز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ثان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كلو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c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مندو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mand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وكيست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oxit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فعالية متزايدة تجاه الجراثيم سالبة الغرام ؛ ثبات متزايد 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ثالث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وتاكس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otax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تازيد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tazid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ترياكسو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triax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أوسع في الطيف و أكثر مقاومة للبيتا - لاكتاماز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رابع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يفيبيم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fep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يفبيروم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fpiro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فعالية تجاه (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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) غرام و خاصة تجاه الزائفة الزنجار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seudomanas aeroginosa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و الجراثيم سلبية الغرام المقاومة لتعدد الأدو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إعطاء بعض هذه الأدوية عن طريق الفم ( مثل السيفالكسين و السيفاكلور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نفذ سيفالوسبورينات الجيل الثالث ( و بعض سيفالوسبورينات الجيل الثاني ) عبر الجهاز العصبي المركزي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يمكن استعمالها لمعالجة التهاب السحايا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ingiti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تعمل سيفالوسبورينات الجيل الثالث على نحو كبير في معالجة و اتقاء عداوى مرضى المستشفيات . أما سيفالوسبورينات الجيل الرابع فهي حديثة جداً وهي مصممة لاستهداف الجراثيم المقاومة للأدوية المتعدد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هي عادةً غير سامة نسبي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يوجد بعض الأرجية المتصالب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 - allerg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 البنسلين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إن لبعض السيفالوسبورينات تأثيرات مضادة للفيتام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 نزف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تسبب بعض السيفالوسبورينات استجابة مشابهة للتي يحدثها ثنائي السلفير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ulfira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سبب أنها تقيِّد أكسدة الكحول ، مما يؤدي إلى تراكم الأسيتالدهي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rbapenems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اربابينمات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ي أحدث صنف من المضادات الحيوية من مجموعة البيتا - لاكتام تحوي الايميبي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ipene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ميروبين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opene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يعطى كلاً منهما عن طريق الحقن داخل الوريد فقط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عدّ الايميبينم مع السيلاستات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astat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ضاد حيوي من مجموعة البيتا - لاكتام ذو طيف عريض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ايميبينم مضاد حيوي يتحمله بالديببتيداز الكلو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nal dipeptid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ظهارة الأنبوب الدان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ximal Renal epitheliu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في الكلية إلى مستقلب سام نوعاً ما و غير فعال كمضاد للمكروبات . يثبط السيلاستاتين الديببتيداز الكلوي ، و لهذا فإن المركبين الاثنين يعطيان دائماً مع بعضهما . أما الميروبينم فهو أكثر ثباتاً تجاه الببتيداز الكلوي و لا يحتاج إلى مشاركة إعطاؤه مع السيلاستاتين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nobactams </a:t>
            </a:r>
            <a:r>
              <a:rPr b="1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أحاديات الحلقة البيتالاكتامية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أزتريونام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ztreon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ركب الوحيد المتوافر حالياً هو الأزتريونا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أزتريونام دواء ممتاز للجراثيم سالبة الغرام الهوائية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gram - negativ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؛ بما في فيها الزوائ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eudomona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، لكنه غير فعال ضد الجراثيم إيجابية الغر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عد الأزتريونام مثالاً للطيف الضيق عالي المقاومة لفعل البيتالاكتاماز . إن التيجيمونا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gemonam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هو أحد الأدوية التجريبية في هذا الصنف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عديدات الببتيد</a:t>
            </a:r>
            <a:r>
              <a:rPr b="1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Polypeptides</a:t>
            </a: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ancomycin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انكوميسين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فانكوميسين و مشابهه القريب الأحدث ، التيكوبلام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coplam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ما من الببتيدات السكر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ycopetide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ي تثبط تخليق الجدار الخلوي بمنع بلمرة الببتيدوغليكان الحلق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الفانكوميسين فعالاً فقط ضد الجراثيم إيجابية الغرام يمتص على نحو ضعيف جداً عن طريق الف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كان الفانكوميسين يعتبر " الرصاصة الفضيه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ver bull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لمكوّرات العنقودية المقاومة للميثيسلين . أما الان فقد أصبحت العنقوديات مقاومة للفانكوميس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أن يسبب الفانكوميسين تسمماً أذن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etoxici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تمداً على الجرعة ، و الذي يؤدي إلى الطن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nnit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صَمَمْ للتوترات العالية ، و فقد السمع ومن المحتمل الصَممْ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** </a:t>
            </a:r>
            <a:r>
              <a:rPr b="1" lang="ar-SA" sz="3200" spc="-1" strike="noStrike" u="sng">
                <a:solidFill>
                  <a:srgbClr val="ffffcc"/>
                </a:solidFill>
                <a:uFillTx/>
                <a:latin typeface="Tahoma"/>
              </a:rPr>
              <a:t>الباسيتراسين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Bacitracin</a:t>
            </a: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lang="ar-SY" sz="2800" spc="-1" strike="noStrike" u="sng">
                <a:solidFill>
                  <a:srgbClr val="ffffcc"/>
                </a:solidFill>
                <a:uFillTx/>
                <a:latin typeface="Tahoma"/>
              </a:rPr>
              <a:t>        </a:t>
            </a: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هو مزيج من عديدات الببتيد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اسيتراسين هو مزيج من عديدات الببتيد يثبط تخليق الجدار الخلوي و يستعمل موضع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رتبط الباسيتراسين مع الحامل الشحمي الذي ينقل طلائ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جدار الخلية إلى جدار خلية نامي . و لهذا يمكن أن يصنف كمثبط لتخليق جدار الخلية . و بسبب أن للباسيتراسين سمية كلوية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hrotoxicit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، فإنه يستعمل يستعمل فقط موضع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مثبطات تخليق البروتين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tein Synthesis inhibit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ملامح العا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أمينوغليكوزيد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تتراسيكلين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ماكروليد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كلورامفينيكو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كليندامي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ملامح العام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رتبط مثبطات تخليق البروتين إما مع الوحيدات الريبوسومية ( الريباس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تتداخل مع انتساخ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criptio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رنا المرسا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N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إلى بروت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ختلف الوحيدات الريبوسومية الجرثومية عن تلك الثديية . وهذا يؤخذ بعين الاعتبار لانتقائية الأدوية تجاه الجراثي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رتبط أسماء أصناف مثبطات تخليق البروتين بالبنية الكيميائية للمركبات في كل مجموعة و تعد الأمينوغليكوزيدات فقط كمبيدة للجراث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terisidal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بقية هي كابحات جراث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deriosta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علق المقاومة لهذه الأدوية بإنقاص قبط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tak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أدوية أو تعديل الوحيدات الريبوسو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طلب هذه الأدوية الارتباط مع بروتين داخل الخلايا الوحيدات الريبوسومية ، ولهذا تحتاج الأدوية لأن تدخل إلى داخل الخلية . و الطريق الرئيسي للمقاومة للجراثيم هو حصر حركة الأدوية إلى داخل الخل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أدوية المضادة للميكروب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ثبطات تخليق جدار الخ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ثبطات تخليق البروت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ناهضات الفو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الكينولات و مطهرات المسلك البول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الأدوية المستخدمة في السلّ و الجذ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minoglycoside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جنت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وبر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br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أميكا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ik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ان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نيو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نيتل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ilmi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ستربتو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احظ أن أسماء هذه الأدوية تنتهي بـ " ميس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باستثناء الأميكا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ika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لكن دواء الكليندا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da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كل الماكروليدات ( إريثروميسين ، كلاريثروميسين ) تنتهي أيضاً بـ " ميس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 فلا بد من تمييز هذه الأصناف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عد الأمينوغليكوزيدات مضادات مكروبية عريضة الطيف ومع ذلك فإن الجراثيم اللاهوائ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erob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هي بشكل عام مقاومة لها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تخدم بعض الجراثيم نظام نقل يعتمد على الأكسجين لجلب الأمينوغليكوزيدات إلى داخل الخلية . الجراثيم اللاهوائية ( التي لا يكون الاستقلاب لديها معتمداً على الأكسجين ) لا تملك مثل هذا النظام . و لهذا فإنها مقاومة للأمينوغليكوزيدات بشكل عا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متص الأمينوغليكوزيدات على نحو ضعيف في السبيل المعدي المعو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نبغي إعطاء معظم الأمينوغليكوزيدات عن طريق الحقن . فهي مركبات عالية القطبية ولا ذوابة نسبياً في الدهن وهي لا تنفذ فورياً إلى معظم الخلايا دون مساعدة من البنسلينات أو من أي نظام للنقل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ستخدم التآز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ergis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ين البنسلينات و الأمينوغليكوزيدات في المعالجة الكيميائية . تسبب البنسلينات شذوذات في جدار الخلية مما يسمح بدخول الأمينوغيليكوزيدات إلى داخل الجرثومة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بب الأمينوغليكوزيدات سمية أذنية و سمية كلوية و سمية عصبية عضلية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هامش المأمون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 هذه الأدوية صغير . و هذا يعني أن التركيز السام هو أعلى بقليل فقط من التركيز العلاج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أن يكون الانسمام الأذني سمع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ditor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دهليز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stibular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اً . تشمل الأعراض الطن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nnit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صمم و الدوا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tigo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عدم الاستقرار في المشية ، و فقد السمع للتواترات العالية . تنتج السمية السمعية من تخرب انتقائي للخلايا المشعرة الخارجية القوقع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علق السمية الكلوية بالقبط السريع للدواء من قبل خلايا الأنبوب الداني .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 عندها تموت خلايا الأنبوب الداني . و إن السمية الكلوية الحادة قابلة للإصلاح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نتج السمية العصبية من إحصار الاطلاق السابق للمشب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ynap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لأسيتيل كولين في الموصل العصبي العضلي . يوجد بعض الإحصار خلف المشب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synap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و هذا يقود إلى الضعف و يمكن أن يقود إلى خمود تنفس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راسيكل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tracycl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ورتتراسيكلين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tetra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يميكلوسيكلين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eclu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وكسي سيكلين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xy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ينوسيكلين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o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وكسي تتراسيكل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xytetra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السهل تمييز هذه الأدوية بسبب أنها تنتهي بـ " سيكل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c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بالمشابهة مع الأمينو غليكوزيدات ، فإن التتراسيكلينات تتراكم في الهيولى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وساطة نظام نقل معتمد على الطاقة . و لا يتواجد نظام النقل هذا في الخلايا الثدي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دث المقاومة للتتراسيكلينات عندما تتحول الجراثيم بطفرة تحدث عليها مما يجعلها غير قادرة على مراكمة الدواء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تراسيكلينات مضادات حيوية واسعة الطيف . تعد التتراسيكلينات مفيدة في معالجة الكائنات الحية سالبة الغرام و إيجابية الغرام و اللاهوائيات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جد للتتراسيكلينات أيضاً استعمال في الأمراض الريكتسية ( حمى الجبال الصخرية المبقعة )  و أمراض المتدثر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amydial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كوليرا و داء لا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Lyme’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[ الملتوي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irochet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] و الالتهاب الرئوي بالمفطور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oplasma pneumoni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ُخِلّ الطعام بامتصاص التتراسيكلين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خِلّ الطعام بامتصاص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خل الطعام بامتصاص التتراسيكلينات باستثناء الدوكسي سيكلين و المينوسيكلين . تكوِّن التتراسيكلينات خلاب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lat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ا ذوابة مع الكالسيوم ، و المغنزيوم و غيرها .. و لهذا لا ينصح باستعمال مضادات الحموض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acid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عند تناول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ترابط التتراسسيكلينات بظهور تلوين في الأسنان . وتأخر نمو العظم و التحسس الضوئ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tosensitivity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تعلق التأثيرات الثانوية الرئيسية للتتراسيكلينات بتضمينها داخل الأسنان و العظم . و تسبب تبدل لون الأسنان و تستطيع تأخير نمو العظم . و لهذه الأسباب ، فإنه لا ينصح بها للاستعمال عند الأطفال أو النساء الحوامل و توجد إصابات متزايدة بتفاعل حَرْق شمسي غير طبيعي عند الذين يأخذون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acrolid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ماكروليدات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ر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y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ز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zi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كلار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متص الاريثروميسين عموماً و أقربائه عن طريق الفم رغم تداخل الطعام و إنها تنفرغ في الصفراء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اريثروميسين و أقربائه ذوي استخدام خاص في معالجة المرضى المصابين بعداوى المفطور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oplasm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التهاب الرئو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eumon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عداوى المتدثرات و الدفتري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hther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شاهوق ( السعال الديكي 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us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مكروليدات تأثيرات جانبية قليلة و الشائع منها الانزعاج المعدي المعو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loramphenicol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لورامفينيكول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كلورامفينيكول هو مضاد حيوي عريض الطيف ، و فعال ضد معظم الجراثيم الهوائية و اللاهوائية ، باستثناء الزائفة الزنجا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رابط استخدام الكلورامفينيكول مع خمود نقي العظم و فقر الدم اللاتنسج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astic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ذي يكون مميتاً عادةً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رك استعمال الكلورامفينيكول لمعالجة العداوى المهددة للحياة بسبب تأثيراته الضائرة الخطيرة و المهددة للحياة . لقد تم التبليغ عن الجرعة المرتبطة بإحداث خمود نقي العظم و فقر دم لا تنسجي ذاتي التحساس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osyncratic aplastic anaem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هو مميت عادةً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بب الكلورامفينيكول إحداث متلازمة الطفل السنجاب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y baby syndrom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تي هي غالباً مميت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متص الكلورامفينيكول فموياً ، وينفذ إلى السائل النخاع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F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يعطِّل في الكبد بوساطة الاقتران . و إن الأطفال الذين تكون لديهم مقدرة منخفضة لاقتران الكلورامفينيكول ، ترتفع مستوياته في الدم ، و يحدث لديهم قياء و زرا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anosi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نخفاض حرارة و تنفس متناقص وانخماص مغيِّر للقطر الوعائ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omotor collap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ndamycin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لينداميسين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دعى هذه الأدوية ( الكلينداميسين و اللينكوسين ) أحياناً اللينكوزاميدات [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cosamid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] اعتماداً على بنيتها الكيميائية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إن الفعالية المضادة للمكروبات للكلينداميسين مشابهة لتلك التي للإريثروميس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نفذ الكلينداميسين إلى معظم الأنسجة ، بما فيها العظم ، و له فعالية ضد الجراثيم اللاهوائ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ُدرجَ الكلينداميسين كدواء الاختيار لعداوى السبيل المعدي المعوي اللاهوائية . يترابط استخدام الكلينداميسين مع التهاب القولون الغشائي الكاذب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embranou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بسبب مقاومة المطثية العسير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tridium diffici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كلينداميسين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ضواد الفولات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at antagonis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ضواد الفو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سلفاميث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meth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ريميثوبري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methop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كو - تريم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 - trim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سلفيس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is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دياز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di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بيريد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pyrid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سالاز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sal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سيتام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cetam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تخدم السلفاسالازين أيضاً لمعالجة أمراض الأمعاء الالتهاب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مثبطات تخليق جدار الخلية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يتالاكتا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نسل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سيفالوسبور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اربابين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حاديات الحلقة البيالاكتامية ( أزتريونام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يدات الببت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فانكومي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اسيترا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ولات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000" spc="-1" strike="noStrike">
                <a:solidFill>
                  <a:srgbClr val="ffffcc"/>
                </a:solidFill>
                <a:latin typeface="Tahoma"/>
              </a:rPr>
              <a:t>لضواد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آلية الفعل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لا تستطيع الجراثيم أن تمتص حمض الفوليك . بل يجب صنعه اعتباراً من الـ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BA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حمض البارا-أمينوبنزويك و البتيريدين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teridin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الغلوتام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lutam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. و بالنسبة للبشر ، يعد حمض الفوليك فيتاميناً ، و لا نستطيع تخليقه . وهذا مما يجعل مسلك الاستقلاب هدفاً جيداً و انتقائياً للعوامل المضادة للمكروبات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وناميد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lfonamides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التريميثوبريم يثبطان تخليق الفولات في مقرين مختلفي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وناميدات مشابهة بنيوياً لحمض البارا - أمينوبنزويك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BA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تقيِّد تضمين حمض البارا - أمينوبنزويك في حمض ثنائي هيدروالبيتروئيك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hydropteroir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. يمنع التريميثوبريم اختزال ثنائي هيدروفول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hydrofol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إلى رباعي هيدروفول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tra hydrofol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من خلال تثبيط مختزلة إنزيم ثنائي هيدروفولات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وجد هذا الانزيم عند البشر ، و لكن التريميثوبريم له إلفة منخفضة للانزيم البشري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إن مشاركة السلفوناميدات مع التريميثوبريم لها فعل تآزري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ynergistic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نادراً ما يستخدمان كلاً بمفرده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اميثوكسازول هو سلفاناميد يستخدم بالمشاركة مع التريميثيوم بريم بسبب أن لهما عمري نصف متوافقين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ولات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at antagonis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الملامح المنتقا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ن مضادات الفولات هذه هي عوامل عريضة الطيف فعالة ضد الكائنات الحية إيجابية الغرام و سلبيتها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دعى مشاركة السلفاميثوكسازول مع التريميثوبريم كو-تريموكسازول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-trimoxazol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من المحتمل أنها الأكثر استخداماً من هذه المجموعة . تستخدم لمعالجة عداوى المسلك البولي والرئ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عدّ الكينولونات مجموعة مضادة للجراثيم جديدة نسبياً حيث كانت بالأصل مستخدمة لمعالجة المرضى المصابين بعداوى المسلك البولي على نحو أول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ين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يفوفلوكسا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o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ور 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floxacin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و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بار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rfloxac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روفا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va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مت دراسة هذه الأدوية في فئة منفصلة لأن لها بنية مختلفة و آلية فعل مختلفة ، فهي تثبط جيراز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A gyr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و بالتالي ، تخليق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جيراز الدنا هو إنزيم جرثومي مسؤول عن انفكاك و فرط التفا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coil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دنا 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. و هذا هو الصنف الوحيد من ضمادات الجراثيم الذي يثبط تكرّر ( تنسُّخ )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replicat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هذا الأسلوب أكثر شيوعاً لمضادات الفيروسات و الأدوية المضادة للسرطا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ثبط الكينولونات تخليق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خلال فعل نوعي على جيراز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gyr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ذه الأدوية عريضة الطيف . لقد كان حمض الناليديكسيك الدواء الأول المتوافر بكونه مطهراً فعالاً للمسك البولي ( حيث يعقم البول ) . إن الأدوية الأحدث في هذه المجموعة مفيدة لمجال واسع من العداوى الجرثومية ، بما فيها عداوى المسلك التنفسي السفلي و عدامة العظام و المفاصل ، و التهاب البروستاتة . و بعضها فعال ضد الزائفة الزنجا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onas aeruginos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فعالة عن طريق الف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استعمال الأكثر شيوعاً لهذه الأدوية هو عداوى المسلك البول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قد وجد أن للعديد من هذه العوامل استعمالاً في التوقية و المعالجة للمرضى المصابين بإسهال المساف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نظراً لأن هذه الأدوية جديدة نسبياً فإن الاستطبابات لاستخدامها يمكن أن تتبدل مع السنين إذ سيستمر ظهور عوامل جديد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thenamine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ميثينامين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تحمله الميثينامين في الوسط الحامضي إلى الفورمالدهيد و الأمونيا . يعد الفورمالدهيد مميتاً للجراثيم . و يستخدم في عداوى المسلك البول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دوية المستخدمة في التدرن و الجذا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تنظيم الص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ايزونياز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ريفامب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بيرازينام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ايثامبوتو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دابس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دوية المستخدمة في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و الجذا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تنظيم الص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تفطرات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cobacteria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تي تسبب التدرن ( السل ) ذات نمو بطيئ جداً ، و لهذا يتوجب الاستمرار بالمعالجة لمدة طويلة من الزمن نسبياً . وبغية منع صَحْو الذراري المقاومة فإنه من الحيوي استخدام معالجة توليفية مع عاملين اثنين ( و حتى أربعة ) على الأقل و التي يكون الجرثوم حساساً تجاه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قسم هذه الأدوية غالباً إلى مجموعتين : أدوية الخط ألأول و أدوية الخط الثاني ، و لأجل معظم الغايات ، فإن معرفة أدوية الخط الأول تُعدّ كاف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أدوية الخط الأول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يزونيازيد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niaz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يرازيناميد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yrazinam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ريفامب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famp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يثامبيوتول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ambutol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ستربتوميسين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أدوية الخط الثاني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مض أمينوساليسيلي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i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inosalicy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بريوميسين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reo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يثيونامي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ionam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ناميس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a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ينولونا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ol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يفابوت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bu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يوميس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o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مدة المعالجة المختارة حالياً ( خاضعة للتبديل ) هي شهرين اثنين من الايزونيازيد و الريفامبين و البيرازيناميد ، تُتبَع بالايزونيازيد و الريفامبين لمدة أربعة أشهر . و أحياناً يضاف الايثامبيوتول إلى نظام الشهرين البدئيي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مثبطات تخليق جدار الخلية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مل البنسلينات و السيفالوسبورينات و الفانكوميسين و الأزتريونام من خلال تثبيط تخليق جدار الخلية الجرثوم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الخطوة النهائية في تخليق الجدار الخلوي هي الارتباط المتصالب لطيقان الببتيدو غليكان المتجاورة بعملية تدعى نقل الببت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eptidat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تعد البنسلينات و السيفالوسبورينات متشابهة بنيوياً مع القسم الانتهائي لطيقان الببتيدوغليكان ، و تستطيع التنافس عليها و ترتبط مع الانزيمات التي تحفز ناقلة الببتيد و الارتباط المتصالب . تدعى هذه الانزيمات بروتينات ربط البنسلين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icillin - binding protein PBP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يؤدي التداخل مع هذه الانزيمات إلى تكوّن جدار خلية ضعيف بنيوياً ، و جراثيم ذات أشكال غير طبيعية و بالنهاية موت الجراثي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oniazid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ايزونيازيد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ثبط الايزونيازيد تخليق الأحماض الميكوليكية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لك الايزونيازيد بنية بسيطة جداً و يعمل على المتفطرات من خلال تثبيط تخليق الأحماض الميكوليكية الموجودة على نحو فريد في المتفطرات . إن الأحماض الميكوليكية هي مكونات غلاف الخلية الجرثو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وجد من هم سريعي و بطيئي الأستلة للايزونيازي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ذه السمة محدَّدة وراثياً . فالأستلة هي مسلك استقلابي للعديد من الأدوية ، و لكن هذا المسلك هو من الأهمية بمكان لللايزونيازيد . فالايزونيازيد له عمر نصف أقصر لدى سريعي الأستل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ترابط استعمال الايزونيازيد مع سمية كبدية و اعتلال عصبي محيط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ن التهاب الكبد هو التأثير الجانبي الأكثر وخامة للايزونيازيد . يحدث الخلل الوظيفي للكبد بالايزونيازيد ( حسب قياسه باختبارات وظائف الكبد ) عند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إلى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ن المرضى و يزداد وقوع ذلك مع العمر . و الخلل الوظيفي للكبد قابل للعكس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ibl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دى معظم المرضى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نتج الاعتلال العصبي المحيطي من عوز البيريدوك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yridox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يمكن تصحيحه بإضافة البيريدوكس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ifampin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ريفامبين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يثبط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ريفامب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mp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خليق الدنا بتكوين مركب ثابت مع بوليميراز الرنا المعتمد على الدنا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رتبط الريفامبين مع الوحيدات بيتا للانزيم بوليميراز الرنا المعتمد على الدنا . و المركب الريبي الذي يتكون غير فعال ، و لهذا يُحصر تخليق الرنا ( الحمض النووي الريب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. تنتج المقاومة للريفامبين من طفرة ذات خطوة واحدة تؤدي إلى تبدّل في الوحيدات بيتا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الريفامبين غير فعال فقط ضد التدرن ، إنما أيضاً فعال ضد الجراثيم إيجابية الجرام و سلبيت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تقلب الريفامبين في الكبد وهو محرِّض فعال لانزيم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-45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 يمكن أن يسبب التهاب الكبد و يلون الافرازات باللون الأحمر البرتقال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ريفامبين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م نزع الأسيتيل للريفامبين في الكبد ليتحول إلى مستقلب فعال . ويمكن أن يحدث التهاب الكبد المحرَّض بالدواء الذي يؤدي إلى اليرقا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undic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إضافةً لذلك ، يحرِّض الريفامبين إنزيمات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-45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صفرو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mal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 يمكن أن يؤدي هذا إلى استقلاب متزايد لأي دواء آخر يستقلب أيضاً بهذا النظا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مكن للريفامبين أن يلوِّن البول ، و البراز ، و اللعاب و العرق و الدموع باللون الأحمر البرتقالي . قد يدخل إلى العدسات اللاصق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 lens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ريفابوت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but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ضاهئاً للريفامبين و له بعض الفعالية ضد المتفطرة السل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obacterium tuberculosi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قاومة للريفامبين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yrazinamide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بيرازيناميد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يرازيناميد فعال فقط ضد المتفطرات السلية . إنه يزيد مستويات حمض اليوريك المص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دخل البيرازينام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تفطرة السلية بالانتشار المنفعل و يتحول إل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zinoic acid ( POA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وساطة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otinamidase / pyrazinamid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إن المستقلب الناتج فعال يعمل على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ty acid synth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يحطم أغشية المتفطرات . تتشارك الطفرات الانتقائية في المورث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segen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مقاومة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المتفطرة الس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يرازيناميد فعال على نحو خاص ضد الجراثيم داخل الخلايا . يحدث فرط حمض يوريك الدم لدى كل المرضى ، و لكن الاصابة بالنقرس السريري نادرة . يترابط استخدام البيرازيناميد أيضاً مع سمية كبد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thambutol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ايثامبيوتو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مكن أن يسبب الايثامبيوتول التهاب العصب العيني مما يؤدي إلى فقد الابصار المركزي و يُخل بالمقدرة على التمييز بين اللونين الأحمر و الأخضر . يمكن للايثامبيوتول أن يزيد مستويات حمض اليوريك المصلية كنتيجة للتصفية الكلوية الناقصة لليودات . يمكن أن تؤدي مستويات المصل الزائدة من حمض اليوريك إلى الإصابة بالنقرس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apsone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دابسون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معالجة الجذام هي باحة متخصصة جدا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دابسون الدعامة الأساسية في معالجة الجُذ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prosy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ن الدابسون و لسنوات عديدة الدعامة الرئيسية في معالجة المرضى المصابين بالجذام ، ومع ذلك ، فإن التوصيات الحالية ( خاضعة للتبدل ) هي إمكانية معالجة كل أشكال الجذام بتوليفة من الأدو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الدابسون هو مضاهئ بنيوي لتخليق 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حمض بارا امينو بنزويك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ريفامبين دواء فعال ضد الجذام و كذلك دواء فعال ضد التدرن . إن الثاليدوما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lidomid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الدواء الماسخ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atogenic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و الدواء الأكثر فعالية لمعالجة الجذام العقدي الحمام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ythema nodosum leprosu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( حالة تفاعل التهابي مترابطة مع الجذام )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تقسم مثبطات تخليق جدار الخلية إلى مجموعتين اعتماداً على البنية الكيميائية : البيتا - لاكتامات و عديدات الببتيد</a:t>
            </a: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البيتالاكتامات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Lact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ُعطِّل بعض الجراثيم المضادات الحيوية من مجموعة البيتا - لاكتام عن طريق إنزيم يفتح حلقة البيتا - لاكتا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حوي بعض الجراثيم إنزيم البيتا- لاكتاماز ، يستطيع فتح حلقة البيتا - لاكتام مما يعطل المضاد الحيوي . النمط الأكثر شيوعاً في مقاومة الدواء هو نقل بلازميد الراموز الجيني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netic code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لإنزيم البيتا - لاكتام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وجد إنزيمات بيتا - لاكتاماز نوعية للبنسلينات - تدعى البسليناز 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بيتالاكتاماز نوعية للسيفالوسبورينات - تدعى سيفالوسبورين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إن تعطيل هذه الأدوية بالبيتا-لاكتاماز يمكن أن يعالج حسب أسلوبين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- إعطاء مثبط للبيتالاكتام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- بالتعديلات الكيميائية في بنية الدواء ، بحيث يصبح أكثر مقاومة للتعطي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حمض الكلافولاني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vulanic aci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سولباكت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bact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ثبطان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لبيتا - لاكتاماز و اللذين يعطيان مع أدوية البيتالاكتام لزيادة فعاليت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وجد أيضاً التازوباكت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zobac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حمض الكلافولاني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vulanic acid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سولباكت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lbact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ثبطان للبيتا - لاكتاماز و اللذين يعطيان مع أدوية البيتالاكتام لزيادة فعاليتها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وجد أيضاً التازوباكت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zobact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الطبيعي</a:t>
            </a:r>
            <a:r>
              <a:rPr b="1" lang="ar-SY" sz="2000" spc="-1" strike="noStrike" u="sng">
                <a:solidFill>
                  <a:srgbClr val="ffffff"/>
                </a:solidFill>
                <a:uFillTx/>
                <a:latin typeface="Tahoma"/>
              </a:rPr>
              <a:t>،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 بنسلين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r>
              <a:rPr b="1" lang="ar-SY" sz="2000" spc="-1" strike="noStrike" u="sng">
                <a:solidFill>
                  <a:srgbClr val="ffffff"/>
                </a:solidFill>
                <a:uFillTx/>
                <a:latin typeface="Tahoma"/>
              </a:rPr>
              <a:t> ، 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بنسلين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V</a:t>
            </a:r>
            <a:r>
              <a:rPr b="0" lang="ar-SY" sz="2000" spc="-1" strike="noStrike">
                <a:solidFill>
                  <a:srgbClr val="ffffff"/>
                </a:solidFill>
                <a:latin typeface="Tahoma"/>
              </a:rPr>
              <a:t> ،         </a:t>
            </a:r>
            <a:r>
              <a:rPr b="0" i="1" lang="ar-SA" sz="2000" spc="-1" strike="noStrike">
                <a:solidFill>
                  <a:srgbClr val="ffffff"/>
                </a:solidFill>
                <a:latin typeface="Tahoma"/>
              </a:rPr>
              <a:t>طيف ضيق ( إيجابية الغرام ) ؛ حساسة للبنسليناز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المقاوم للبنسلينا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ميثيس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thi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كلو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l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ديكلو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icl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ناف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af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أوك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ضيق ( إيجابية الغرام ) ؛ مخلّقة لكي تكون مقاومة للبنسلينا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ينوبنسللين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وكسيسي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oxi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بيسي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picil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ممتد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teded spectrum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مدي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أزلو 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zlo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كاربن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rben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مزلو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ezlo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بيبراسي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iper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تيكار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icacil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عريض ( لها فعالية تجاه بعض سلبية الغرام ) ؛ حساسة للبنسليناز . فعالة ضد الزائفة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seudomonas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؛ غير فعالة نسبياً ضد الكائنات الحية إيجابية الجرام 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احظ استعراف البنسلينات من خلال النهاية س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ll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الامتصاص الفموي لمعظم البنسلينات ضعيفاً ؛ معظم البنسلينات تعبر الحائل الدموي الدماغي فقط إذا كان ملتهب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ُفرَغ البنسلينات بالافرازات النبيبية التي يمكن أن تحصر بالبروبنسيد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en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فرغ البنسلينات ، القسم الأعظم منها ، بالإفراز النبيبي الفعال و إن إحصار الافراز النبيبي هو أسلوب بسيط نسبياً لاطالة فعل الدواء . يمكن إعطاء البروبنسيد بالمشاركة مع البنسلينات ، فيحصر الافراز النبيب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تفاعل فرط التحسس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sensitivi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أثير الضائر الأكثر أهمية للبنسلينات ، و قد يكون مميت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لكل البنسلينات أن تبدي تفاعلات أرجية . وقد قسمت هذه التفاعلات إلى ثلاثة أنماط : فورية ( مباشرة 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و معجل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ler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متأخر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 وإن الفورية هي الأكثر وخام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04:56:46Z</dcterms:created>
  <dc:creator>Rashad Murad</dc:creator>
  <dc:description/>
  <dc:language>en-US</dc:language>
  <cp:lastModifiedBy>tar</cp:lastModifiedBy>
  <dcterms:modified xsi:type="dcterms:W3CDTF">2007-03-25T17:23:59Z</dcterms:modified>
  <cp:revision>6</cp:revision>
  <dc:subject/>
  <dc:title>الادوية المضادجة للميكروبات  </dc:title>
</cp:coreProperties>
</file>