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arrow.wav" ContentType="audio/x-wav"/>
  <Override PartName="/ppt/media/image13.jpeg" ContentType="image/jpeg"/>
  <Override PartName="/ppt/media/image40.jpeg" ContentType="image/jpeg"/>
  <Override PartName="/ppt/media/click.wav" ContentType="audio/x-wav"/>
  <Override PartName="/ppt/media/image22.jpeg" ContentType="image/jpeg"/>
  <Override PartName="/ppt/media/cashreg.wav" ContentType="audio/x-wav"/>
  <Override PartName="/ppt/media/image1.jpeg" ContentType="image/jpeg"/>
  <Override PartName="/ppt/media/image35.jpeg" ContentType="image/jpeg"/>
  <Override PartName="/ppt/media/image23.jpeg" ContentType="image/jpeg"/>
  <Override PartName="/ppt/media/push.wav" ContentType="audio/x-wav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coin.wav" ContentType="audio/x-wav"/>
  <Override PartName="/ppt/media/image34.jpeg" ContentType="image/jpeg"/>
  <Override PartName="/ppt/media/image31.jpeg" ContentType="image/jpeg"/>
  <Override PartName="/ppt/media/suction.wav" ContentType="audio/x-wav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wind.wav" ContentType="audio/x-wav"/>
  <Override PartName="/ppt/media/image16.jpeg" ContentType="image/jpeg"/>
  <Override PartName="/ppt/media/image33.jpeg" ContentType="image/jpeg"/>
  <Override PartName="/ppt/media/image27.jpeg" ContentType="image/jpeg"/>
  <Override PartName="/ppt/media/image6.jpeg" ContentType="image/jpeg"/>
  <Override PartName="/ppt/media/breeze.wav" ContentType="audio/x-wav"/>
  <Override PartName="/ppt/media/voltage.wav" ContentType="audio/x-wav"/>
  <Override PartName="/ppt/media/image3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0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26.jpeg" ContentType="image/jpeg"/>
  <Override PartName="/ppt/media/image42.png" ContentType="image/png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4C8-F310-4487-AE14-F22016A0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0CD-7CE4-4585-8F73-A5D3DC06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DCD-79CC-48AF-9800-1AFA39D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417-199C-4825-9726-DE683D63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F5F-6775-4A28-82D7-332DF38B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3C83-4291-4362-B86C-DE682BA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BDC7-30CC-4060-8E95-52E4EF2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C2D-35F2-434E-9B09-25529EA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D46C-FC13-4504-BD45-11891D9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1F9F-FA8D-4197-ACA1-7B4D681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BE8B-9E8E-4534-B646-54B95BBE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B36-34C6-4F7A-93B9-41D0D3AB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B4E1-AAA0-4BAB-87A9-F0A1DB3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DFD6-1EB8-4CD8-9ECE-616B1C1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D146-C4B7-445D-8FAE-8C3C35BB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A2A8-EF94-4116-8D43-C8A590BE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BDC6-D54B-473E-BA66-23F7D0AB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EC34C-B349-4746-930E-FD8493FB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23A8D-B568-45FD-95E8-38B242D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AA3F8-F281-4D3C-AC04-BA69DE1D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65C7F-8851-453A-A620-D2AEB041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E5657-142C-4841-8F34-C2DF9DF2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7FD-3CE5-4B65-99AF-ED603CBF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F9FC0-5584-4178-BDEE-E9A79986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EE8DD-93FE-427C-BDF6-BDF1D71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1DA11-0D2A-47B7-82FA-65EB569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E4D73-0ED7-421F-BB6F-5EF5091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70579-A13D-48D8-95BF-876B4A6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CF94F-C8AF-4572-A25A-DFF9ED73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DEA04-C37B-43AE-B128-BACC6F83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F13-BD6C-4334-8E6B-5CE822F9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158-D42D-4D24-8DBC-EC98CD0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010-0DAE-4DA5-86F5-8971060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496-183E-4929-9CA8-99CE14C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6C4-867F-4438-B894-2AB3267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A84-2C90-4AE3-9D0B-6E2F0CF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66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2D3-3C12-466B-B822-C1684B61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C4D-20AE-4ADF-92F9-F41B3E9C84AC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2EF-87D5-4F75-BCC2-962A5F43F91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hyperlink" Target="http://usuarios.lycos.es/eltejadodebejar/fyfauna/arboles/nogal.jpg" TargetMode="External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12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822348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erlin Sans FB"/>
              </a:rPr>
              <a:t>Agricultura y actividades forestal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Franklin Gothic Medium"/>
              </a:rPr>
              <a:t>Los bosqu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98680" y="1628640"/>
            <a:ext cx="5881680" cy="2857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60" y="47102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aís donde  se encuentra la cuarta parte de todos los bosques del mu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68360" y="2708280"/>
            <a:ext cx="4104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ad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plit dir="out" orient="vert"/>
    <p:sndAc>
      <p:stSnd>
        <p:snd r:embed="rId2" name="wind.wav"/>
      </p:stSnd>
    </p:sndAc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Actividad forest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le llama actividad forestal al trabajo de convertir árboles en mad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4181400"/>
            <a:ext cx="2519280" cy="22719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3440" y="4076640"/>
            <a:ext cx="2519280" cy="23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348000" y="4581360"/>
            <a:ext cx="2303640" cy="158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strips dir="lu"/>
    <p:sndAc>
      <p:stSnd>
        <p:snd r:embed="rId4" name="voltage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47628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Países productores de made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736720" cy="2087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96000" y="4408560"/>
            <a:ext cx="2765520" cy="2044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pull dir="u"/>
    <p:sndAc>
      <p:stSnd>
        <p:snd r:embed="rId3" name="suction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3502080"/>
            <a:ext cx="1800000" cy="2303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24000" y="596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ib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484360" y="3429000"/>
            <a:ext cx="1800360" cy="2376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2195640" y="2924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árbol de cao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00280"/>
            <a:ext cx="1905120" cy="2376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643280" y="59500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og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1944720" cy="2428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6516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árbol de la qu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76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Tipos de árb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6" name="coin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1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2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Es la actividad que se dedica al cultivo de la tierra con el fin de obtener productos destinados al uso humano y al alimento de los anim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-27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Agricul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2592360" cy="2131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2663640" cy="21747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19640" y="4441680"/>
            <a:ext cx="2374560" cy="20829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r"/>
    <p:sndAc>
      <p:stSnd>
        <p:snd r:embed="rId4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Alimentos originarios de nuestro continent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95560"/>
            <a:ext cx="2087640" cy="230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516720" y="2925720"/>
            <a:ext cx="2087640" cy="23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348000" y="4365720"/>
            <a:ext cx="2519280" cy="2303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348000" y="1773360"/>
            <a:ext cx="2519280" cy="2349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d"/>
    <p:sndAc>
      <p:stSnd>
        <p:snd r:embed="rId5" name="click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Factores de los que depende la calidad de la tierr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77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 de sue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305080" cy="252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2305080" cy="252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r"/>
    <p:sndAc>
      <p:stSnd>
        <p:snd r:embed="rId3" name="push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4046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de ri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341360"/>
            <a:ext cx="72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aquella que tiene disponibilidad de agu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4200" y="36752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tempo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4720" y="4505400"/>
            <a:ext cx="72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la que depende de las lluv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303640" cy="1511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70560" y="2133720"/>
            <a:ext cx="2305080" cy="1485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325600" cy="158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370560" y="5084640"/>
            <a:ext cx="2305080" cy="158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u"/>
    <p:sndAc>
      <p:stSnd>
        <p:snd r:embed="rId5" name="arrow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4200" y="18900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moder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05264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la que utiliza fertilizantes, maquinaria y agua de ri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38750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comer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3868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aquella donde venden la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arrow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En las llanuras canadienses y estadounidenses se produ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19280" cy="1871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519640" cy="1871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-181080" y="41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En California, al oeste de Estados Unid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5440" y="5013360"/>
            <a:ext cx="1366920" cy="1511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771640" y="4998960"/>
            <a:ext cx="1368720" cy="15256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003640" y="4941720"/>
            <a:ext cx="1368720" cy="1582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7164360" y="4941720"/>
            <a:ext cx="1368360" cy="1511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dissolve/>
    <p:sndAc>
      <p:stSnd>
        <p:snd r:embed="rId7" name="breeze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6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éx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620640"/>
            <a:ext cx="107964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1584360" cy="1368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56360" y="115920"/>
            <a:ext cx="1584360" cy="1413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50920" y="1628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Región centroameric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2781360"/>
            <a:ext cx="107964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47640" y="2276640"/>
            <a:ext cx="0" cy="5047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16360" y="2276640"/>
            <a:ext cx="1584360" cy="1341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148360" y="2276640"/>
            <a:ext cx="1584360" cy="1295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468360" y="373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4221000"/>
            <a:ext cx="10792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64000" y="3789360"/>
            <a:ext cx="1584360" cy="1079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684360" y="50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rgentina, Venezuela, Perú y Colo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395280" y="5805360"/>
            <a:ext cx="1368360" cy="908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2340000" y="5805360"/>
            <a:ext cx="1366920" cy="900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4067280" y="5805360"/>
            <a:ext cx="1224000" cy="86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5651640" y="5807160"/>
            <a:ext cx="1368360" cy="7905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7380360" y="5689440"/>
            <a:ext cx="1224000" cy="908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d"/>
    <p:sndAc>
      <p:stSnd>
        <p:snd r:embed="rId11" name="whoosh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9:49:35Z</dcterms:created>
  <dc:creator>user</dc:creator>
  <dc:description/>
  <dc:language>en-US</dc:language>
  <cp:lastModifiedBy>Invitado</cp:lastModifiedBy>
  <dcterms:modified xsi:type="dcterms:W3CDTF">2008-03-05T01:28:03Z</dcterms:modified>
  <cp:revision>11</cp:revision>
  <dc:subject/>
  <dc:title>Agricultura y actividades forestales</dc:title>
</cp:coreProperties>
</file>