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arrow.wav" ContentType="audio/x-wav"/>
  <Override PartName="/ppt/media/image13.jpeg" ContentType="image/jpeg"/>
  <Override PartName="/ppt/media/image40.jpeg" ContentType="image/jpeg"/>
  <Override PartName="/ppt/media/click.wav" ContentType="audio/x-wav"/>
  <Override PartName="/ppt/media/image22.jpeg" ContentType="image/jpeg"/>
  <Override PartName="/ppt/media/cashreg.wav" ContentType="audio/x-wav"/>
  <Override PartName="/ppt/media/image1.jpeg" ContentType="image/jpeg"/>
  <Override PartName="/ppt/media/image35.jpeg" ContentType="image/jpeg"/>
  <Override PartName="/ppt/media/image23.jpeg" ContentType="image/jpeg"/>
  <Override PartName="/ppt/media/push.wav" ContentType="audio/x-wav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coin.wav" ContentType="audio/x-wav"/>
  <Override PartName="/ppt/media/image34.jpeg" ContentType="image/jpeg"/>
  <Override PartName="/ppt/media/image31.jpeg" ContentType="image/jpeg"/>
  <Override PartName="/ppt/media/suction.wav" ContentType="audio/x-wav"/>
  <Override PartName="/ppt/media/image25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wind.wav" ContentType="audio/x-wav"/>
  <Override PartName="/ppt/media/image16.jpeg" ContentType="image/jpeg"/>
  <Override PartName="/ppt/media/image33.jpeg" ContentType="image/jpeg"/>
  <Override PartName="/ppt/media/image27.jpeg" ContentType="image/jpeg"/>
  <Override PartName="/ppt/media/image6.jpeg" ContentType="image/jpeg"/>
  <Override PartName="/ppt/media/breeze.wav" ContentType="audio/x-wav"/>
  <Override PartName="/ppt/media/voltage.wav" ContentType="audio/x-wav"/>
  <Override PartName="/ppt/media/image37.jpeg" ContentType="image/jpeg"/>
  <Override PartName="/ppt/media/image12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10.jpeg" ContentType="image/jpeg"/>
  <Override PartName="/ppt/media/image30.jpeg" ContentType="image/jpeg"/>
  <Override PartName="/ppt/media/image24.jpeg" ContentType="image/jpeg"/>
  <Override PartName="/ppt/media/image43.png" ContentType="image/png"/>
  <Override PartName="/ppt/media/image26.jpeg" ContentType="image/jpeg"/>
  <Override PartName="/ppt/media/image42.png" ContentType="image/png"/>
  <Override PartName="/ppt/media/image8.jpeg" ContentType="image/jpeg"/>
  <Override PartName="/ppt/media/image39.jpeg" ContentType="image/jpeg"/>
  <Override PartName="/ppt/media/image7.jpeg" ContentType="image/jpeg"/>
  <Override PartName="/ppt/media/image3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8CE9-43A4-44E2-B8F3-CEC2DF5A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839E-558E-47EB-93B2-82866F96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F03-5A8C-48A5-9E4E-33711431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C35-CE42-483E-A480-1981D2BD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8D96-5223-44B4-A59E-8416319C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FF8A-F1BE-40B4-B2EE-D4473348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B8E5-FCDE-47DA-8EAC-21E244B7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B4F9-D054-4B55-AC0D-B8A582FF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3337-72D1-426E-BA67-F430D23E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8CEB-574D-4CDD-8259-0315BC04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D15E-2424-405F-963F-CF3B9A9C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6D82-DB4D-4661-B94A-1ABFCEBF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BDF5-247F-4F00-903C-3FAA0BD9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EE32-238D-4041-884C-DCE56B49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4FA3-8090-4285-BEB9-CEE7E353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EEC0-CE5C-40ED-8740-808DEB64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9AF7-F346-49E4-901F-1CD42E74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C7705-FB9F-46A7-A2F4-515E4DAC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E8E56-98C6-43A9-8CE9-DA6809FE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02BAF-2B8B-4B15-A418-B8D2A2E8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33679-7FA7-415C-B643-EB0CC4CC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D5204-39E1-453C-B8F4-15E5D539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F06-2CF7-4A60-942B-666CFF0B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61320-0B14-402A-86AB-04446DD7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1776F-3763-4A18-B255-09B772A8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B10A0-9BB9-4D68-9612-ABC3B792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E9DB7-F150-4350-A139-1A3B5150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906E9-4DCC-4029-B03C-EAA3BE6E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08108-FF37-44B5-AAEF-EA4E7A64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E259D-FE69-4888-BE41-53B7621F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A91-4CF3-4CCB-BD46-4A5B434E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CF40-9E23-4FA0-9CFA-9A4868B4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DCA-CCEC-4B8B-B5F3-709DE394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6F37-38A4-45E7-946C-23DDB549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5065-82D8-4A48-9756-45D083EC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98AC-0298-469C-AA5F-153FFB96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50000">
              <a:srgbClr val="ff66ff"/>
            </a:gs>
            <a:gs pos="100000">
              <a:srgbClr val="cc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BE67-BC2C-43FB-B0EE-F21EAD98F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4E3F-E4C7-4FBE-85C7-1BD3CED979E9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0916-6C2E-4783-BF0D-7EF1A5ABE4A7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hyperlink" Target="http://usuarios.lycos.es/eltejadodebejar/fyfauna/arboles/nogal.jpg" TargetMode="External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12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1699920"/>
            <a:ext cx="8223480" cy="19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Berlin Sans FB"/>
              </a:rPr>
              <a:t>Agricultura y actividades forestale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  <p:sndAc>
      <p:stSnd>
        <p:snd r:embed="rId2" name="breez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Franklin Gothic Medium"/>
              </a:rPr>
              <a:t>Los bosqu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98680" y="1628640"/>
            <a:ext cx="5881680" cy="2857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6360" y="47102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País donde  se encuentra la cuarta parte de todos los bosques del mun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268360" y="2708280"/>
            <a:ext cx="4104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nad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plit dir="out" orient="vert"/>
    <p:sndAc>
      <p:stSnd>
        <p:snd r:embed="rId2" name="wind.wav"/>
      </p:stSnd>
    </p:sndAc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77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2" dur="770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4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2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77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9" dur="770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1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3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Franklin Gothic Medium"/>
              </a:rPr>
              <a:t>Actividad forest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le llama actividad forestal al trabajo de convertir árboles en mad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4181400"/>
            <a:ext cx="2519280" cy="22719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013440" y="4076640"/>
            <a:ext cx="2519280" cy="2303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348000" y="4581360"/>
            <a:ext cx="2303640" cy="1584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</p:spTree>
  </p:cSld>
  <p:transition spd="slow">
    <p:strips dir="lu"/>
    <p:sndAc>
      <p:stSnd>
        <p:snd r:embed="rId4" name="voltage.wav"/>
      </p:stSnd>
    </p:sndAc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4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4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9640" y="476280"/>
            <a:ext cx="77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anklin Gothic Medium"/>
              </a:rPr>
              <a:t>Países productores de mader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Un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736720" cy="2087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796000" y="4408560"/>
            <a:ext cx="2765520" cy="2044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</p:spTree>
  </p:cSld>
  <p:transition spd="slow">
    <p:pull dir="u"/>
    <p:sndAc>
      <p:stSnd>
        <p:snd r:embed="rId3" name="suction.wav"/>
      </p:stSnd>
    </p:sndAc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4000" y="3502080"/>
            <a:ext cx="1800000" cy="23032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324000" y="5967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eib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484360" y="3429000"/>
            <a:ext cx="1800360" cy="2376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202" name=""/>
          <p:cNvSpPr/>
          <p:nvPr/>
        </p:nvSpPr>
        <p:spPr>
          <a:xfrm>
            <a:off x="2195640" y="29242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árbol de cao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3500280"/>
            <a:ext cx="1905120" cy="2376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4643280" y="595008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nog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6948360" y="3500280"/>
            <a:ext cx="1944720" cy="24289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6516720" y="2852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árbol de la qu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47628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anklin Gothic Medium"/>
              </a:rPr>
              <a:t>Tipos de árbo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  <p:sndAc>
      <p:stSnd>
        <p:snd r:embed="rId6" name="coin.wav"/>
      </p:stSnd>
    </p:sndAc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4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4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2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6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1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3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5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539640" y="0"/>
            <a:ext cx="8136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  <p:sndAc>
      <p:stSnd>
        <p:snd r:embed="rId2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Es la actividad que se dedica al cultivo de la tierra con el fin de obtener productos destinados al uso humano y al alimento de los anim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-2700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Franklin Gothic Medium"/>
              </a:rPr>
              <a:t>Agricultu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2592360" cy="21319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56360" y="3429000"/>
            <a:ext cx="2663640" cy="21747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419640" y="4441680"/>
            <a:ext cx="2374560" cy="20829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</p:spTree>
  </p:cSld>
  <p:transition spd="slow">
    <p:cover dir="r"/>
    <p:sndAc>
      <p:stSnd>
        <p:snd r:embed="rId4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Franklin Gothic Medium"/>
              </a:rPr>
              <a:t>Alimentos originarios de nuestro continente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2995560"/>
            <a:ext cx="2087640" cy="2305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516720" y="2925720"/>
            <a:ext cx="2087640" cy="2303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348000" y="4365720"/>
            <a:ext cx="2519280" cy="23032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348000" y="1773360"/>
            <a:ext cx="2519280" cy="2349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</p:spTree>
  </p:cSld>
  <p:transition spd="slow">
    <p:cover dir="d"/>
    <p:sndAc>
      <p:stSnd>
        <p:snd r:embed="rId5" name="click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Franklin Gothic Medium"/>
              </a:rPr>
              <a:t>Factores de los que depende la calidad de la tierra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77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o de sue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1280" y="3933720"/>
            <a:ext cx="2305080" cy="2521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227640" y="3860640"/>
            <a:ext cx="2305080" cy="2521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</p:spTree>
  </p:cSld>
  <p:transition spd="slow">
    <p:cover dir="r"/>
    <p:sndAc>
      <p:stSnd>
        <p:snd r:embed="rId3" name="push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1280" y="40464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anklin Gothic Medium"/>
              </a:rPr>
              <a:t>Agricultura de rieg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1341360"/>
            <a:ext cx="721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 aquella que tiene disponibilidad de agu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4200" y="367524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anklin Gothic Medium"/>
              </a:rPr>
              <a:t>Agricultura tempo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4720" y="4505400"/>
            <a:ext cx="72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 la que depende de las lluv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2303640" cy="15112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370560" y="2133720"/>
            <a:ext cx="2305080" cy="1485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2325600" cy="1584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370560" y="5084640"/>
            <a:ext cx="2305080" cy="1584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</p:spTree>
  </p:cSld>
  <p:transition spd="slow">
    <p:cover dir="u"/>
    <p:sndAc>
      <p:stSnd>
        <p:snd r:embed="rId5" name="arrow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54200" y="18900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anklin Gothic Medium"/>
              </a:rPr>
              <a:t>Agricultura moder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105264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 la que utiliza fertilizantes, maquinaria y agua de rie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387504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anklin Gothic Medium"/>
              </a:rPr>
              <a:t>Agricultura comer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4738680"/>
            <a:ext cx="82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 aquella donde venden la produ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arrow.wav"/>
      </p:stSnd>
    </p:sndAc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89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En las llanuras canadienses y estadounidenses se produ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519280" cy="1871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724360" y="1413000"/>
            <a:ext cx="2519640" cy="1871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-181080" y="4162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En California, al oeste de Estados Unido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25440" y="5013360"/>
            <a:ext cx="1366920" cy="15112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771640" y="4998960"/>
            <a:ext cx="1368720" cy="15256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5003640" y="4941720"/>
            <a:ext cx="1368720" cy="15829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7164360" y="4941720"/>
            <a:ext cx="1368360" cy="1511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</p:spTree>
  </p:cSld>
  <p:transition spd="slow">
    <p:dissolve/>
    <p:sndAc>
      <p:stSnd>
        <p:snd r:embed="rId7" name="breeze.wav"/>
      </p:stSnd>
    </p:sndAc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9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1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5280" y="260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Méx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620640"/>
            <a:ext cx="107964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51280" y="115920"/>
            <a:ext cx="1584360" cy="1368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156360" y="115920"/>
            <a:ext cx="1584360" cy="14130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250920" y="1628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Región centroamerica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47640" y="2781360"/>
            <a:ext cx="107964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547640" y="2276640"/>
            <a:ext cx="0" cy="50472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916360" y="2276640"/>
            <a:ext cx="1584360" cy="1341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5148360" y="2276640"/>
            <a:ext cx="1584360" cy="12952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468360" y="3735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ub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95640" y="4221000"/>
            <a:ext cx="107928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3564000" y="3789360"/>
            <a:ext cx="1584360" cy="1079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684360" y="508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Argentina, Venezuela, Perú y Colom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395280" y="5805360"/>
            <a:ext cx="1368360" cy="9082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2340000" y="5805360"/>
            <a:ext cx="1366920" cy="900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4067280" y="5805360"/>
            <a:ext cx="1224000" cy="863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5651640" y="5807160"/>
            <a:ext cx="1368360" cy="7905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7380360" y="5689440"/>
            <a:ext cx="1224000" cy="9082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</p:spTree>
  </p:cSld>
  <p:transition spd="slow">
    <p:cover dir="d"/>
    <p:sndAc>
      <p:stSnd>
        <p:snd r:embed="rId11" name="whoosh.wav"/>
      </p:stSnd>
    </p:sndAc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1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3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5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0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9:49:35Z</dcterms:created>
  <dc:creator>user</dc:creator>
  <dc:description/>
  <dc:language>en-US</dc:language>
  <cp:lastModifiedBy>Invitado</cp:lastModifiedBy>
  <dcterms:modified xsi:type="dcterms:W3CDTF">2008-03-05T01:28:03Z</dcterms:modified>
  <cp:revision>11</cp:revision>
  <dc:subject/>
  <dc:title>Agricultura y actividades forestales</dc:title>
</cp:coreProperties>
</file>