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1.gif" ContentType="image/gif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9CD-9D9B-4B5F-A945-E0AC66AD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AAA-8B7B-4571-9050-2A70E52B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349-0893-4671-B222-4778A4F5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4C5-FFA8-4DC6-8891-F982D936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00E1-5D7C-493E-A61D-5777F648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1525-91CE-4B2E-883B-FA691F8D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E46E-B05C-4F23-99CC-1580CE77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F3D2-DA86-4958-B5DA-FC1E4209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FA45-2AF3-4B03-86F0-4CEEF571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DA7C-8101-4F60-A685-E5BE8A7D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880F-88C8-4A0B-9D42-351851DA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69E-39BE-41A9-8AFA-D083BF6E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0F4E-0468-4520-8321-8D99B102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F32D-5005-42ED-A738-210DCBCC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6AD9-E62C-463C-84D5-D241B80B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C69C-867E-4BD7-AC0D-5D450593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E20C-D82D-4D64-9F7E-8D687240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A1B-120B-4902-9E80-EEDF7D9D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327-B589-438B-89F8-D40DB779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792-8584-47E6-B4A5-C6EF0B15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39D-00FB-4592-9365-73EC9FA4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238-96FE-4E96-B414-58D292DD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6EC-A33B-4B63-AC0B-0D145C80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7DD-A123-4219-8408-0953EF6E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2E1D-741F-4C1B-9ABE-9C0775AFF797}" type="slidenum">
              <a:rPr b="0" lang="de-DE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9017-6F6B-48A5-A766-C7E793132B33}" type="slidenum">
              <a:rPr b="0" lang="de-DE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867640" cy="5497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227640" y="5013360"/>
            <a:ext cx="1224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09680" y="5257800"/>
            <a:ext cx="60962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Drum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sei stolz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auf das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was Du aus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eigener Kraft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erreichst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22600" y="907920"/>
            <a:ext cx="47624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55880" y="5373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Mooie drom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22600" y="907920"/>
            <a:ext cx="47624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55880" y="530064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Wenn Du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mal Kummer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hast, wünsch ich Dir ein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kuscheliges Plätzchen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, wo Dir wieder warm ums Herz wird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22600" y="907920"/>
            <a:ext cx="47624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5880" y="537372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Ich wünsche Dir in 2005, dass Du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nicht Zaungast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bist, sondern die Dinge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aktiv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in die Hand nimmst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622600" y="907920"/>
            <a:ext cx="4762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22360" y="55897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Ich wünsche Dir, dass Du ab und zu eine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richtig faule Sau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bist und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die Arbeit ruhen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lässt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622600" y="907920"/>
            <a:ext cx="47624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457200"/>
            <a:ext cx="65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Ich wünsche Dir, dass sich immer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eine Sau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für Dich interessiert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556272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und dass Du noch vielen anderen netten Zeitgenossen begegnest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622600" y="1341360"/>
            <a:ext cx="47624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08240" y="551664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Bleib so,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wie Du bist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, mit all Deinen liebenswerten Eigenarten. Die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besten Wünsche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und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622600" y="907920"/>
            <a:ext cx="4762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22600" y="907920"/>
            <a:ext cx="4762440" cy="5143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124000" y="6093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09680" y="5257800"/>
            <a:ext cx="6096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Ich wünsche Dir einen ganzen Korb voll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Schwein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bei allem, was Du noch vorhast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03560" y="907920"/>
            <a:ext cx="38005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55880" y="5445000"/>
            <a:ext cx="6095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Ich wünsche Dir, dass Du auch in 2005  den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richtigen Riecher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dafür hast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41600" y="907920"/>
            <a:ext cx="49244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90920" y="510552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wenn es Zeit ist, deine Chanc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mutig zu nutzen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622600" y="907920"/>
            <a:ext cx="476244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55880" y="522936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Vertraue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weiterhin auf deine Fähigkeiten und mit etwas Glück, wird es gelingen, wenn Du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etwas Neues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beginnst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22600" y="907920"/>
            <a:ext cx="4762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03240" y="5445000"/>
            <a:ext cx="6400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Ich wünsche Dir in 2005, dass Dir oft gelingt, aus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ganz wenig ganz viel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zu machen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622600" y="907920"/>
            <a:ext cx="47624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828800" y="52578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Lass ruhig mal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so richtig die Sau raus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622600" y="907920"/>
            <a:ext cx="4762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09680" y="464832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...die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besten Feste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sind die, nach denen man </a:t>
            </a: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völlig erledigt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 ist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2600" y="907920"/>
            <a:ext cx="47624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98680" y="580536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33"/>
                </a:solidFill>
                <a:latin typeface="Arial"/>
              </a:rPr>
              <a:t>Denk dran</a:t>
            </a:r>
            <a:r>
              <a:rPr b="0" lang="de-DE" sz="2400" spc="-1" strike="noStrike">
                <a:solidFill>
                  <a:srgbClr val="333333"/>
                </a:solidFill>
                <a:latin typeface="Arial"/>
              </a:rPr>
              <a:t>: Keinem ist alles in die Wiege gelegt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22600" y="907920"/>
            <a:ext cx="47624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6T21:08:18Z</dcterms:created>
  <dc:creator>Werner R.</dc:creator>
  <dc:description>Download von PPSFun.de</dc:description>
  <dc:language>en-US</dc:language>
  <cp:lastModifiedBy>Smets</cp:lastModifiedBy>
  <dcterms:modified xsi:type="dcterms:W3CDTF">2008-09-20T05:50:18Z</dcterms:modified>
  <cp:revision>6</cp:revision>
  <dc:subject/>
  <dc:title>PowerPoint-Präsentation</dc:title>
</cp:coreProperties>
</file>