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3.jpeg" ContentType="image/jpeg"/>
  <Override PartName="/ppt/media/image104.png" ContentType="image/pn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Dave%20Berry%20-%20This%20Strange%20Effect%20-%201965%20%20ext.wav" ContentType="audio/x-wav"/>
  <Override PartName="/ppt/media/image69.jpeg" ContentType="image/jpeg"/>
  <Override PartName="/ppt/media/image71.jpeg" ContentType="image/jpeg"/>
  <Override PartName="/ppt/media/image72.jpeg" ContentType="image/jpeg"/>
  <Override PartName="/ppt/media/image106.gif" ContentType="image/gif"/>
  <Override PartName="/ppt/media/image73.jpeg" ContentType="image/jpeg"/>
  <Override PartName="/ppt/media/image74.jpeg" ContentType="image/jpeg"/>
  <Override PartName="/ppt/media/image62.jpeg" ContentType="image/jpeg"/>
  <Override PartName="/ppt/media/image79.jpeg" ContentType="image/jpeg"/>
  <Override PartName="/ppt/media/image105.gif" ContentType="image/gif"/>
  <Override PartName="/ppt/media/image14.jpeg" ContentType="image/jpeg"/>
  <Override PartName="/ppt/media/image41.jpeg" ContentType="image/jpeg"/>
  <Override PartName="/ppt/media/image75.jpeg" ContentType="image/jpeg"/>
  <Override PartName="/ppt/media/image70.jpeg" ContentType="image/jpeg"/>
  <Override PartName="/ppt/media/image99.jpeg" ContentType="image/jpeg"/>
  <Override PartName="/ppt/media/image95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4.jpeg" ContentType="image/jpeg"/>
  <Override PartName="/ppt/media/image20.jpeg" ContentType="image/jpeg"/>
  <Override PartName="/ppt/media/image77.jpeg" ContentType="image/jpeg"/>
  <Override PartName="/ppt/media/image60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9.jpeg" ContentType="image/jpeg"/>
  <Override PartName="/ppt/media/image42.jpeg" ContentType="image/jpeg"/>
  <Override PartName="/ppt/media/image59.jpeg" ContentType="image/jpeg"/>
  <Override PartName="/ppt/media/image25.jpeg" ContentType="image/jpeg"/>
  <Override PartName="/ppt/media/image8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84C3-EA23-4EF6-A80F-146D143A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4FD3-E8AD-44A9-A3B6-CEC9C599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6C50-D482-4B54-A819-B9DA2950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E81D-5853-4D7A-94D4-FB105AB4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75F-2689-4F76-B9B0-938DCD9C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D21A-5CFF-4FEC-B2E9-A05ED531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6088-6C81-499C-89E3-F96C3559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8E2F-F39B-4D18-AEE8-497D32E7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882B-DD21-4F3A-AE57-B99589CB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3F3F-D63D-47A5-B143-5F48DA71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480B-62C6-495E-9A6F-40C19DD0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20A0-7AB8-4A07-AC86-F43C019F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3A21-4EA5-4F31-BB8D-4AE43FA00B1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Dave%20Berry%20-%20This%20Strange%20Effect%20-%201965%20%20ext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image" Target="../media/image84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image" Target="../media/image102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png"/><Relationship Id="rId3" Type="http://schemas.openxmlformats.org/officeDocument/2006/relationships/image" Target="../media/image105.gif"/><Relationship Id="rId4" Type="http://schemas.openxmlformats.org/officeDocument/2006/relationships/image" Target="../media/image105.gif"/><Relationship Id="rId5" Type="http://schemas.openxmlformats.org/officeDocument/2006/relationships/image" Target="../media/image106.gif"/><Relationship Id="rId6" Type="http://schemas.openxmlformats.org/officeDocument/2006/relationships/image" Target="../media/image106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3865680" cy="5805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017960" cy="5805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58520" y="6021360"/>
            <a:ext cx="423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e Berry - This Strange Effect – 19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oors - People are strange - 19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  <p:sndAc>
      <p:stSnd>
        <p:snd r:embed="rId3" name="Dave%20Berry%20-%20This%20Strange%20Effect%20-%201965%20%20ex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04000" cy="558648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3752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716360" cy="3429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442764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4969080" cy="717408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532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268960" cy="724536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0108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1280" y="3429000"/>
            <a:ext cx="7956360" cy="3429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795636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988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859280" cy="3429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6444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0576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68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5292720" cy="4076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292720" y="2781360"/>
            <a:ext cx="3851280" cy="407664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227640" y="3284640"/>
            <a:ext cx="2916360" cy="3573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3284640"/>
            <a:ext cx="6227640" cy="3573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643280" cy="3279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28464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35280" y="-243000"/>
            <a:ext cx="5613120" cy="7101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06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05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0224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859280" cy="3429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85928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31792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335772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045440" y="6237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7552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008080"/>
            <a:ext cx="9144000" cy="484992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4204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40120" y="0"/>
            <a:ext cx="530388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6728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788000" y="3429000"/>
            <a:ext cx="4356000" cy="3429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788000" cy="3429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8800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356000" y="260280"/>
            <a:ext cx="4788000" cy="6218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4572000" cy="621828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3573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84720" cy="4149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284720" y="3500280"/>
            <a:ext cx="4859280" cy="3357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0" y="3500280"/>
            <a:ext cx="4284720" cy="3357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24000" y="630864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b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2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423040" cy="724536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6527880" cy="717408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08:13:59Z</dcterms:created>
  <dc:creator>www.free-powerpoints.goedbegin.be</dc:creator>
  <dc:description/>
  <dc:language>en-US</dc:language>
  <cp:lastModifiedBy>Smets</cp:lastModifiedBy>
  <dcterms:modified xsi:type="dcterms:W3CDTF">2010-02-22T20:45:44Z</dcterms:modified>
  <cp:revision>9</cp:revision>
  <dc:subject/>
  <dc:title/>
</cp:coreProperties>
</file>