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104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Dave%20Berry%20-%20This%20Strange%20Effect%20-%201965%20%20ext.wav" ContentType="audio/x-wav"/>
  <Override PartName="/ppt/media/image69.jpeg" ContentType="image/jpeg"/>
  <Override PartName="/ppt/media/image71.jpeg" ContentType="image/jpeg"/>
  <Override PartName="/ppt/media/image72.jpeg" ContentType="image/jpeg"/>
  <Override PartName="/ppt/media/image106.gif" ContentType="image/gif"/>
  <Override PartName="/ppt/media/image73.jpeg" ContentType="image/jpeg"/>
  <Override PartName="/ppt/media/image74.jpeg" ContentType="image/jpeg"/>
  <Override PartName="/ppt/media/image62.jpeg" ContentType="image/jpeg"/>
  <Override PartName="/ppt/media/image79.jpeg" ContentType="image/jpeg"/>
  <Override PartName="/ppt/media/image105.gif" ContentType="image/gif"/>
  <Override PartName="/ppt/media/image14.jpeg" ContentType="image/jpeg"/>
  <Override PartName="/ppt/media/image41.jpeg" ContentType="image/jpeg"/>
  <Override PartName="/ppt/media/image75.jpeg" ContentType="image/jpeg"/>
  <Override PartName="/ppt/media/image70.jpeg" ContentType="image/jpeg"/>
  <Override PartName="/ppt/media/image99.jpeg" ContentType="image/jpeg"/>
  <Override PartName="/ppt/media/image95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4.jpeg" ContentType="image/jpeg"/>
  <Override PartName="/ppt/media/image20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25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D6E-C5DD-4CFC-9A60-CF3F11AD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985-9C23-4C3C-B5B6-BC3FD8C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CB8-A65B-4BF6-AC84-BAB6FAC7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B7C-A174-4C1A-83CF-43E326CA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796-1E39-4338-A4F6-B2BD471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F08-9622-4BD3-8B60-DE3DBBB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57F-13EB-45A6-8256-16649C6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6AF-0B6D-4FD3-8D0F-6699284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DDD-D95A-4455-805C-1B012D2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D05-4FA9-45CF-BD68-BEF4D0E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82B-416A-42D0-B0D0-631B890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EC1-20C1-461B-B115-6A9630A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C8E-577F-4746-8779-7501E191C83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ave%20Berry%20-%20This%20Strange%20Effect%20-%201965%20%20ex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png"/><Relationship Id="rId3" Type="http://schemas.openxmlformats.org/officeDocument/2006/relationships/image" Target="../media/image105.gif"/><Relationship Id="rId4" Type="http://schemas.openxmlformats.org/officeDocument/2006/relationships/image" Target="../media/image105.gif"/><Relationship Id="rId5" Type="http://schemas.openxmlformats.org/officeDocument/2006/relationships/image" Target="../media/image106.gif"/><Relationship Id="rId6" Type="http://schemas.openxmlformats.org/officeDocument/2006/relationships/image" Target="../media/image10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3865680" cy="5805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017960" cy="580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8520" y="6021360"/>
            <a:ext cx="42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Berry - This Strange Effect – 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ors - People are strange -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  <p:sndAc>
      <p:stSnd>
        <p:snd r:embed="rId3" name="Dave%20Berry%20-%20This%20Strange%20Effect%20-%201965%20%20ex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586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375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7174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68960" cy="7245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95636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5636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98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44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57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5292720" cy="40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2781360"/>
            <a:ext cx="3851280" cy="4076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62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27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284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-243000"/>
            <a:ext cx="5613120" cy="7101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022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592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45440" y="623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55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849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420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788000" cy="621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572000" cy="6218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57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414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4000" y="630864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b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423040" cy="7245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27880" cy="7174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8:13:59Z</dcterms:created>
  <dc:creator>www.free-powerpoints.goedbegin.be</dc:creator>
  <dc:description/>
  <dc:language>en-US</dc:language>
  <cp:lastModifiedBy>Smets</cp:lastModifiedBy>
  <dcterms:modified xsi:type="dcterms:W3CDTF">2010-02-22T20:45:44Z</dcterms:modified>
  <cp:revision>9</cp:revision>
  <dc:subject/>
  <dc:title/>
</cp:coreProperties>
</file>