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E81-5EE8-4B4D-B5A3-F2F3F63E9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F36F-F175-45A2-8210-B5C13055B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A01B-0869-43B2-991D-3B9456AD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28BE-810A-451A-85CA-56A5DB7F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FC41-5E70-4E31-840D-829191C2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A647A3-59CC-424E-B130-CD1ACF67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8B0E8D-0F0C-4E1E-82AF-5D8B24BD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AB501-4AF8-418F-ABC1-D9B0EDEA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CEE71-16F3-4B93-A939-7595DA7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1CC24E-1C10-4AC0-BF3D-B15CF7B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2AA84-F1AF-4606-9551-15F496B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BC94A-8DDC-4977-8574-09B6C0C8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63BDB-1D21-45DC-B3A1-713A6CED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B30795-92E4-4223-9764-B03ABF0A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3DE390-D6E7-42D8-B2AA-A632F71C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234E-EDB1-4276-A785-C8C4D932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F9B9E4-431B-463C-9D1B-2238108F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1C25A-14E3-4FB4-9704-A95D9463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A9A2E-8ADF-4A31-B02B-1C33DA38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96537-C795-4FE9-A5BE-7BBBDE76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FB65CE-C27E-4171-BB17-8F4FE575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71844-2A2D-4D72-882A-8FAC1B2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8F094-FA1A-4763-8E8F-787B3541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706B6D-3B1F-4DC7-8298-31D7E60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769E10-1646-42DF-8776-2D53806F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FA3971-671F-40F6-938B-EF81B1FA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1294-4BC6-4367-82E4-5DB0C7BD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41EE0-2976-4F2D-B626-45B79C04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F069AE-3AE3-46D5-818A-D9C8A284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487E94-C10C-4A6C-8E11-0FFF8FC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49C7A6-510F-4355-82B2-A2CA7417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E3DABB-3748-4ED0-88B0-F981DBCD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E4427A-E2E8-4B7B-AFB9-D59D05C7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C8A2C4-9D05-46B1-9141-149DCB7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8F2F7-140D-4A47-B8EF-C7CCE0D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6A98D-0355-4899-933A-5E03BFD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3A3705-DC2A-4B8F-8ED3-B4A21CE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4EE2F-4784-48C6-B578-2CDC04D0CA8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1C01F6-7BAF-4914-8727-DD81536F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F5CAF3-7C1D-489E-BAD3-77C88C80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1BACF0-C264-4BFB-973D-5B0A5BD2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6DB17F-AE49-4BD1-BB5E-A81A6C74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051A7E-C160-496F-A0F3-AEAD465B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860FC5-16AB-4166-BF3B-E8EFE588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6D6682-F693-4AF0-80A2-3D7B2239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F00693-826D-463C-AC68-9985B1F8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897A4E-3D71-477C-965C-1524B56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AF69DA-5A4E-4867-8E54-399C8CD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E06D-0B98-441B-BDFB-CF19E56512F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E10756-3FAE-470F-B4B2-C908412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2A8FCF-E241-4C3A-BC3B-6EB8201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44E45-DDF5-4692-9578-727751F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CD5466-FF3E-4597-824D-1DF2DCBF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E04801-D171-4F20-8308-1635AD41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30E5E-750B-43C2-92AA-32D009B04C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8AFDE-CD65-4C64-855C-D39393EA1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BD3AF-4DEF-464D-AE59-88C06FE95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6D625-D5A6-4F5B-86B0-121A982BCE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FB99B-416F-463A-8B66-650682C3D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87E1-555F-4DDF-95B1-99AFBD1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A6897-0147-40E6-9CD3-D4628AEBF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C03EF-6099-454D-9B38-133745943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ACF9F-6FE8-47B0-A5C7-F034D8C357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1B32C-E442-4634-9A14-FEF7ADD833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C48DA-3E64-4FA8-B571-8AF8BD9806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BDC36-AC64-4FD5-98B5-60A7940711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D0A8E-062F-4525-AE7A-1D7C2B32F6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CF50F-6A7E-4E21-8C69-52DC090054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3074B-06DD-4262-9B76-7BCCE1252C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965E7-4199-4E61-BEB5-D0A1FC47D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61A3-E2B4-4019-B597-98225E0F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F9D4E-1E77-402A-BD54-D0A2417D96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8D996-D23F-43FD-9B2B-A0C11BC5CE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774DC-7B63-4228-A69F-562ABF2AC2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EA4B9-56CA-403F-80DD-5EF9A0F2D3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A6C63-607C-40A3-B527-B076B58AE7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78C05-AA3C-438E-B067-3F6C6001EF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097FC6-B6C8-496B-82C3-8EBFF533BB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9506-7E4C-46CD-A89D-5D4179F81F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967D-93DF-435D-9010-63B7F609EB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2264-1AF0-4DD0-BF50-825333E50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E464-A49E-4DD7-8AE9-3BC7FEA1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B8D4-AF5C-4623-9CDA-0C3EEB71D6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FECD-4148-4B79-9BF8-17DE53D25F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CBE3-BF01-44B1-94A0-09712937AD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BB6E-F83E-45F7-AE9D-11AC57B7A8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6D35-3ACD-4C29-8723-723F41A7C8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7435-FE6D-4AF8-8BD6-1852CF4B86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10CE-43F5-4DF1-AB4B-A54A71C800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70BE-5143-4F69-A2D4-52A8411E41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F88B-66A8-49B9-8E58-456A6AE57A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4AE8F-817F-4528-ACF5-187BFE1EE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6C88-F3C6-4A4F-82A9-B33E662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70F28-85D3-48FD-BF46-F64FF4E68D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7055F-0C3F-4D81-9CF5-653DA6C782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8C845-95AC-485E-8EF6-399C4FDB96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B1529-2E88-4F9A-8719-584FE125F2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198DC-2511-4923-A087-90FDFFF0C4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6A7F0-0FE5-4C82-AF06-F617BF2335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2A4AD-093F-43F1-A289-53069F0B2E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19C3B-E934-401F-966D-5C5F72C076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CCC9E-B6AD-49B8-9156-5428790D20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3CFF1-5B85-42DA-8132-FC028F2DD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BB7E-7A7B-490E-A2E9-A6132FB6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5BDB4-3516-4709-932C-7E7BD872D3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C78C4-6A8C-451E-A6F1-A942A413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360D0-2785-49C2-A942-E9447DF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877AC-940A-42D3-8F08-4589F111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2F73C-C02E-4867-B1DB-56C1B3E8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2B1C5-8E99-4DF3-BF48-752E0A7D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16788-196E-43CC-A19F-25064E33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632EC-B6B6-4ECE-92BA-94A1593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38279-720A-49ED-955A-E2AFBEB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0AF96-70FB-4EE0-834F-75F5B92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A196-5429-4853-9381-AB6E3628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B92DC-756C-4218-BA32-C4A8BBF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42F2C-85A7-43BB-B06A-C9D2841F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CE65C-9A41-4694-AC4A-496DAA2F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43AA8-CA05-47FC-96A4-D9B2CCEA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C9A2D-0BDD-4AC4-97CA-1E0AAC8A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77CF6-8AE2-431C-812D-410BD57B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56EB8-1D93-4E13-A2DA-39A3C80E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BB105-33D9-4BA5-B284-AB775726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52C6A-5ABE-4EFD-A021-85F0CD0C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F36B5-B94D-4209-B224-CE4AE2A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0FC5-9D0F-4952-9E41-E4A05D8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5FF04-655E-49EC-B6E3-5E640C6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E0FF2-AB73-4BAB-84C9-6EA92B2C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71DFB-68CF-411D-916D-33F06418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53391-50D6-4D48-8781-390DC798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D644C-F80F-4BFE-8678-B0A5598C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0B5AD-90A3-433A-A012-5AB8FFEF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A6076-313D-41C7-9524-4E781F7C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04289-388B-40E8-8642-4CBF8B77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066B6-203D-461A-BB45-E3982E1D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89397-46F6-4942-BD83-7727568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7EF0-0309-46EF-AE3E-9D319FD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2DED0-4138-44A2-9950-8036B3D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4EF07-5758-4EA9-A831-8D916F7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28450-B639-41C6-80D6-6F8867B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8474A-68B6-4464-A274-707DF6D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14B27-1641-445B-8DC1-8A15C669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19CF0-C9E1-4F56-86CC-CFA2B8BE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27FD4-29BF-41BF-A775-127C3DCB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4B30B-8464-464D-9E01-830BE86C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CBC25-BDB4-44C2-8CC6-E219B2F5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79882-0CE5-4EA3-BC81-43C7CD3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60D6-2B4A-49C0-96A2-45C46FBE0BE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www.DuaKhalifah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75C-F3F9-4B04-983C-6CA243F1FC6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814E-C607-4C85-83B3-D01B1F7507E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C42-829D-4C35-ADF9-C1B7B7C2DD0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www.DuaKhalifah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39C-066E-4918-A785-593E28BE00B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864-D935-4534-8E30-1C88007FCD8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www.DuaKhalifah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31A-5078-4A04-BAB4-76975074DE5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8F83-6EF5-48EB-A435-5C7291E0616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8D6B-DDAD-4D1D-873B-02EADC4772B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739C-9B33-44DA-BF27-2049D6C26E3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4B9-50CF-4E17-BD34-C5279865708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C862-2AC5-43C0-9CDC-17ADBEB7511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uakhalifah.net/" TargetMode="External"/><Relationship Id="rId2" Type="http://schemas.openxmlformats.org/officeDocument/2006/relationships/hyperlink" Target="mailto:kakmuma01@gmail.com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Calibri"/>
              </a:rPr>
              <a:t>MENJEMPUT KEMENANG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40080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Umarulfaruq Abuba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88B7-86A3-49D3-874A-6B47407B781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TAHUN KEMENANGAN UMAT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707760" y="1413000"/>
            <a:ext cx="3429720" cy="18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33399"/>
                </a:solidFill>
                <a:latin typeface="Arial"/>
              </a:rPr>
              <a:t>2018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Group 4" descr=""/>
          <p:cNvPicPr/>
          <p:nvPr/>
        </p:nvPicPr>
        <p:blipFill>
          <a:blip r:embed="rId1"/>
          <a:stretch/>
        </p:blipFill>
        <p:spPr>
          <a:xfrm>
            <a:off x="396720" y="3645000"/>
            <a:ext cx="8350560" cy="6588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81"/>
          <p:cNvSpPr/>
          <p:nvPr/>
        </p:nvSpPr>
        <p:spPr>
          <a:xfrm>
            <a:off x="860400" y="4707000"/>
            <a:ext cx="18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Islam itu Sempu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2"/>
          <p:cNvSpPr/>
          <p:nvPr/>
        </p:nvSpPr>
        <p:spPr>
          <a:xfrm>
            <a:off x="719280" y="4005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Bangga Sebagai 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4"/>
          <p:cNvSpPr/>
          <p:nvPr/>
        </p:nvSpPr>
        <p:spPr>
          <a:xfrm>
            <a:off x="6407280" y="4849920"/>
            <a:ext cx="187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Allah Akan menolong orang yang menolong agama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5"/>
          <p:cNvSpPr/>
          <p:nvPr/>
        </p:nvSpPr>
        <p:spPr>
          <a:xfrm>
            <a:off x="6265800" y="4005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akin Dengan Pertolongan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7"/>
          <p:cNvSpPr/>
          <p:nvPr/>
        </p:nvSpPr>
        <p:spPr>
          <a:xfrm>
            <a:off x="3633840" y="4778280"/>
            <a:ext cx="187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Semua Orang Perlu Tau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8"/>
          <p:cNvSpPr/>
          <p:nvPr/>
        </p:nvSpPr>
        <p:spPr>
          <a:xfrm>
            <a:off x="3492360" y="4005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Mendakwahkan I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4655880" y="1422360"/>
            <a:ext cx="3429720" cy="18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33399"/>
                </a:solidFill>
                <a:latin typeface="Arial"/>
              </a:rPr>
              <a:t>2019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143d68"/>
                </a:solidFill>
                <a:latin typeface="Arial"/>
              </a:rPr>
              <a:t>MENJEMPUT KEMENAN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43d68"/>
                </a:solidFill>
                <a:latin typeface="Arial"/>
              </a:rPr>
              <a:t>Memahami Syarat-syarat Kemenang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43d68"/>
                </a:solidFill>
                <a:latin typeface="Arial"/>
              </a:rPr>
              <a:t>Mengamalkan Sebab-sebab Kemenang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1ABD-70F9-413E-B2EE-121C59D95ED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شروط التمكي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أول: الإيمان بالله والعمل الصال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ني: تحقيق العباد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لث: محاربة الشر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رابع: تقوى الل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C2BE-784C-42B2-85AA-A0B15F9F143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أسباب التمكي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أول: سنة الأخذ بالأسباب وإرشاد القرآن للإعدا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ني: الأسباب المعنو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لث:الأسباب الماد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ED5-25FC-45AE-8152-6AAC1163963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arulfaruq Abubak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: 0812 86 68 89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uakhalifah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kmuma01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: @kakm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gram: @kakm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: @kakm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143d68"/>
                </a:solidFill>
                <a:latin typeface="Calibri"/>
              </a:rPr>
              <a:t>Perangkat Kemenan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48436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143d68"/>
                </a:solidFill>
                <a:latin typeface="Arial"/>
              </a:rPr>
              <a:t>العزة بالإ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143d68"/>
                </a:solidFill>
                <a:latin typeface="Arial"/>
              </a:rPr>
              <a:t>الدعوة إلى الإ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143d68"/>
                </a:solidFill>
                <a:latin typeface="Arial"/>
              </a:rPr>
              <a:t>اليقين بنصرة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606-9E31-45C3-80B2-6C34FFE6644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CINTA AGAMA CINTA TANAH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Pancasila adalah pilihan nilai dan falsafah bangsa Indonesia, maka agama adalah kumpulan nilai-nilai luhur dalam kehidupan manusia, termasuk di dalamnya nilai nilai yang terdapat dalam Panca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negara adalah institusi resmi yang berperan membangun “badannya”, maka agama adalah perangkat  kehidupan untuk membangun “jiwanya.” Kedua-duanya harus bersinergi untuk menuju Indonesia Ra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DA3D-783F-48CB-89CB-54D3959CE9A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39640" y="234900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143d6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Tiga bukti realitas bahwa ruh keislaman semakin menguatkan rasa nasionalisme dalam kehidupan bangsa indonesia, yaitu:</a:t>
            </a:r>
            <a:br>
              <a:rPr sz="3200"/>
            </a:b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sejarah bangsa, </a:t>
            </a:r>
            <a:br>
              <a:rPr sz="3200"/>
            </a:b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2. fakta sosial budaya, </a:t>
            </a:r>
            <a:br>
              <a:rPr sz="3200"/>
            </a:b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3. nilai universal Isl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201D-C311-4995-9A72-9A54888CF8B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NASIONALISM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ng Kemerdek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ng Ternate (1635-1646), Perang Makassar (1660-1669), Perang Trunojoyo (1675-1679), Perang Banten (1680-1682), Perang Cirebon (1802-1806), Perang Palembang (1812-1816), Perang Paderi (1821-1838), Perang Diponegoro (1825-1830), Perang Banjarmasin (1859-1862), dan Perang Aceh (1872-190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5361-B34F-4C73-97CC-6122E26892D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NASIONALISM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kan Pendidi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dhatul Ulama (NU) yang bergerak dalam bidang pendidikan, terutama pendidikan pesantren, Muhammadiyah yang bergerak bidang sosial dan pendid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kan Sosial, Ekonomi, Poli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rekat Is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7000-BBAE-422F-A9E0-FDDFFB672BD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NASIONALISM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kan Sos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dhatul Ulama (NU) yang bergerak dalam bidang pendidikan, terutama pendidikan pesantr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iyah yang bergerak bidang sosial dan pendidik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A194-FFF7-4962-914C-0B93D6CA8B0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2. KULTUR BUDA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ukum ngon adat hantom cre, lagee zat ngon sipeut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ukum Islam dan adat tidak mungkin dipisahkan, sebab hubungannya sangat kuat seperti hubungan benda dengan sifatn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t dan syara’ sanda menyanda, syara’ mengato adat memakai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dat dan syariat saling mendukung, syariat memerintah adat melaksana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adati hula-hula’a to Syara’a. Syara’a hula-hula’a to Kitabullah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dat bersendikan syariat. Syariat bersendikan Kitabulla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0986-18FD-4F1A-86D5-6A47C726027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3. NILAI UNIVERSAL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dalah agama yang humanis. Nilai-nilai kemanusiaan menemukan muaranya di sini. Bahkan nilai-nilai kemanusian itu diformulasikan dalam ajaran Islam kepada bentuknya yang paling luhur, dan menjadi sebuah kewajiban yang harus diamalkan secar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aff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iap pemelukny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602B-9E2C-4D51-AAB4-EF40B6AC6A3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7:35:57Z</dcterms:created>
  <dc:creator>Ric</dc:creator>
  <dc:description/>
  <dc:language>en-US</dc:language>
  <cp:lastModifiedBy>Windows User</cp:lastModifiedBy>
  <dcterms:modified xsi:type="dcterms:W3CDTF">2018-11-16T02:49:07Z</dcterms:modified>
  <cp:revision>17</cp:revision>
  <dc:subject/>
  <dc:title>PRESENTATION  NAME</dc:title>
</cp:coreProperties>
</file>