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0D00-5E3F-400A-B7BF-53243D5D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F4EC-17CB-4EAF-B1E2-AE79178F8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D13C-896D-4A3A-83C1-37E64ECB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1BD9A-092D-49E6-BD69-2E01C9A7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7F9E-28C4-408C-BFEE-76CFFD8E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2D59E9-F66C-4CE1-88B7-B7D31D06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5FCAE1-240E-4774-895D-B2C1D517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18F8F3-118A-4877-8175-C5BA4538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A1CBC0-3F96-47D2-81EE-DACCD38C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747F95-700D-49FF-84CA-41055BB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2EFB18-8EBD-4286-8063-D095BFC8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47C573-117C-4110-8B78-C4E695C1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E4EF21-29F3-415B-AD4C-71E61FD6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63FB17-D821-43C2-84B5-0ABB481D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5A03AE-E6F8-4DBD-A36B-870ED20DC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A8A9-1DB3-4F4B-9463-1D153789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60AAF-8868-49B1-8AA2-5A5E004B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58FFC1-1C48-42C8-80C3-8672250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082ADC-48EC-4E16-88A6-58C47C3A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D79B0E-B48B-44B9-B428-9787E6E0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4F3BA1-7034-4E9B-884D-2CB28B95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95469-DE73-4836-B71A-C125A19A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EBED9-3E18-45BB-A4B9-20022CA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D5352-1B01-454D-9FAE-9EEFA04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28F23-D1EE-4CAE-BE6C-68593321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7649C7-EC4C-4EC3-AE38-6B2A9C73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11B87-4177-4727-9417-B2C48F1B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32075C-6AC2-4537-AED7-F2161715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DD56D4-91E1-4782-932A-37B0CEC9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CBA7B-660D-4156-BDCD-2C6FD5BB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A92C81-D533-447B-A572-F84809B4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2D6E6A-1D83-44C9-BC92-E758E480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3BD6F5-2D7E-4015-8152-FA49ED9E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D91976-D678-4774-B0C6-5CEA5A7F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41987A-8E68-4CDB-AE53-1B9E0436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A13EC1-620D-46A7-9D15-5724E6E0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3350D9-8670-4673-8738-74DFFEA8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F163F-72E3-4780-A1D4-D3BB47E1AE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FF09C2-BDCA-4112-A352-CD399E86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89867-338E-4A7E-8CCD-CD10CE1E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4C1F31-6462-433F-9FE1-59C92D18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1A0CF9-516D-4FD8-93F3-04B51D0B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6EF250-C0AD-4D59-905B-1692EB88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EEECFE-5A09-47BB-80A0-9988B832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C8FAA4-AB7A-4AD1-ABA4-FCCB9247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ECF589-26FB-4EA0-ADF2-6B16799B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E00E5F4-E558-46D9-8565-E1C132A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99A6ED1-48F6-4880-A5B8-FBE05FA3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84C73-9AF0-4B50-93AE-0ED4CB01C3E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02AD56-B486-44A3-8E70-BD81E4A3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EFD976-6BA4-4840-8BB9-D17508E5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4B42F6-06F7-47C2-8634-07C93F5E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A18251-7038-400E-92BA-453279F8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CD71EC-E9A5-4A42-810B-ECAC30971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B7DBD-CB7F-42AB-979C-ACB0386DB0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EF404-68B8-4E75-960A-B2C909735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0BD0A-C8EC-4D9F-A6F3-274373B591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7F552-CE16-41D0-A0EF-516EAAE8D3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6F27A-D69B-4F7F-AF08-B94D7662E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80D1D-44E8-498D-8049-996D929D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7B93D-6371-41D3-AB50-AEEF7088B7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F935-302D-4226-8425-2C8A09AD8A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970DF-459F-4114-B481-8BE5660B64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CC986-F77B-4F89-9CED-D43875B858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7C8AD-E5E7-46FB-8AE1-7BA838F205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00CE6-8EC7-4E1D-A39E-F479B199CD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A5B73B-3C01-4512-B858-B85A5EAF03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A170B-FFC3-4B76-8D6E-28DE60F117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A30DE-D0B4-4959-8CDB-42C68C0E47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7466E-3323-4A06-94EC-EBAE8D846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2FD2-6F3D-4657-B2E5-382B932E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CCC7F-6A81-4BCA-AF18-47878384291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6B1B1-FEB8-474B-8863-4B77E6E75BB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54C3D-F8AF-41E8-9284-0B479D843A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CE9AD-0F14-4650-BC9C-1220783153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D088B-E6F9-465A-956E-04C7B84CC8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C887C0-B022-4C46-B28A-FFB72424FB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418DBB-C4A5-40AD-8261-160EFE27E1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A1A8F-CC84-489E-ABB2-4E39FCCD82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2B802-11A8-4B68-BF68-B9CE05D8FE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EA90F-8ABB-46CF-A6E9-CEA810124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37C0-2D6E-4E9D-AF3C-59C06D35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9089-5869-4A6D-BA22-24B45A93CC4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2AAC6-70FE-43BF-B6F6-CB7845B180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D9D9-DC62-485D-BA3C-5EF7584FC3D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C0331-4071-4550-9513-38DCCCBC86E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4347C-1AA2-4380-AE72-62ED66ED4F3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3BFA-86A0-4DC3-AF3D-1EF128A480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07FF7-94D6-4397-92F2-86F735E0EB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C9591-FFDC-4682-B920-5F3373A6E3A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0AAA8-41D5-440F-8962-E80823D515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3FDDD-ED8D-4757-B6F3-7D5365507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EACC-767D-4105-95E9-07D6F479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FD118F-4200-43C2-B247-F353E3BAC8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6E2A50-F0C6-4D87-98B2-BB72FDBEAAD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2DD575-BB19-42D3-9891-FC1BBEFC8D3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6F0FEF-C2E0-4133-998D-717531D52E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AD3CAA-7741-4794-88A4-01483C4D97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11462-D586-4FE5-BD75-59C71459641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6C9A1-9B38-47D9-896F-5E7DD8D7FF8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C562B-3150-4545-87FE-ADFF0976BD6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215CE-9A49-45AE-AF7E-96BB54DA11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293F3B-15F4-4FC0-A3DA-0017456D4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C19F-B3FA-464B-A67C-ABE60077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ADFC3-371D-41D5-8C6D-406E824A9EB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DD0FA-4297-46F5-9137-C23B44DF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17FA04-685D-4E6B-B606-0AD192F8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49841F-F99C-40F7-83F5-874EC0A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D17A4-AF6B-4131-A282-91B427B1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D395D1-B090-4EC7-894A-A17DFF83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9DCBC-64F9-408D-8195-E5C3F54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EFF89-3FF1-43A5-83D7-55EDFA86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3C42F-553C-4FF8-8BD7-E38D13CE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1D7CC-779F-40D8-9F49-5117BBD9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CB16-C32A-4DF8-A1DF-C0EB7DE7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6D4EB-0DA7-42A0-B3E2-FBE13DA2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B5CFAC-F64C-4A28-8B0F-9070A63E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7A927-3EE7-4065-9F50-BCB12D62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50679-A8C3-4E77-B5B6-E492756C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B49ED3-9ABB-46D5-9B92-0B20B4DE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ED79C8-F2BF-41AD-A22B-D4FE582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093714-F17E-4B57-AF38-1C924863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3D0302-7295-401A-9E2F-DEB5B771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61DCA-E601-41F9-B312-0C0B1BE3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79D20-6718-4DBB-B709-30A7ED98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B915-6393-40AF-8D25-0B2ECA63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48DF0-5B91-40C6-801D-33C82281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F99BB0-0589-4512-8B90-100A6BC4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08F44-B122-4371-A093-07CA7420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78398-8962-42A7-9D6F-4AD9D93A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28389D-E786-46FA-A449-B3CB1CBA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C97EEC-56DD-40A2-8C64-1BF7BFF2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97748-9E5B-45BE-9261-F9F9CBFD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230E6-F3E5-4686-82F0-29221C02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3BA6A2-F9C9-4E82-AF28-E3A0E5D3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600F8D-285D-404F-9EDF-60AAA08C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C299-59DD-48E2-82B1-FB35F964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2525F-CDF7-4648-9331-D3874C9EB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37A14E-56E7-466F-8D80-E364C22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B42422-F1D6-45F7-951D-02B49520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58CAD8-C71B-4CDF-B330-64FE332D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1CEFD0-BE6E-4B43-A599-B3BE69C2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CC75A8-4B56-4474-9265-E9A88279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EBA4A-D8A3-48AC-B741-8F424F8F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CA15F0-E62E-4631-BE53-B25DE0F4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57E013-55D4-42BD-946A-6C191C5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F0A1E-442A-4494-AE8C-68FF288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413F-7BA3-4D22-AE5C-5E3CD70CAD96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E3B9-4064-40BE-B64A-96DAE8308C0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FB44-6310-433D-9B74-8FFCD75BC5F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C06-8B7B-407D-BCE3-5EEE7FF37E09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E382-F557-4D4E-81DF-F884AD1DD375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8478-6121-4725-951B-BAC7CEEDD63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www.DuaKhalifah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C53-E724-4A62-BC75-3B6D7192355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4BFE-3C37-493B-BC28-80B457D5E86A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9F0-959F-4F14-A0CA-AF01F1A8236C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7793-AC24-4C7A-829B-82E1E8176198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2657-8D6D-4F52-867E-F976F47AEBE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6BB2-5803-4E71-A012-6414253BA511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uakhalifah.net/" TargetMode="External"/><Relationship Id="rId2" Type="http://schemas.openxmlformats.org/officeDocument/2006/relationships/hyperlink" Target="mailto:kakmuma01@gmail.com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0560" y="15570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ffff"/>
                </a:solidFill>
                <a:latin typeface="Calibri"/>
              </a:rPr>
              <a:t>MENJEMPUT KEMENANG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32000" y="3357360"/>
            <a:ext cx="640080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Umarulfaruq Abubak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08A-D3B4-4069-8B7D-438ADDAF7F7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Arial"/>
              </a:rPr>
              <a:t>TAHUN KEMENANGAN UMAT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10"/>
          <p:cNvSpPr/>
          <p:nvPr/>
        </p:nvSpPr>
        <p:spPr>
          <a:xfrm>
            <a:off x="707760" y="1413000"/>
            <a:ext cx="3429720" cy="18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33399"/>
                </a:solidFill>
                <a:latin typeface="Arial"/>
              </a:rPr>
              <a:t>2018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Group 4" descr=""/>
          <p:cNvPicPr/>
          <p:nvPr/>
        </p:nvPicPr>
        <p:blipFill>
          <a:blip r:embed="rId1"/>
          <a:stretch/>
        </p:blipFill>
        <p:spPr>
          <a:xfrm>
            <a:off x="396720" y="3645000"/>
            <a:ext cx="8350560" cy="65880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81"/>
          <p:cNvSpPr/>
          <p:nvPr/>
        </p:nvSpPr>
        <p:spPr>
          <a:xfrm>
            <a:off x="860400" y="4707000"/>
            <a:ext cx="18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Islam itu Sempu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2"/>
          <p:cNvSpPr/>
          <p:nvPr/>
        </p:nvSpPr>
        <p:spPr>
          <a:xfrm>
            <a:off x="719280" y="4005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Bangga Sebagai Musl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4"/>
          <p:cNvSpPr/>
          <p:nvPr/>
        </p:nvSpPr>
        <p:spPr>
          <a:xfrm>
            <a:off x="6407280" y="4849920"/>
            <a:ext cx="1876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Allah Akan menolong orang yang menolong agamany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5"/>
          <p:cNvSpPr/>
          <p:nvPr/>
        </p:nvSpPr>
        <p:spPr>
          <a:xfrm>
            <a:off x="6265800" y="4005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Yakin Dengan Pertolongan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7"/>
          <p:cNvSpPr/>
          <p:nvPr/>
        </p:nvSpPr>
        <p:spPr>
          <a:xfrm>
            <a:off x="3633840" y="4778280"/>
            <a:ext cx="187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</a:rPr>
              <a:t>Semua Orang Perlu Tau Is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8"/>
          <p:cNvSpPr/>
          <p:nvPr/>
        </p:nvSpPr>
        <p:spPr>
          <a:xfrm>
            <a:off x="3492360" y="4005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000"/>
                </a:solidFill>
                <a:latin typeface="Arial"/>
              </a:rPr>
              <a:t>Mendakwahkan I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6"/>
          <p:cNvSpPr/>
          <p:nvPr/>
        </p:nvSpPr>
        <p:spPr>
          <a:xfrm>
            <a:off x="4655880" y="1422360"/>
            <a:ext cx="3429720" cy="184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33399"/>
                </a:solidFill>
                <a:latin typeface="Arial"/>
              </a:rPr>
              <a:t>2019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143d68"/>
                </a:solidFill>
                <a:latin typeface="Arial"/>
              </a:rPr>
              <a:t>MENJEMPUT KEMENA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43d68"/>
                </a:solidFill>
                <a:latin typeface="Arial"/>
              </a:rPr>
              <a:t>Memahami Syarat-syarat Kemenang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43d68"/>
                </a:solidFill>
                <a:latin typeface="Arial"/>
              </a:rPr>
              <a:t>Mengamalkan Sebab-sebab Kemenang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CC37-B712-4B63-83F6-C7290C49427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شروط التمكي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أول: الإيمان بالله والعمل الصال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ني: تحقيق العباد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لث: محاربة الشر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رابع: تقوى الل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74F2-D2CE-4CFD-8BDC-FB6D4BEA13E0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7200" spc="-1" strike="noStrike">
                <a:solidFill>
                  <a:srgbClr val="000000"/>
                </a:solidFill>
                <a:latin typeface="Arial"/>
              </a:rPr>
              <a:t>أسباب التمكي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3180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أول: سنة الأخذ بالأسباب وإرشاد القرآن للإعدا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ني: الأسباب المعنو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Arial"/>
              </a:rPr>
              <a:t>المبحث الثالث:الأسباب المادية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BE6B-0E9E-4934-9A59-302A28728DC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arulfaruq Abubak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P: 0812 86 68 89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uakhalifah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akmuma01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ebook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gram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itter: @kakmu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143d68"/>
                </a:solidFill>
                <a:latin typeface="Calibri"/>
              </a:rPr>
              <a:t>Perangkat Kemenang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48436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عزة بالإ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دعوة إلى الإ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143d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143d68"/>
                </a:solidFill>
                <a:latin typeface="Arial"/>
              </a:rPr>
              <a:t>اليقين بنصرة ال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D579-0D78-4EF9-8571-0E7F3DF5E26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CINTA AGAMA CINTA TANAH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Pancasila adalah pilihan nilai dan falsafah bangsa Indonesia, maka agama adalah kumpulan nilai-nilai luhur dalam kehidupan manusia, termasuk di dalamnya nilai nilai yang terdapat dalam Pancasi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a negara adalah institusi resmi yang berperan membangun “badannya”, maka agama adalah perangkat  kehidupan untuk membangun “jiwanya.” Kedua-duanya harus bersinergi untuk menuju Indonesia R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9433-80B8-4A15-AAFD-934F766F7F14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339640" y="234900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-457200">
              <a:lnSpc>
                <a:spcPct val="100000"/>
              </a:lnSpc>
              <a:buClr>
                <a:srgbClr val="143d6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Tiga bukti realitas bahwa ruh keislaman semakin menguatkan rasa nasionalisme dalam kehidupan bangsa indonesia, yaitu: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sejarah bangsa, 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2. fakta sosial budaya, </a:t>
            </a:r>
            <a:br>
              <a:rPr sz="3200"/>
            </a:b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3. nilai universal Isl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7B08-819A-443E-A310-DF9D50E3A85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ng Kemerdek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ang Ternate (1635-1646), Perang Makassar (1660-1669), Perang Trunojoyo (1675-1679), Perang Banten (1680-1682), Perang Cirebon (1802-1806), Perang Palembang (1812-1816), Perang Paderi (1821-1838), Perang Diponegoro (1825-1830), Perang Banjarmasin (1859-1862), dan Perang Aceh (1872-1908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CB8E-2F8A-4097-A070-F37FBF2DF805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kan Pendidi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hdhatul Ulama (NU) yang bergerak dalam bidang pendidikan, terutama pendidikan pesantren, Muhammadiyah yang bergerak bidang sosial dan pendid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kan Sosial, Ekonomi, Poli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Sarekat Isl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CA3D-3783-493D-851E-A3B7DF15BF7E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1. NASIONALISME MUSL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kan Sos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dhatul Ulama (NU) yang bergerak dalam bidang pendidikan, terutama pendidikan pesantre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hammadiyah yang bergerak bidang sosial dan pendidika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E465-C159-40A9-AA8B-40CCE7D57B1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2. KULTUR BUDA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ukum ngon adat hantom cre, lagee zat ngon sipeut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Hukum Islam dan adat tidak mungkin dipisahkan, sebab hubungannya sangat kuat seperti hubungan benda dengan sifatny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t dan syara’ sanda menyanda, syara’ mengato adat memakai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dat dan syariat saling mendukung, syariat memerintah adat melaksana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adati hula-hula’a to Syara’a. Syara’a hula-hula’a to Kitabullah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dat bersendikan syariat. Syariat bersendikan Kitabulla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BF6E-3AC5-4DB7-B920-5713AB36E348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400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3d68"/>
                </a:solidFill>
                <a:latin typeface="Calibri"/>
              </a:rPr>
              <a:t>3. NILAI UNIVERSAL ISL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840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dalah agama yang humanis. Nilai-nilai kemanusiaan menemukan muaranya di sini. Bahkan nilai-nilai kemanusian itu diformulasikan dalam ajaran Islam kepada bentuknya yang paling luhur, dan menjadi sebuah kewajiban yang harus diamalkan secar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aaffa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tiap pemelukny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/1/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0AEB-0E95-4FB4-BAA7-7E329F9E0C9A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7:35:57Z</dcterms:created>
  <dc:creator>Ric</dc:creator>
  <dc:description/>
  <dc:language>en-US</dc:language>
  <cp:lastModifiedBy>Windows User</cp:lastModifiedBy>
  <dcterms:modified xsi:type="dcterms:W3CDTF">2018-11-16T02:49:07Z</dcterms:modified>
  <cp:revision>17</cp:revision>
  <dc:subject/>
  <dc:title>PRESENTATION  NAME</dc:title>
</cp:coreProperties>
</file>