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push.wav" ContentType="audio/x-wav"/>
  <Override PartName="/ppt/media/oohlala.wav" ContentType="audio/x-wav"/>
  <Override PartName="/ppt/media/image11.png" ContentType="image/png"/>
  <Override PartName="/ppt/media/image4.jpeg" ContentType="image/jpeg"/>
  <Override PartName="/ppt/media/suction.wav" ContentType="audio/x-wav"/>
  <Override PartName="/ppt/media/image25.jpeg" ContentType="image/jpeg"/>
  <Override PartName="/ppt/media/image8.gif" ContentType="image/gif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breeze.wav" ContentType="audio/x-wav"/>
  <Override PartName="/ppt/media/image6.jpeg" ContentType="image/jpeg"/>
  <Override PartName="/ppt/media/image1.jpeg" ContentType="image/jpeg"/>
  <Override PartName="/ppt/media/image10.png" ContentType="image/png"/>
  <Override PartName="/ppt/media/image7.gif" ContentType="image/gif"/>
  <Override PartName="/ppt/media/image24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explode.wav" ContentType="audio/x-wav"/>
  <Override PartName="/ppt/media/image23.jpeg" ContentType="image/jpeg"/>
  <Override PartName="/ppt/media/image12.png" ContentType="image/png"/>
  <Override PartName="/ppt/media/image20.jpeg" ContentType="image/jpeg"/>
  <Override PartName="/ppt/media/click.wav" ContentType="audio/x-wav"/>
  <Override PartName="/ppt/media/ui5.wav" ContentType="audio/x-wav"/>
  <Override PartName="/ppt/media/image19.jpeg" ContentType="image/jpeg"/>
  <Override PartName="/ppt/media/image2.gif" ContentType="image/gif"/>
  <Override PartName="/ppt/media/image13.jpeg" ContentType="image/jpeg"/>
  <Override PartName="/ppt/media/image16.jpeg" ContentType="image/jpeg"/>
  <Override PartName="/ppt/media/image17.jpeg" ContentType="image/jpeg"/>
  <Override PartName="/ppt/media/laserschus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A14-E3E8-4F7D-BDA9-F6A5C06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1DF-5C84-406A-98F1-50B621C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E02-D9AD-4C74-92EC-D1FBCE8A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794-E813-46FB-9277-2558A1B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9BC-C6DE-422F-BF45-B70D3219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DDD-7BB2-496F-BD0D-C9C70B60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128-7048-4BCD-BD61-0A59FFA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32B-2E2E-4303-A4B2-44CC960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E33-66E8-4A0C-B7CC-0761F5D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505-7F86-4CDA-9159-B580D53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DDD-5081-4C2C-B035-FE85041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3B8-EC3F-4B3E-9A78-DD63D47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C83F-FFDC-4E40-B4E4-F75F3197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oohlal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push.wav"/><Relationship Id="rId4" Type="http://schemas.openxmlformats.org/officeDocument/2006/relationships/audio" Target="../media/laserschus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ui5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ui5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 grapjes (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ush op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-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SE.pp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oed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1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Een „berensterke“ week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223200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2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Maanda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ebben we haastig weggelaten, wegens niet aan te z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 u="sng">
                <a:solidFill>
                  <a:srgbClr val="333399"/>
                </a:solidFill>
                <a:uFillTx/>
                <a:latin typeface="Comic Sans MS"/>
              </a:rPr>
              <a:t>Dins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... Langzaam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05320" y="3886200"/>
            <a:ext cx="221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Woens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.. Nu niet haasten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3886200"/>
            <a:ext cx="23619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Donder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ngzaam wordt het b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8921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Vrij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 eindsprint naar het weekend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28456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59640" y="6093000"/>
            <a:ext cx="2303280" cy="576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sekuh0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2514600" cy="2819160"/>
          </a:xfrm>
          <a:prstGeom prst="rect">
            <a:avLst/>
          </a:prstGeom>
          <a:ln w="0">
            <a:noFill/>
          </a:ln>
        </p:spPr>
      </p:pic>
      <p:pic>
        <p:nvPicPr>
          <p:cNvPr id="104" name="bsekuh1" descr=""/>
          <p:cNvPicPr/>
          <p:nvPr/>
        </p:nvPicPr>
        <p:blipFill>
          <a:blip r:embed="rId3"/>
          <a:stretch/>
        </p:blipFill>
        <p:spPr>
          <a:xfrm>
            <a:off x="5029200" y="1447920"/>
            <a:ext cx="251460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380880"/>
            <a:ext cx="7239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Officiele bekend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990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kan u nagaan of u koe BSE heef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4267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ls ze zo klink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221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ls ze zo klink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486400"/>
            <a:ext cx="28195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... kan u gerust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Er is niets aan de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864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... kunnen wij u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anbev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56000" y="4653000"/>
          <a:ext cx="79200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46530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012000" y="4653000"/>
          <a:ext cx="79200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6530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164360" y="6308640"/>
            <a:ext cx="1798560" cy="360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484360" y="2492280"/>
            <a:ext cx="41752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reestyle Script"/>
              </a:rPr>
              <a:t>Boedda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reestyle Script"/>
              <a:ea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82720" y="1268280"/>
            <a:ext cx="3778560" cy="4830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35280" y="26028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iginee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9280" y="33336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maak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24120" y="2043000"/>
            <a:ext cx="3695760" cy="318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3640" y="4005360"/>
            <a:ext cx="216000" cy="287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oohlal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411480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eorge Bush ging eens naar een lagere school om over het gewapende konflikt in het Midden-Oosten te spreken. Na zijn toespraak was er mogelijkheid voor een vragenuurt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 Wel, wie heeft een vraag? » vroeg B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6640"/>
            <a:ext cx="2987640" cy="10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83808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h op schoolbezoek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929360" cy="418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84360" y="549360"/>
            <a:ext cx="432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rgeet al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0920" y="6021360"/>
            <a:ext cx="496908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komt 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chu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808000" cy="16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780000" y="549360"/>
            <a:ext cx="45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G BURGER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4897440" cy="3170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08000" y="2637000"/>
            <a:ext cx="53438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in in een hamburger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i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623880"/>
            <a:ext cx="7705800" cy="57722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490680"/>
            <a:ext cx="8353440" cy="5876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390920" cy="263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56000" y="3213000"/>
            <a:ext cx="394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Americ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771640" y="4724280"/>
            <a:ext cx="3524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ar ook d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i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5113440" cy="62578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explode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7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826920" y="404640"/>
            <a:ext cx="76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or mij hoeft het niet meer 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90920" y="2998800"/>
            <a:ext cx="6553080" cy="385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6012000" cy="292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en kleine jongen stak zijn hand 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Ja manneke, wat is je naa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Billy, Mijnheer d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1337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En wat is je vraag Billy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57600" y="3619440"/>
            <a:ext cx="5486400" cy="323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573360"/>
          </a:xfrm>
          <a:prstGeom prst="wedgeRectCallout">
            <a:avLst>
              <a:gd name="adj1" fmla="val -8175"/>
              <a:gd name="adj2" fmla="val 689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6440" y="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k heb er drie mijnheer de presid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5000"/>
            <a:ext cx="46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is de USA in Irak binnengedrongen, zonder de toestemming van de Verenigde Na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2) Waarom bent u president, niettegenstaande dat Al Gore méér stemmen had tijdens de verkiezing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49228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3) En wat is er met Osama Bin Laden gebeur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366696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p dat moment begon de bel te rinkelen om de speeltijd aan te kondig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341360"/>
            <a:ext cx="5029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ush zei :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Erna zullen we voortgaan met het vragenuurtje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ij zijn terugkeer n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peeltijd vroeg Bus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16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 Waar waren we 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lweer geblev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611960" cy="6148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284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h ja, bij het vragenuurt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95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s er nog iemand die een vraag heeft ?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69040" y="1905120"/>
            <a:ext cx="377496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5651640" cy="2565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en jongetje steekt zijn hand 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85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Ja manneke, hoe noem jij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teve, Mijnheer d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En welk is je vraag Ste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83400" y="2446200"/>
            <a:ext cx="3360600" cy="441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52280"/>
            <a:ext cx="4572000" cy="6324840"/>
          </a:xfrm>
          <a:prstGeom prst="wedgeRectCallout">
            <a:avLst>
              <a:gd name="adj1" fmla="val 82430"/>
              <a:gd name="adj2" fmla="val -9865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57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3) W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at is er met Osama Bin Laden gebeurd ?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n feite … heb ik vijf vragen mijnheer de president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1)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is de USA in Irak binnengedrongen, zonder de toestemming van de Verenigde Nat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52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2)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bent u president, niettegenstaande dat Al Gore méér stemmen had tijdens de verkiezing ?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5280" y="1897200"/>
            <a:ext cx="377496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4643280" cy="2997360"/>
          </a:xfrm>
          <a:prstGeom prst="wedgeRectCallout">
            <a:avLst>
              <a:gd name="adj1" fmla="val 83333"/>
              <a:gd name="adj2" fmla="val 46078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93600" y="228600"/>
            <a:ext cx="49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4) Waarom ging de bel v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e speeltijd 30 minu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té vroeg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5) Wat is er met Billy gebeu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80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21T18:45:07Z</dcterms:modified>
  <cp:revision>27</cp:revision>
  <dc:subject/>
  <dc:title>Dia 1</dc:title>
</cp:coreProperties>
</file>