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183-F335-48D5-885E-6F597882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284-B8E7-42B0-8FFF-7B69532D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7F3-2952-491D-9C8A-2E75B481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4D3-5828-44DC-A2FB-340E9F73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E77-D7B4-493F-A382-6AB2F7B3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AFC-F624-4B91-8949-C8E27FE3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71E-C0F4-409A-8E40-EA24B9F0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368-E7B2-45CE-B9D8-CAD41192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7EB-48C3-4FDE-A593-E36A67C4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0A5-4218-4386-8D03-1E724F2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FA0-9A2A-48B8-9916-3614E116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AFD-BB6A-4F45-A0A5-00AE460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F8FE-4433-4E35-A46F-907AF56583C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8.jpeg"/><Relationship Id="rId6" Type="http://schemas.openxmlformats.org/officeDocument/2006/relationships/slide" Target="slide6.xml"/><Relationship Id="rId7" Type="http://schemas.openxmlformats.org/officeDocument/2006/relationships/image" Target="../media/image9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9.jpeg"/><Relationship Id="rId10" Type="http://schemas.openxmlformats.org/officeDocument/2006/relationships/slide" Target="slide1.xm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360" y="1197000"/>
            <a:ext cx="8964720" cy="612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سجُد عند قدميك               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أقبلهم يا مليك     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أسكُب عطري ليك                       أنغام مرفوعه الي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226044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يبي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يسوع</a:t>
            </a:r>
            <a:r>
              <a:rPr b="1" lang="ar-KW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rabic Transparent"/>
              </a:rPr>
              <a:t>حبيبي يا 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60360" cy="65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1398600"/>
            <a:ext cx="8424720" cy="5121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كري مشغول بيك            وقلبي هيمان فيك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وعقلي بينسج ليك            كلمات أرفعها اليك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226044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يبي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يسوع</a:t>
            </a:r>
            <a:r>
              <a:rPr b="1" lang="ar-KW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rabic Transparent"/>
              </a:rPr>
              <a:t>حبيبي يا 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60360" cy="65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981000"/>
            <a:ext cx="7272360" cy="72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 نفسي ليك                           دي حياتي ملك إيديك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جسدي ليك                        ذبيحه مرفوعه إليك</a:t>
            </a:r>
            <a:r>
              <a:rPr b="1" lang="ar-SA" sz="7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PT Bold Heading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0360" y="2448000"/>
            <a:ext cx="212436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226044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يبي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يسوع</a:t>
            </a:r>
            <a:r>
              <a:rPr b="1" lang="ar-KW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rabic Transparent"/>
              </a:rPr>
              <a:t>حبيبي يا 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60360" cy="65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فكرى مشغول ب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بقدم نفسى 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حبيبى يا يسوع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أسجد عند قدم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13:29:02Z</dcterms:created>
  <dc:creator>Kamel</dc:creator>
  <dc:description/>
  <dc:language>en-US</dc:language>
  <cp:lastModifiedBy>Sp2</cp:lastModifiedBy>
  <dcterms:modified xsi:type="dcterms:W3CDTF">2008-07-23T21:04:42Z</dcterms:modified>
  <cp:revision>48</cp:revision>
  <dc:subject/>
  <dc:title>No Slide Title</dc:title>
</cp:coreProperties>
</file>