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A35F-F4F2-4510-9523-C03C772E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46C2-E6BB-4F3A-A084-A57423CC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CF5-D37E-4A49-8327-20BE8E93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04ED-3CEE-4D60-9496-7279BDA0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996D-FE3B-46DC-B55A-D4D21D5B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D841-F4BF-49A0-80A9-8723506B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C5FA-91D7-4B2B-9E27-DC7C0675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66FF-2626-405E-BA18-6C5CE119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2CE-726E-4023-9356-5B1E4AEB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32C6-4E8F-4F66-BA42-DAD18478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856F-372A-4EB8-8E79-75BC2DDE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D792-6753-4D4D-932E-D69F17D6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7A0E-1D87-4EDA-9B08-0A6A6A1148CF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image" Target="../media/image8.jpeg"/><Relationship Id="rId4" Type="http://schemas.openxmlformats.org/officeDocument/2006/relationships/slide" Target="slide5.xml"/><Relationship Id="rId5" Type="http://schemas.openxmlformats.org/officeDocument/2006/relationships/image" Target="../media/image8.jpeg"/><Relationship Id="rId6" Type="http://schemas.openxmlformats.org/officeDocument/2006/relationships/slide" Target="slide6.xml"/><Relationship Id="rId7" Type="http://schemas.openxmlformats.org/officeDocument/2006/relationships/image" Target="../media/image9.jpeg"/><Relationship Id="rId8" Type="http://schemas.openxmlformats.org/officeDocument/2006/relationships/hyperlink" Target="file:///../&#1601;&#1607;&#1585;&#1587;%20&#1575;&#1604;&#1578;&#1585;&#1575;&#1606;&#1610;&#1605;.pps" TargetMode="External"/><Relationship Id="rId9" Type="http://schemas.openxmlformats.org/officeDocument/2006/relationships/image" Target="../media/image9.jpeg"/><Relationship Id="rId10" Type="http://schemas.openxmlformats.org/officeDocument/2006/relationships/slide" Target="slide1.xml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360" y="1197000"/>
            <a:ext cx="8964720" cy="6126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أسجُد عند قدميك                 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أقبلهم يا مليك       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أسكُب عطري ليك                       أنغام مرفوعه الي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4000" y="2260440"/>
            <a:ext cx="73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بيبي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يسوع</a:t>
            </a:r>
            <a:r>
              <a:rPr b="1" lang="ar-KW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rabic Transparent"/>
              </a:rPr>
              <a:t>حبيبي يا يسو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2160360" cy="655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1398600"/>
            <a:ext cx="8424720" cy="5121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فكري مشغول بيك            وقلبي هيمان فيك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      وعقلي بينسج ليك            كلمات أرفعها اليك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4000" y="2260440"/>
            <a:ext cx="73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بيبي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يسوع</a:t>
            </a:r>
            <a:r>
              <a:rPr b="1" lang="ar-KW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rabic Transparent"/>
              </a:rPr>
              <a:t>حبيبي يا يسو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2160360" cy="6553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981000"/>
            <a:ext cx="7272360" cy="72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بقدم نفسي ليك                           دي حياتي ملك إيديك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</a:t>
            </a:r>
            <a:r>
              <a:rPr b="1" lang="ar-SA" sz="66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وكل جسدي ليك                        ذبيحه مرفوعه إليك</a:t>
            </a:r>
            <a:r>
              <a:rPr b="1" lang="ar-SA" sz="7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PT Bold Heading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40360" y="2448000"/>
            <a:ext cx="2124360" cy="4005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2260440"/>
            <a:ext cx="734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حبيبي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rabic Transparent"/>
              </a:rPr>
              <a:t>يا يسوع</a:t>
            </a:r>
            <a:r>
              <a:rPr b="1" lang="ar-KW" sz="7200" spc="-1" strike="noStrike">
                <a:solidFill>
                  <a:srgbClr val="ffffff"/>
                </a:solidFill>
                <a:latin typeface="Times New Roman"/>
                <a:ea typeface="Arabic Transparent"/>
              </a:rPr>
              <a:t>     </a:t>
            </a:r>
            <a:r>
              <a:rPr b="1" lang="ar-SA" sz="7200" spc="-1" strike="noStrike">
                <a:solidFill>
                  <a:srgbClr val="ffffff"/>
                </a:solidFill>
                <a:latin typeface="Tahoma"/>
                <a:cs typeface="Arabic Transparent"/>
              </a:rPr>
              <a:t>حبيبي يا يسو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2160360" cy="6553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64000" y="11592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فكرى مشغول ب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بقدم نفسى ل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6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حبيبى يا يسوع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92">
            <a:hlinkClick r:id="rId8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0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أسجد عند قدمي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8T13:29:02Z</dcterms:created>
  <dc:creator>Kamel</dc:creator>
  <dc:description/>
  <dc:language>en-US</dc:language>
  <cp:lastModifiedBy>Sp2</cp:lastModifiedBy>
  <dcterms:modified xsi:type="dcterms:W3CDTF">2008-07-23T21:04:42Z</dcterms:modified>
  <cp:revision>48</cp:revision>
  <dc:subject/>
  <dc:title>No Slide Title</dc:title>
</cp:coreProperties>
</file>