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3B6-5FF5-40FC-AD4E-1041A326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0E5-9E22-4C22-9963-9E536F4C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049-191F-48AA-A7C1-558F3D6E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D39-EE05-48B8-975C-A4FCF8ED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B21-7650-4A77-ABD9-482FD99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3FF-7E10-4890-847D-2595FA2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6DA-6BBF-42FB-BE32-7B6D66B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C5C-012B-4FDD-9DE0-EE24BB20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C40-89D1-43F5-B2C5-D4D8F581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632-A3A7-49F5-B3C4-718D828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C66-DE8D-4B3B-BC8A-8F1A689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CC4-70FC-477B-83B6-444B8B5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13EB-E93E-45E9-94A4-173556A6DB5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2T03:26:20Z</dcterms:modified>
  <cp:revision>22</cp:revision>
  <dc:subject/>
  <dc:title>슬라이드 1</dc:title>
</cp:coreProperties>
</file>