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B79-E964-40E5-B873-CCA957BF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CB6-0EC4-4C5B-A23D-F837C12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32C-7CDE-46D1-ACCD-FB6BA239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5D4-72F9-425F-9DFC-5570F54D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66D-CDA4-460F-A30C-9364D022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7F5-4697-4C91-B88F-713886B4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189-750A-404F-93C4-903645E8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D09-2076-46FF-8E6A-77149CE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481-83A2-429E-A01E-285FE291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E4E-51DD-4511-97AF-64B8078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72C-47D7-4D6E-BDAF-F012B55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F17-9D2C-4A4F-860A-F66EE3E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A41-5BDD-4F86-A8CE-9B97334B45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3:26:20Z</dcterms:modified>
  <cp:revision>22</cp:revision>
  <dc:subject/>
  <dc:title>슬라이드 1</dc:title>
</cp:coreProperties>
</file>